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F328-531D-43C4-BFF0-892841714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www.cops.usdoj.gov/" TargetMode="External"/><Relationship Id="rId2" Type="http://schemas.openxmlformats.org/officeDocument/2006/relationships/hyperlink" Target="http://www.cops.usdoj.gov/" TargetMode="External"/><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scholar.google.com/"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www.questia.com/" TargetMode="External"/><Relationship Id="rId2" Type="http://schemas.openxmlformats.org/officeDocument/2006/relationships/hyperlink" Target="http://www.ingenta.com/" TargetMode="External"/><Relationship Id="rId3" Type="http://schemas.openxmlformats.org/officeDocument/2006/relationships/hyperlink" Target="http://www.apa.org/psycinfo)" TargetMode="External"/><Relationship Id="rId4" Type="http://schemas.openxmlformats.org/officeDocument/2006/relationships/hyperlink" Target="http://www.apa.org/psycinfo)" TargetMode="External"/><Relationship Id="rId5" Type="http://schemas.openxmlformats.org/officeDocument/2006/relationships/slide" Target="../slides/slide18.xml"/><Relationship Id="rId6"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www.cops.usdoj.gov/" TargetMode="External"/><Relationship Id="rId2" Type="http://schemas.openxmlformats.org/officeDocument/2006/relationships/hyperlink" Target="http://www.communitypolicing.org/" TargetMode="External"/><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Guides are continually being produced, and are available on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Problem-Oriented Guides for Police Series </a:t>
            </a:r>
            <a:r>
              <a:rPr b="0" lang="en-US" sz="1200" spc="-1" strike="noStrike">
                <a:solidFill>
                  <a:srgbClr val="000000"/>
                </a:solidFill>
                <a:latin typeface="Arial"/>
              </a:rPr>
              <a:t>is the best place to look for background research on a variety of common crime and disorder problems.  Each guide summarizes the best available research on the causes of a particular problem, and also provides a blueprint for analyzing and responding to the problem.  Guides have been published on a wide variety of topics.  Guides are continually being produced, and are available online through the Center for Problem-Oriented Policing at </a:t>
            </a:r>
            <a:r>
              <a:rPr b="0" lang="en-US" sz="1200" spc="-1" strike="noStrike" u="sng">
                <a:solidFill>
                  <a:srgbClr val="000000"/>
                </a:solidFill>
                <a:uFillTx/>
                <a:latin typeface="Arial"/>
              </a:rPr>
              <a:t>www.popcenter.org</a:t>
            </a:r>
            <a:r>
              <a:rPr b="0" lang="en-US" sz="1200" spc="-1" strike="noStrike">
                <a:solidFill>
                  <a:srgbClr val="000000"/>
                </a:solidFill>
                <a:latin typeface="Arial"/>
              </a:rPr>
              <a:t> and the Office of Community Oriented Policing Services at </a:t>
            </a:r>
            <a:r>
              <a:rPr b="0" lang="en-US" sz="1200" spc="-1" strike="noStrike" u="sng">
                <a:solidFill>
                  <a:srgbClr val="009999"/>
                </a:solidFill>
                <a:uFillTx/>
                <a:latin typeface="Arial"/>
                <a:hlinkClick r:id="rId1"/>
              </a:rPr>
              <a:t>www.cops.usdoj.gov</a:t>
            </a:r>
            <a:r>
              <a:rPr b="0" lang="en-US" sz="1200" spc="-1" strike="noStrike" u="sng">
                <a:solidFill>
                  <a:srgbClr val="009999"/>
                </a:solidFill>
                <a:uFillTx/>
                <a:latin typeface="Arial"/>
                <a:hlinkClick r:id="rId2"/>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defined your problem clearly, you will then need to formulate a search term for use in searching online databases and website search boxes for relevant material. Make a list of words that come to mind when you think of your topic. These will be the "keywords" that you use for your search term. In doing this, think about words with similar or identical meanings. Think also about alternative spellings, especially British spellings ("behaviour" instead of "behavior," "organisation" instead of "organizatio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earch will probably be an evolving process. You may need to revise your search term as you find out more about your topic. Keep a record of your search terms (with words or phrases exactly as entered), the name of the databases that you used, and the date of your search. Don't waste time figuring out the same thing tw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search can be overly general (which results in too many hits) or overly specific (too few hits). To refine your search, you can use: (1) phrases, (2) Boolean operators, and (3) truncation symb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hrases</a:t>
            </a:r>
            <a:r>
              <a:rPr b="0" i="1" lang="en-US" sz="1200" spc="-1" strike="noStrike">
                <a:solidFill>
                  <a:srgbClr val="000000"/>
                </a:solidFill>
                <a:latin typeface="Arial"/>
              </a:rPr>
              <a:t> - </a:t>
            </a:r>
            <a:r>
              <a:rPr b="0" lang="en-US" sz="1200" spc="-1" strike="noStrike">
                <a:solidFill>
                  <a:srgbClr val="000000"/>
                </a:solidFill>
                <a:latin typeface="Arial"/>
              </a:rPr>
              <a:t>Phrase searching is searching for words adjacent to each other (e.g., automobile theft; problem oriented policing; crime prevention). Searching for phrases is a powerful technique for focusing precisely on the topic you want, because it excludes records with separated and irrelevant keywords. Not all electronic resources, however, support phrase sear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oolean operators</a:t>
            </a:r>
            <a:r>
              <a:rPr b="0" i="1" lang="en-US" sz="1200" spc="-1" strike="noStrike">
                <a:solidFill>
                  <a:srgbClr val="000000"/>
                </a:solidFill>
                <a:latin typeface="Arial"/>
              </a:rPr>
              <a:t> - </a:t>
            </a:r>
            <a:r>
              <a:rPr b="0" lang="en-US" sz="1200" spc="-1" strike="noStrike">
                <a:solidFill>
                  <a:srgbClr val="000000"/>
                </a:solidFill>
                <a:latin typeface="Arial"/>
              </a:rPr>
              <a:t>You can use AND, OR and NOT (sometimes called Boolean operators) to link your search words together (use capitals for these operators). These will help you narrow or broaden your search to retrieve the information you need quick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ND: If you have a search term that is too general, you can append several terms together using AND (e.g., police AND prevention AND burglary). By stringing key terms together, you can further define your search and reduce the number of resul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NOT: To narrow a search, you can link words together by using NOT (e.g., burglary NOT robbery). This will help you to filter out specific topics you do not wish included as part of your search.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R: To broaden a search, you can link synonyms together by using OR (e.g., cars OR automobiles OR vehicles). Linked by this operator, your words are searched simultaneously and independently of each other. When using both OR and AND in a search, use parentheses to enclose the words you are linking with OR. Examples would b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glary AND (police OR law enforcemen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juveniles OR teenagers) AND joyriding.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runcation symbols</a:t>
            </a:r>
            <a:r>
              <a:rPr b="0" i="1" lang="en-US" sz="1200" spc="-1" strike="noStrike">
                <a:solidFill>
                  <a:srgbClr val="000000"/>
                </a:solidFill>
                <a:latin typeface="Arial"/>
              </a:rPr>
              <a:t> - </a:t>
            </a:r>
            <a:r>
              <a:rPr b="0" lang="en-US" sz="1200" spc="-1" strike="noStrike">
                <a:solidFill>
                  <a:srgbClr val="000000"/>
                </a:solidFill>
                <a:latin typeface="Arial"/>
              </a:rPr>
              <a:t>Most databases allow use of a truncation symbol that is used to pick up words with variant spellings. The most commonly used symbols are * and ?. For example: burglar* will find burglar, burglars, burglary and burgla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begin to search, you may find that you are getting either too many hits (your search is too broad) or too few (your search is too narrow). In these cases you will want to broaden or narrow your 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begin to search, you may find that you are getting either too many hits (your search is too broad) or too few (your search is too narrow). In these cases you will want to broaden or narrow your searc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 R.V. and Schultze P.A (2005).  Researching a Problem.  Problem-Oriented Guides for Police. Tools Guides Series No. 2.  Washington, DC: Office of Community Oriented Policing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 for the tutorial is </a:t>
            </a:r>
            <a:r>
              <a:rPr b="1" lang="en-US" sz="1200" spc="-1" strike="noStrike">
                <a:solidFill>
                  <a:srgbClr val="000000"/>
                </a:solidFill>
                <a:latin typeface="Arial"/>
              </a:rPr>
              <a:t>http://www.ncjrs.gov/tutorial/index.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earch of websites is likely to have produced useful articles and reports that you have been able to download and read. It is also likely to have alerted you to the existence of other articles and reports that you were not able to obtain on the Internet. This is the point when you will need to visit a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you might have found very little of value or you may wish to spend just a little more time searching from your home computer or the one at work. To make the best use of your time, there are three things you might consider doing: (1) making a general search of the Internet using </a:t>
            </a:r>
            <a:r>
              <a:rPr b="0" i="1" lang="en-US" sz="1200" spc="-1" strike="noStrike">
                <a:solidFill>
                  <a:srgbClr val="000000"/>
                </a:solidFill>
                <a:latin typeface="Arial"/>
              </a:rPr>
              <a:t>Google </a:t>
            </a:r>
            <a:r>
              <a:rPr b="0" lang="en-US" sz="1200" spc="-1" strike="noStrike">
                <a:solidFill>
                  <a:srgbClr val="000000"/>
                </a:solidFill>
                <a:latin typeface="Arial"/>
              </a:rPr>
              <a:t>or similar search engine, (2) searching the online archives of some large newspapers, and (3) searching some online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oogle </a:t>
            </a:r>
            <a:r>
              <a:rPr b="0" lang="en-US" sz="1200" spc="-1" strike="noStrike">
                <a:solidFill>
                  <a:srgbClr val="000000"/>
                </a:solidFill>
                <a:latin typeface="Arial"/>
              </a:rPr>
              <a:t>is considered the premier search tool on the Internet, featuring not only the best web search engine, but also many additional features such as the ability to search .pdf files. To enter a query into </a:t>
            </a:r>
            <a:r>
              <a:rPr b="0" i="1" lang="en-US" sz="1200" spc="-1" strike="noStrike">
                <a:solidFill>
                  <a:srgbClr val="000000"/>
                </a:solidFill>
                <a:latin typeface="Arial"/>
              </a:rPr>
              <a:t>Google, </a:t>
            </a:r>
            <a:r>
              <a:rPr b="0" lang="en-US" sz="1200" spc="-1" strike="noStrike">
                <a:solidFill>
                  <a:srgbClr val="000000"/>
                </a:solidFill>
                <a:latin typeface="Arial"/>
              </a:rPr>
              <a:t>just type in a few descriptive words and hit your "enter" key (or click on the Search button) for a list of relevant web pages. These tend to be listed in order of importance as calculated by the number of links to the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s uniform resource locator (URL), which is a standard way of identifying website addresses, provides useful information about the provenance of the site and can help you evaluate the information it contains. The suffixes you are most likely to encounter are: </a:t>
            </a:r>
            <a:r>
              <a:rPr b="1" lang="en-US" sz="1200" spc="-1" strike="noStrike">
                <a:solidFill>
                  <a:srgbClr val="000000"/>
                </a:solidFill>
                <a:latin typeface="Arial"/>
              </a:rPr>
              <a:t>.edu </a:t>
            </a:r>
            <a:r>
              <a:rPr b="0" lang="en-US" sz="1200" spc="-1" strike="noStrike">
                <a:solidFill>
                  <a:srgbClr val="000000"/>
                </a:solidFill>
                <a:latin typeface="Arial"/>
              </a:rPr>
              <a:t>= American educational institution; </a:t>
            </a:r>
            <a:r>
              <a:rPr b="1" lang="en-US" sz="1200" spc="-1" strike="noStrike">
                <a:solidFill>
                  <a:srgbClr val="000000"/>
                </a:solidFill>
                <a:latin typeface="Arial"/>
              </a:rPr>
              <a:t>.org </a:t>
            </a:r>
            <a:r>
              <a:rPr b="0" lang="en-US" sz="1200" spc="-1" strike="noStrike">
                <a:solidFill>
                  <a:srgbClr val="000000"/>
                </a:solidFill>
                <a:latin typeface="Arial"/>
              </a:rPr>
              <a:t>= non-profit organization; </a:t>
            </a:r>
            <a:r>
              <a:rPr b="1" lang="en-US" sz="1200" spc="-1" strike="noStrike">
                <a:solidFill>
                  <a:srgbClr val="000000"/>
                </a:solidFill>
                <a:latin typeface="Arial"/>
              </a:rPr>
              <a:t>.gov </a:t>
            </a:r>
            <a:r>
              <a:rPr b="0" lang="en-US" sz="1200" spc="-1" strike="noStrike">
                <a:solidFill>
                  <a:srgbClr val="000000"/>
                </a:solidFill>
                <a:latin typeface="Arial"/>
              </a:rPr>
              <a:t>= organization of the American government; </a:t>
            </a:r>
            <a:r>
              <a:rPr b="1" lang="en-US" sz="1200" spc="-1" strike="noStrike">
                <a:solidFill>
                  <a:srgbClr val="000000"/>
                </a:solidFill>
                <a:latin typeface="Arial"/>
              </a:rPr>
              <a:t>.com </a:t>
            </a:r>
            <a:r>
              <a:rPr b="0" lang="en-US" sz="1200" spc="-1" strike="noStrike">
                <a:solidFill>
                  <a:srgbClr val="000000"/>
                </a:solidFill>
                <a:latin typeface="Arial"/>
              </a:rPr>
              <a:t>= commercial enterprise; </a:t>
            </a:r>
            <a:r>
              <a:rPr b="1" lang="en-US" sz="1200" spc="-1" strike="noStrike">
                <a:solidFill>
                  <a:srgbClr val="000000"/>
                </a:solidFill>
                <a:latin typeface="Arial"/>
              </a:rPr>
              <a:t>.ac </a:t>
            </a:r>
            <a:r>
              <a:rPr b="0" lang="en-US" sz="1200" spc="-1" strike="noStrike">
                <a:solidFill>
                  <a:srgbClr val="000000"/>
                </a:solidFill>
                <a:latin typeface="Arial"/>
              </a:rPr>
              <a:t>= overseas academic institution. The URL may make use of a two-letter country suffix. Those you are most likely to encounter are: </a:t>
            </a:r>
            <a:r>
              <a:rPr b="1" lang="en-US" sz="1200" spc="-1" strike="noStrike">
                <a:solidFill>
                  <a:srgbClr val="000000"/>
                </a:solidFill>
                <a:latin typeface="Arial"/>
              </a:rPr>
              <a:t>..au </a:t>
            </a:r>
            <a:r>
              <a:rPr b="0" lang="en-US" sz="1200" spc="-1" strike="noStrike">
                <a:solidFill>
                  <a:srgbClr val="000000"/>
                </a:solidFill>
                <a:latin typeface="Arial"/>
              </a:rPr>
              <a:t>= Australia; </a:t>
            </a:r>
            <a:r>
              <a:rPr b="1" lang="en-US" sz="1200" spc="-1" strike="noStrike">
                <a:solidFill>
                  <a:srgbClr val="000000"/>
                </a:solidFill>
                <a:latin typeface="Arial"/>
              </a:rPr>
              <a:t>.ca </a:t>
            </a:r>
            <a:r>
              <a:rPr b="0" lang="en-US" sz="1200" spc="-1" strike="noStrike">
                <a:solidFill>
                  <a:srgbClr val="000000"/>
                </a:solidFill>
                <a:latin typeface="Arial"/>
              </a:rPr>
              <a:t>= Canada; </a:t>
            </a:r>
            <a:r>
              <a:rPr b="1" lang="en-US" sz="1200" spc="-1" strike="noStrike">
                <a:solidFill>
                  <a:srgbClr val="000000"/>
                </a:solidFill>
                <a:latin typeface="Arial"/>
              </a:rPr>
              <a:t>.nl </a:t>
            </a:r>
            <a:r>
              <a:rPr b="0" lang="en-US" sz="1200" spc="-1" strike="noStrike">
                <a:solidFill>
                  <a:srgbClr val="000000"/>
                </a:solidFill>
                <a:latin typeface="Arial"/>
              </a:rPr>
              <a:t>= Netherlands; </a:t>
            </a:r>
            <a:r>
              <a:rPr b="1" lang="en-US" sz="1200" spc="-1" strike="noStrike">
                <a:solidFill>
                  <a:srgbClr val="000000"/>
                </a:solidFill>
                <a:latin typeface="Arial"/>
              </a:rPr>
              <a:t>.se </a:t>
            </a:r>
            <a:r>
              <a:rPr b="0" lang="en-US" sz="1200" spc="-1" strike="noStrike">
                <a:solidFill>
                  <a:srgbClr val="000000"/>
                </a:solidFill>
                <a:latin typeface="Arial"/>
              </a:rPr>
              <a:t>= Sweden; </a:t>
            </a:r>
            <a:r>
              <a:rPr b="1" lang="en-US" sz="1200" spc="-1" strike="noStrike">
                <a:solidFill>
                  <a:srgbClr val="000000"/>
                </a:solidFill>
                <a:latin typeface="Arial"/>
              </a:rPr>
              <a:t>.uk </a:t>
            </a:r>
            <a:r>
              <a:rPr b="0" lang="en-US" sz="1200" spc="-1" strike="noStrike">
                <a:solidFill>
                  <a:srgbClr val="000000"/>
                </a:solidFill>
                <a:latin typeface="Arial"/>
              </a:rPr>
              <a:t>= United Kingd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t>
            </a:r>
            <a:r>
              <a:rPr b="0" i="1" lang="en-US" sz="1200" spc="-1" strike="noStrike">
                <a:solidFill>
                  <a:srgbClr val="000000"/>
                </a:solidFill>
                <a:latin typeface="Arial"/>
              </a:rPr>
              <a:t>Google </a:t>
            </a:r>
            <a:r>
              <a:rPr b="0" lang="en-US" sz="1200" spc="-1" strike="noStrike">
                <a:solidFill>
                  <a:srgbClr val="000000"/>
                </a:solidFill>
                <a:latin typeface="Arial"/>
              </a:rPr>
              <a:t>only returns web pages that contain all the words in your query, narrowing your search is as simple as adding more words to the search terms that you have already entered. Your new query will return a smaller subset of the pages </a:t>
            </a:r>
            <a:r>
              <a:rPr b="0" i="1" lang="en-US" sz="1200" spc="-1" strike="noStrike">
                <a:solidFill>
                  <a:srgbClr val="000000"/>
                </a:solidFill>
                <a:latin typeface="Arial"/>
              </a:rPr>
              <a:t>Google </a:t>
            </a:r>
            <a:r>
              <a:rPr b="0" lang="en-US" sz="1200" spc="-1" strike="noStrike">
                <a:solidFill>
                  <a:srgbClr val="000000"/>
                </a:solidFill>
                <a:latin typeface="Arial"/>
              </a:rPr>
              <a:t>found for your original "too­broad" query. Search for phrases by enclosing them in quotation marks. Words enclosed in double quotes ("problem-oriented policing") will appear together in all results exactly as you have entered them. </a:t>
            </a:r>
            <a:r>
              <a:rPr b="0" i="1" lang="en-US" sz="1200" spc="-1" strike="noStrike">
                <a:solidFill>
                  <a:srgbClr val="000000"/>
                </a:solidFill>
                <a:latin typeface="Arial"/>
              </a:rPr>
              <a:t>Google </a:t>
            </a:r>
            <a:r>
              <a:rPr b="0" lang="en-US" sz="1200" spc="-1" strike="noStrike">
                <a:solidFill>
                  <a:srgbClr val="000000"/>
                </a:solidFill>
                <a:latin typeface="Arial"/>
              </a:rPr>
              <a:t>also supports the OR operator. To retrieve pages that include either word A or word B, use an uppercase OR between terms (e.g., auto OR cars OR veh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oogle </a:t>
            </a:r>
            <a:r>
              <a:rPr b="0" lang="en-US" sz="1200" spc="-1" strike="noStrike">
                <a:solidFill>
                  <a:srgbClr val="000000"/>
                </a:solidFill>
                <a:latin typeface="Arial"/>
              </a:rPr>
              <a:t>has released a new search tool called </a:t>
            </a:r>
            <a:r>
              <a:rPr b="0" i="1" lang="en-US" sz="1200" spc="-1" strike="noStrike">
                <a:solidFill>
                  <a:srgbClr val="000000"/>
                </a:solidFill>
                <a:latin typeface="Arial"/>
              </a:rPr>
              <a:t>Google Scholar </a:t>
            </a:r>
            <a:r>
              <a:rPr b="0" lang="en-US" sz="1200" spc="-1" strike="noStrike">
                <a:solidFill>
                  <a:srgbClr val="000000"/>
                </a:solidFill>
                <a:latin typeface="Arial"/>
              </a:rPr>
              <a:t>(</a:t>
            </a:r>
            <a:r>
              <a:rPr b="0" lang="en-US" sz="1200" spc="-1" strike="noStrike" u="sng">
                <a:solidFill>
                  <a:srgbClr val="009999"/>
                </a:solidFill>
                <a:uFillTx/>
                <a:latin typeface="Arial"/>
                <a:hlinkClick r:id="rId1"/>
              </a:rPr>
              <a:t>www.scholar.google.com</a:t>
            </a:r>
            <a:r>
              <a:rPr b="0" lang="en-US" sz="1200" spc="-1" strike="noStrike">
                <a:solidFill>
                  <a:srgbClr val="000000"/>
                </a:solidFill>
                <a:latin typeface="Arial"/>
              </a:rPr>
              <a:t>) that enables you to search scholarly literature, including peer-reviewed articles, books, and technical reports. A search might lead you to a citation for an article or book (which you will have to obtain from a library) or sometimes to a full text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papers sometimes print stories about new forms of crime or accounts of police innovations in controlling a particular problem. Indeed, these stories and accounts might reach the newspapers before they reach the professional or academic jour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papers, especially those with a national readership and high standards of reporting, can therefore sometimes be the best source of up-to-date information. These newspapers generally provide free online access to their archives of past issues, although you may need to register fir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amples are the </a:t>
            </a:r>
            <a:r>
              <a:rPr b="0" i="1" lang="en-US" sz="1200" spc="-1" strike="noStrike">
                <a:solidFill>
                  <a:srgbClr val="000000"/>
                </a:solidFill>
                <a:latin typeface="Arial"/>
              </a:rPr>
              <a:t>San Francisco Chronicle, </a:t>
            </a:r>
            <a:r>
              <a:rPr b="0" lang="en-US" sz="1200" spc="-1" strike="noStrike">
                <a:solidFill>
                  <a:srgbClr val="000000"/>
                </a:solidFill>
                <a:latin typeface="Arial"/>
              </a:rPr>
              <a:t>the </a:t>
            </a:r>
            <a:r>
              <a:rPr b="0" i="1" lang="en-US" sz="1200" spc="-1" strike="noStrike">
                <a:solidFill>
                  <a:srgbClr val="000000"/>
                </a:solidFill>
                <a:latin typeface="Arial"/>
              </a:rPr>
              <a:t>Washington Post, </a:t>
            </a:r>
            <a:r>
              <a:rPr b="0" lang="en-US" sz="1200" spc="-1" strike="noStrike">
                <a:solidFill>
                  <a:srgbClr val="000000"/>
                </a:solidFill>
                <a:latin typeface="Arial"/>
              </a:rPr>
              <a:t>the </a:t>
            </a:r>
            <a:r>
              <a:rPr b="0" i="1" lang="en-US" sz="1200" spc="-1" strike="noStrike">
                <a:solidFill>
                  <a:srgbClr val="000000"/>
                </a:solidFill>
                <a:latin typeface="Arial"/>
              </a:rPr>
              <a:t>New York Times, </a:t>
            </a:r>
            <a:r>
              <a:rPr b="0" lang="en-US" sz="1200" spc="-1" strike="noStrike">
                <a:solidFill>
                  <a:srgbClr val="000000"/>
                </a:solidFill>
                <a:latin typeface="Arial"/>
              </a:rPr>
              <a:t>and the </a:t>
            </a:r>
            <a:r>
              <a:rPr b="0" i="1" lang="en-US" sz="1200" spc="-1" strike="noStrike">
                <a:solidFill>
                  <a:srgbClr val="000000"/>
                </a:solidFill>
                <a:latin typeface="Arial"/>
              </a:rPr>
              <a:t>Chicago Tribun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useful databases that can be searched from your office or home computer, but to use them properly you will have to pay a fee. This can sometimes be a useful alternative to visiting a library (where you can often access the databases without char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uestia </a:t>
            </a:r>
            <a:r>
              <a:rPr b="0" lang="en-US" sz="1200" spc="-1" strike="noStrike">
                <a:solidFill>
                  <a:srgbClr val="000000"/>
                </a:solidFill>
                <a:latin typeface="Arial"/>
              </a:rPr>
              <a:t>(</a:t>
            </a:r>
            <a:r>
              <a:rPr b="0" lang="en-US" sz="1200" spc="-1" strike="noStrike" u="sng">
                <a:solidFill>
                  <a:srgbClr val="009999"/>
                </a:solidFill>
                <a:uFillTx/>
                <a:latin typeface="Arial"/>
                <a:hlinkClick r:id="rId1"/>
              </a:rPr>
              <a:t>www.questia.com</a:t>
            </a:r>
            <a:r>
              <a:rPr b="0" lang="en-US" sz="1200" spc="-1" strike="noStrike">
                <a:solidFill>
                  <a:srgbClr val="000000"/>
                </a:solidFill>
                <a:latin typeface="Arial"/>
              </a:rPr>
              <a:t>) is an online library offering the full text and images of scholarly books, journals, magazines, and newspaper articles in the humanities and social sciences. You can search the collection at no cost, but if you need access to the full text of any document you must purchase a subscription to the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genta</a:t>
            </a:r>
            <a:r>
              <a:rPr b="0" i="1"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u="sng">
                <a:solidFill>
                  <a:srgbClr val="009999"/>
                </a:solidFill>
                <a:uFillTx/>
                <a:latin typeface="Arial"/>
                <a:hlinkClick r:id="rId2"/>
              </a:rPr>
              <a:t>www.ingenta.com</a:t>
            </a:r>
            <a:r>
              <a:rPr b="0" lang="en-US" sz="1200" spc="-1" strike="noStrike">
                <a:solidFill>
                  <a:srgbClr val="000000"/>
                </a:solidFill>
                <a:latin typeface="Arial"/>
              </a:rPr>
              <a:t>) is a searchable database of more than 11 million citations from over 25,000 publications. Electronic, fax, and pay-per-view document delivery is available for many of the 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sycINFO</a:t>
            </a:r>
            <a:r>
              <a:rPr b="0" i="1"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u="sng">
                <a:solidFill>
                  <a:srgbClr val="009999"/>
                </a:solidFill>
                <a:uFillTx/>
                <a:latin typeface="Arial"/>
                <a:hlinkClick r:id="rId3"/>
              </a:rPr>
              <a:t>www.apa.org/psycinfo</a:t>
            </a:r>
            <a:r>
              <a:rPr b="0" lang="en-US" sz="1200" spc="-1" strike="noStrike" u="sng">
                <a:solidFill>
                  <a:srgbClr val="009999"/>
                </a:solidFill>
                <a:uFillTx/>
                <a:latin typeface="Arial"/>
                <a:hlinkClick r:id="rId4"/>
              </a:rPr>
              <a:t>)</a:t>
            </a:r>
            <a:r>
              <a:rPr b="0" lang="en-US" sz="1200" spc="-1" strike="noStrike">
                <a:solidFill>
                  <a:srgbClr val="000000"/>
                </a:solidFill>
                <a:latin typeface="Arial"/>
              </a:rPr>
              <a:t> contains abstracts of journal articles, dissertations, technical reports, and English-language chapters and books in psychology and related disciplines such as sociology, education, law, psychiatry, and anthropology. It includes coverage of several criminal justice periodicals. It is available in college or university libraries and in large public libraries, but it also offers a pay-as-you-go option that provides access to the database for a 24-hour period. During that time period you may view, print, and download records. Because </a:t>
            </a:r>
            <a:r>
              <a:rPr b="0" i="1" lang="en-US" sz="1200" spc="-1" strike="noStrike">
                <a:solidFill>
                  <a:srgbClr val="000000"/>
                </a:solidFill>
                <a:latin typeface="Arial"/>
              </a:rPr>
              <a:t>PsycINFO </a:t>
            </a:r>
            <a:r>
              <a:rPr b="0" lang="en-US" sz="1200" spc="-1" strike="noStrike">
                <a:solidFill>
                  <a:srgbClr val="000000"/>
                </a:solidFill>
                <a:latin typeface="Arial"/>
              </a:rPr>
              <a:t>is an abstract database, it does not have the full text of the articles. You may be able to purchase some of the articles for a fee, but you will probably need to visit your local library for assistance in locating the articles you have se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find that seeking help and advice from some other people can greatly speed up your search. Among those to consider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 Analy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local department is large enough to employ crime analysts, they might help you search the Internet for useful material. This is particularly the case if a crime analyst has been assigned to help with your project. Crime analysts are generally comfortable with using computers and are accustomed to searching for material on the Internet. Recent manuals and other publications for crime analysts have recognized the important role they can play in researching problems for a police depar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e De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calling" police departments is rarely productive, but if your search has revealed that a particular police department has tackled a similar problem, it is worth calling that department. Try to speak to the officers originally involved in the project and try to get a copy of the report if one was produ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College or University Facul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local college or university has a criminal justice program, you might be able to obtain helpful advice on your problem from a faculty member. Do not expect the professor to spend much time on your problem, but he or she might be able to suggest sources for you to explore. Look at the institution's website to find out as much as possible about the interests of the faculty before attempting to contact anyone. If you call and leave a message, be sure that the professor can reach you easily. For anything more than an hour or so of consultation, the faculty member might expect compensation, although some state universities consider assistance to government agencies within that state to be part of their faculty's regular service 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 Expe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ticular expert's name might appear repeatedly during your Internet search and it can sometimes be helpful to contact that person by email to ask for advice. Remember that these experts are likely to be very busy people. You should contact them only when you have exhausted other possibilities, and you should only ask them for a specific piece of information that they can provide quickly. Experts cannot be expected to summarize their publications for you. They will not reply to general queries such as, "Any information you can provide about my problem will be gratefully received." When asking for references to useful articles, list those that you have found most helpful to date. The expert will then be able to tell at a glance whether you have missed anything really important, and he or she is more likely to supply the key reference. Do not expect to engage an expert in a prolonged email correspondence unless he or she has invited you to email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at this module focuses on the process of gathering information about a particular problem.  This module does not focus on research methods in the social science context, but rather it helps students learn about where they can gather information, how to go about getting that information, tools that are available to assist in the information gathering process,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obtain some articles and reports not available on the Internet through the NCJRS. In some cases you may be able to call or write to the agency or organization that issued the report for a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ost cases, the only practical method of obtaining an article or report not available on the Internet is by visiting a public library or, better still, a university library.  Most of them, except the smallest public libraries, have professional librarians to help you locate material and online subscriptions to information sources not available to you at home or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library serving your town or county might be closer than the nearest university library and has the great advantage of being open to any member of the public. The librarians are also likely to be especially helpful to local police. However, do not expect to find the books or articles you want to read on the shelves of your public library, even if it serves a large city. The material is usually too specialized for a general readership and to find it you will usually have to go to a college or university library. What you can expect to get at any reasonably large public library is personal help from the librarians with your 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public libraries, you can also expect to find three important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s with high speed connections to the Internet - </a:t>
            </a:r>
            <a:r>
              <a:rPr b="0" lang="en-US" sz="1200" spc="-1" strike="noStrike">
                <a:solidFill>
                  <a:srgbClr val="000000"/>
                </a:solidFill>
                <a:latin typeface="Arial"/>
              </a:rPr>
              <a:t>High speed connections make searching for and downloading material much easier and less frustrating. Unless your home computer or the one you use at work has a high speed connection, you might find it more efficient to use those at the public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criptions to online databases</a:t>
            </a:r>
            <a:r>
              <a:rPr b="1" i="1" lang="en-US" sz="1200" spc="-1" strike="noStrike">
                <a:solidFill>
                  <a:srgbClr val="000000"/>
                </a:solidFill>
                <a:latin typeface="Arial"/>
              </a:rPr>
              <a:t> - </a:t>
            </a:r>
            <a:r>
              <a:rPr b="0" i="1" lang="en-US" sz="1200" spc="-1" strike="noStrike">
                <a:solidFill>
                  <a:srgbClr val="000000"/>
                </a:solidFill>
                <a:latin typeface="Arial"/>
              </a:rPr>
              <a:t> </a:t>
            </a:r>
            <a:r>
              <a:rPr b="0" lang="en-US" sz="1200" spc="-1" strike="noStrike">
                <a:solidFill>
                  <a:srgbClr val="000000"/>
                </a:solidFill>
                <a:latin typeface="Arial"/>
              </a:rPr>
              <a:t>Many public libraries carry subscriptions to some useful online databases, particularly </a:t>
            </a:r>
            <a:r>
              <a:rPr b="0" i="1" lang="en-US" sz="1200" spc="-1" strike="noStrike">
                <a:solidFill>
                  <a:srgbClr val="000000"/>
                </a:solidFill>
                <a:latin typeface="Arial"/>
              </a:rPr>
              <a:t>ProQuest, Ebsco </a:t>
            </a:r>
            <a:r>
              <a:rPr b="0" lang="en-US" sz="1200" spc="-1" strike="noStrike">
                <a:solidFill>
                  <a:srgbClr val="000000"/>
                </a:solidFill>
                <a:latin typeface="Arial"/>
              </a:rPr>
              <a:t>and </a:t>
            </a:r>
            <a:r>
              <a:rPr b="0" i="1" lang="en-US" sz="1200" spc="-1" strike="noStrike">
                <a:solidFill>
                  <a:srgbClr val="000000"/>
                </a:solidFill>
                <a:latin typeface="Arial"/>
              </a:rPr>
              <a:t>InfoTra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Quest</a:t>
            </a:r>
            <a:r>
              <a:rPr b="0" i="1" lang="en-US" sz="1200" spc="-1" strike="noStrike">
                <a:solidFill>
                  <a:srgbClr val="000000"/>
                </a:solidFill>
                <a:latin typeface="Arial"/>
              </a:rPr>
              <a:t> - </a:t>
            </a:r>
            <a:r>
              <a:rPr b="0" lang="en-US" sz="1200" spc="-1" strike="noStrike">
                <a:solidFill>
                  <a:srgbClr val="000000"/>
                </a:solidFill>
                <a:latin typeface="Arial"/>
              </a:rPr>
              <a:t>a Web-based information service providing access to a number of databases covering various subject disciplines. Some of the databases included are ABI/Informal Global, Social Science Plus, Criminal Justice Periodical Index, newspapers, etc. The service provides citations, abstracts, and some complete (full text) items from magazines, journals, and newspapers covering all subject areas. Not all libraries subscribe to all of the databases that are part of the </a:t>
            </a:r>
            <a:r>
              <a:rPr b="0" i="1" lang="en-US" sz="1200" spc="-1" strike="noStrike">
                <a:solidFill>
                  <a:srgbClr val="000000"/>
                </a:solidFill>
                <a:latin typeface="Arial"/>
              </a:rPr>
              <a:t>ProQuest </a:t>
            </a:r>
            <a:r>
              <a:rPr b="0" lang="en-US" sz="1200" spc="-1" strike="noStrike">
                <a:solidFill>
                  <a:srgbClr val="000000"/>
                </a:solidFill>
                <a:latin typeface="Arial"/>
              </a:rPr>
              <a:t>group, so you will need to see what databases are provided by each individual library. If you are fortunate enough to have access to the Criminal Justice Periodical Index (CJPI), this should be your database of choice. CJPI offers coverage of 59 criminal justice titles, as well as indexing and abstracts for another 140 relevant U.S. and international jou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bsco</a:t>
            </a:r>
            <a:r>
              <a:rPr b="0" i="1" lang="en-US" sz="1200" spc="-1" strike="noStrike">
                <a:solidFill>
                  <a:srgbClr val="000000"/>
                </a:solidFill>
                <a:latin typeface="Arial"/>
              </a:rPr>
              <a:t> </a:t>
            </a:r>
            <a:r>
              <a:rPr b="0" lang="en-US" sz="1200" spc="-1" strike="noStrike">
                <a:solidFill>
                  <a:srgbClr val="000000"/>
                </a:solidFill>
                <a:latin typeface="Arial"/>
              </a:rPr>
              <a:t>provides "Academic Search Premier," a multi­disciplinary database that includes abstracts and indexing from more than 4,000 scholarly publications covering a wide field of academic endeavor. Full text is provided for many of the articles. This source also includes indexing for several major U.S. newspa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foTrac</a:t>
            </a:r>
            <a:r>
              <a:rPr b="0" i="1" lang="en-US" sz="1200" spc="-1" strike="noStrike">
                <a:solidFill>
                  <a:srgbClr val="000000"/>
                </a:solidFill>
                <a:latin typeface="Arial"/>
              </a:rPr>
              <a:t> </a:t>
            </a:r>
            <a:r>
              <a:rPr b="0" lang="en-US" sz="1200" spc="-1" strike="noStrike">
                <a:solidFill>
                  <a:srgbClr val="000000"/>
                </a:solidFill>
                <a:latin typeface="Arial"/>
              </a:rPr>
              <a:t>is an electronic resource that provides access to more than 8,500 periodicals–from the </a:t>
            </a:r>
            <a:r>
              <a:rPr b="0" i="1" lang="en-US" sz="1200" spc="-1" strike="noStrike">
                <a:solidFill>
                  <a:srgbClr val="000000"/>
                </a:solidFill>
                <a:latin typeface="Arial"/>
              </a:rPr>
              <a:t>New York Times </a:t>
            </a:r>
            <a:r>
              <a:rPr b="0" lang="en-US" sz="1200" spc="-1" strike="noStrike">
                <a:solidFill>
                  <a:srgbClr val="000000"/>
                </a:solidFill>
                <a:latin typeface="Arial"/>
              </a:rPr>
              <a:t>to general interest magazines, business and technology publications, and law and academic jou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obtained a library card, you might be able to gain access to the library resources from your home computer, including access to these and other data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library loan</a:t>
            </a:r>
            <a:r>
              <a:rPr b="0" i="1" lang="en-US" sz="1200" spc="-1" strike="noStrike">
                <a:solidFill>
                  <a:srgbClr val="000000"/>
                </a:solidFill>
                <a:latin typeface="Arial"/>
              </a:rPr>
              <a:t> - </a:t>
            </a:r>
            <a:r>
              <a:rPr b="0" lang="en-US" sz="1200" spc="-1" strike="noStrike">
                <a:solidFill>
                  <a:srgbClr val="000000"/>
                </a:solidFill>
                <a:latin typeface="Arial"/>
              </a:rPr>
              <a:t>This service allows participating libraries to obtain most books, articles or reports that you might need by requesting a copy from the nearest library possessing the material. You will be required to complete an interlibrary loan request form that the library will supply. This form requires the title of the work, the author, publisher, place of publication and date. If you are requesting a journal article, you will need to supply volume and page numbers. In most cases it takes about two weeks to obtain the material, but rarer material can take up to six weeks. The library will usually notify you when the material has arrived and you will have to collect it. Loans are not usually renewable and can be kept a maximum of one or two we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 are enrolled as a student, you cannot always gain access to these libraries. You might expect to be more warmly received at a state college or university than at a private institution, but libraries vary greatly in their access policies and it is always worth going there in person and asking if you might be allowed to use th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you may be able to become a "Friend of the Library" for a nominal fee, which will allow you to borrow books and access other services of the library. In other cases, you might be granted certain privileges but not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ibrary's collection</a:t>
            </a:r>
            <a:r>
              <a:rPr b="1" i="1" lang="en-US" sz="1200" spc="-1" strike="noStrike">
                <a:solidFill>
                  <a:srgbClr val="000000"/>
                </a:solidFill>
                <a:latin typeface="Arial"/>
              </a:rPr>
              <a:t> - </a:t>
            </a:r>
            <a:r>
              <a:rPr b="0" lang="en-US" sz="1200" spc="-1" strike="noStrike">
                <a:solidFill>
                  <a:srgbClr val="000000"/>
                </a:solidFill>
                <a:latin typeface="Arial"/>
              </a:rPr>
              <a:t>The articles or books you want to read might be held in the library's collection. This is much more likely to be the case if the college or university has a criminal justice program, especially one at the graduate level. Even then, however, the library might not hold copies of lesser-known books and many reports. The library's card or electronic catalog will help you find the journal or book if the library holds it, but it is important that you have the following details: exact title of the article or book, the full name of the author(s), and the year of pub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ollege or university has a criminal justice program, ask the librarian to tell you where the books and journals are shelved that are used mostly by the criminal justice faculty and students. An hour or two browsing these shelves might turn up useful material. If the librarian is a criminal justice specialist, he or she might be able to direct you to the most productive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 resources</a:t>
            </a:r>
            <a:r>
              <a:rPr b="1" i="1" lang="en-US" sz="1200" spc="-1" strike="noStrike">
                <a:solidFill>
                  <a:srgbClr val="000000"/>
                </a:solidFill>
                <a:latin typeface="Arial"/>
              </a:rPr>
              <a:t> - </a:t>
            </a:r>
            <a:r>
              <a:rPr b="0" lang="en-US" sz="1200" spc="-1" strike="noStrike">
                <a:solidFill>
                  <a:srgbClr val="000000"/>
                </a:solidFill>
                <a:latin typeface="Arial"/>
              </a:rPr>
              <a:t>You can expect the college or university library to have full subscriptions to the databases mentioned above that you can access either from home on limited fee-paying basis or from a large public library, including </a:t>
            </a:r>
            <a:r>
              <a:rPr b="0" i="1" lang="en-US" sz="1200" spc="-1" strike="noStrike">
                <a:solidFill>
                  <a:srgbClr val="000000"/>
                </a:solidFill>
                <a:latin typeface="Arial"/>
              </a:rPr>
              <a:t>PsycINFO. </a:t>
            </a:r>
            <a:r>
              <a:rPr b="0" lang="en-US" sz="1200" spc="-1" strike="noStrike">
                <a:solidFill>
                  <a:srgbClr val="000000"/>
                </a:solidFill>
                <a:latin typeface="Arial"/>
              </a:rPr>
              <a:t>Another valuable online resource available at most college and university libraries is </a:t>
            </a:r>
            <a:r>
              <a:rPr b="0" i="1" lang="en-US" sz="1200" spc="-1" strike="noStrike">
                <a:solidFill>
                  <a:srgbClr val="000000"/>
                </a:solidFill>
                <a:latin typeface="Arial"/>
              </a:rPr>
              <a:t>SocioFile, </a:t>
            </a:r>
            <a:r>
              <a:rPr b="0" lang="en-US" sz="1200" spc="-1" strike="noStrike">
                <a:solidFill>
                  <a:srgbClr val="000000"/>
                </a:solidFill>
                <a:latin typeface="Arial"/>
              </a:rPr>
              <a:t>which indexes approximately 2,300 journals from 55 countries. It covers sociological topics such as alcohol and drug abuse, counseling, crime, law, public administration, public affairs and vio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inal Justice Abstracts</a:t>
            </a:r>
            <a:r>
              <a:rPr b="0" i="1" lang="en-US" sz="1200" spc="-1" strike="noStrike">
                <a:solidFill>
                  <a:srgbClr val="000000"/>
                </a:solidFill>
                <a:latin typeface="Arial"/>
              </a:rPr>
              <a:t> - </a:t>
            </a:r>
            <a:r>
              <a:rPr b="0" lang="en-US" sz="1200" spc="-1" strike="noStrike">
                <a:solidFill>
                  <a:srgbClr val="000000"/>
                </a:solidFill>
                <a:latin typeface="Arial"/>
              </a:rPr>
              <a:t>A very important resource is online access to Criminal Justice Abstracts (CJA), but you are only likely to find this at colleges and universities with a criminal justice program. CJA provides comprehensive coverage of the major journals in criminology and related disciplines, extensive coverage of books, and access to reports from government and nongovernmental agencies from 1968 to the present. It is prepared in cooperation with the Don M. Gottfredson Library of Criminal Justice of Rutgers University. Topics include crime trends, prevention projects, corrections, juvenile delinquency, police, courts, offenders, victims, and sentencing. CJA is available in both a print edition from Sage Publications and an online version from Cambridge Scientific Abstracts. The online version is much larger than the print version. </a:t>
            </a:r>
            <a:br>
              <a:rPr sz="1200"/>
            </a:br>
            <a:br>
              <a:rPr sz="1200"/>
            </a:br>
            <a:r>
              <a:rPr b="0" lang="en-US" sz="1200" spc="-1" strike="noStrike">
                <a:solidFill>
                  <a:srgbClr val="000000"/>
                </a:solidFill>
                <a:latin typeface="Arial"/>
              </a:rPr>
              <a:t>Compared with NCJRS abstracts, CJA focuses more on the criminology and criminal justice literature, and as such provides greater coverage of academic journals, nongovernmental research, and scholarly books. NCJRS Abstracts tends to focus more on policy issues related to the U.S. government, and it provides more coverage of government-sponsored research and the less-academic magazine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ademic 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 are dealing with an extremely common problem, do not expect to find more than a few academic articles directly relevant to your topic. Academic criminologists tend to be more interested in crime and delinquency in general than the very specific forms of crime that are typically the focus of problem-oriented policing projects.  Criminologists also tend to be more interested in "distant" causes of crime–such as social disadvantage, psychological impediments and dysfunctional families–than in the "near" causes of a problem, which include situational factors such as poor security or lack of surveill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articles follow a fairly standard format designed to help readers decide quickly how relevant the article is to their interests. Most articles begin with an abstract. This is usually a single paragraph, which includes information about the data used for the study and a summary of the main findings. The abstract should tell whether you want to look more closely at the article. If so, go to the end of the article and read the "Summary," "Discussion" and/or "Conclusions." Only if the article seems valuable need you read more.  Even if it is valuable, you may not need to read the literature review at the beginning of the article or the methodological sections dealing with data, analysis, and results. On the other hand, when the article is not directly relevant to your needs, you might still find useful material listed in the "References" at the end, which you might try to find and 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rts of Police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unless you are dealing with a very common problem, do not expect to find more than a few highly relevant police projects. The greatest limitation of those you do find is likely to be that claims of success frequently have to be treated with a considerable skepticism. Rarely are projects properly evaluated, with comparisons of crime data before-and-after the project, or with crime data for a "control" group or area not included in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some projects that have received Goldstein or Tilley awards have not been evaluated in full accordance with social science research standards. Further, you should beware that a response that has worked in a particular town or neighborhood might not automatically work in yours. This could be because of specific circumstances that make your situation different from earlier ones. Or it could be that the effectiveness of a specific response depends partly on the other responses introduced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at it is a waste of time looking at what other police agencies have done. To the contrary, this past experience is always an important source of ideas about what might be helpful in your situation and what might not. But in reaching decisions about the responses you want to implement, you must always weigh the information obtained from any particular project together with all the other information you f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rincipal objectives of conducting a literature search is to learn what others have discovered about the causes of the kind of problem you are tackling, particularly its "near" causes (those factors that most immediately contributed to the problem). Knowing what they have found will be useful to you in analyzing your own problem. Your analysis can check whether factors that have been implicated in the past also hold true in your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hen you have achieved an understanding of your problem that you can expect to identify effective responses. You will know you have achieved this understanding when you are able to provide answers to the five "W" and one "H"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is involved?</a:t>
            </a:r>
            <a:r>
              <a:rPr b="0" i="1" lang="en-US" sz="1200" spc="-1" strike="noStrike">
                <a:solidFill>
                  <a:srgbClr val="000000"/>
                </a:solidFill>
                <a:latin typeface="Arial"/>
              </a:rPr>
              <a:t> </a:t>
            </a:r>
            <a:r>
              <a:rPr b="0" lang="en-US" sz="1200" spc="-1" strike="noStrike">
                <a:solidFill>
                  <a:srgbClr val="000000"/>
                </a:solidFill>
                <a:latin typeface="Arial"/>
              </a:rPr>
              <a:t>Are the offenders juveniles? Juvenile gangs? Organized criminals? Addicts? Opportunists? Ordinary members of the pub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exactly do they do?</a:t>
            </a:r>
            <a:r>
              <a:rPr b="0" i="1" lang="en-US" sz="1200" spc="-1" strike="noStrike">
                <a:solidFill>
                  <a:srgbClr val="000000"/>
                </a:solidFill>
                <a:latin typeface="Arial"/>
              </a:rPr>
              <a:t> </a:t>
            </a:r>
            <a:r>
              <a:rPr b="0" lang="en-US" sz="1200" spc="-1" strike="noStrike">
                <a:solidFill>
                  <a:srgbClr val="000000"/>
                </a:solidFill>
                <a:latin typeface="Arial"/>
              </a:rPr>
              <a:t>The essence of problem­ oriented policing is to focus on a very specific problem. This is because specific problems demand specific solutions. Answering this question helps you to identify the specific problem that you wish to focu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do they do this?</a:t>
            </a:r>
            <a:r>
              <a:rPr b="0" i="1" lang="en-US" sz="1200" spc="-1" strike="noStrike">
                <a:solidFill>
                  <a:srgbClr val="000000"/>
                </a:solidFill>
                <a:latin typeface="Arial"/>
              </a:rPr>
              <a:t>  </a:t>
            </a:r>
            <a:r>
              <a:rPr b="0" lang="en-US" sz="1200" spc="-1" strike="noStrike">
                <a:solidFill>
                  <a:srgbClr val="000000"/>
                </a:solidFill>
                <a:latin typeface="Arial"/>
              </a:rPr>
              <a:t>For theft the motive will be obvious, but much can be learned about specific motivation from the nature of the goods stolen. Motives for many other expressive or violent crimes may be more obsc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do they do this?</a:t>
            </a:r>
            <a:r>
              <a:rPr b="0" i="1" lang="en-US" sz="1200" spc="-1" strike="noStrike">
                <a:solidFill>
                  <a:srgbClr val="000000"/>
                </a:solidFill>
                <a:latin typeface="Arial"/>
              </a:rPr>
              <a:t> </a:t>
            </a:r>
            <a:r>
              <a:rPr b="0" lang="en-US" sz="1200" spc="-1" strike="noStrike">
                <a:solidFill>
                  <a:srgbClr val="000000"/>
                </a:solidFill>
                <a:latin typeface="Arial"/>
              </a:rPr>
              <a:t>Try to describe the usual setting. Sometimes the sequence of events takes place in several locations. For example, a car might be stolen from a parking lot, moved to a garage for stripping of valuable parts, and then dumped on wasteland. Understanding the physical setting in which problems occur often leads to opportunities to alter that physical set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do they do this?</a:t>
            </a:r>
            <a:r>
              <a:rPr b="0" i="1" lang="en-US" sz="1200" spc="-1" strike="noStrike">
                <a:solidFill>
                  <a:srgbClr val="000000"/>
                </a:solidFill>
                <a:latin typeface="Arial"/>
              </a:rPr>
              <a:t>  </a:t>
            </a:r>
            <a:r>
              <a:rPr b="0" lang="en-US" sz="1200" spc="-1" strike="noStrike">
                <a:solidFill>
                  <a:srgbClr val="000000"/>
                </a:solidFill>
                <a:latin typeface="Arial"/>
              </a:rPr>
              <a:t>Householders or car owners might know only that their car was stolen "sometime during the weekend." For many interpersonal crimes, however, the victim will be able to report precisely when the crime occurred, which may permit inferences about such matters as whether the streets were dese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they carry out the crime?</a:t>
            </a:r>
            <a:r>
              <a:rPr b="0" i="1" lang="en-US" sz="1200" spc="-1" strike="noStrike">
                <a:solidFill>
                  <a:srgbClr val="000000"/>
                </a:solidFill>
                <a:latin typeface="Arial"/>
              </a:rPr>
              <a:t> </a:t>
            </a:r>
            <a:r>
              <a:rPr b="0" lang="en-US" sz="1200" spc="-1" strike="noStrike">
                <a:solidFill>
                  <a:srgbClr val="000000"/>
                </a:solidFill>
                <a:latin typeface="Arial"/>
              </a:rPr>
              <a:t>Crime is a process, with several steps from initiation to completion. At each step the offender must make decisions about working with others and about employing specific knowledge and tools. These decisions are heavily influenced by the offender's need to complete the crime quickly, with minimum effort, and without being caught. The details of the situation are crucial to these decisions. To take a simple example, car thieves are more likely to avoid parking lots with strong lighting, closed-circuit television (CCTV) cameras and full-time attendants than ones without these forms of sec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an answer these sorts of questions with reasonable certainty, you will have developed a hypothesis about your problem. A hypothesis is a statement that explains why the problem is occurring. The hypothesis points you in the direction of certain responses and away from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lso: Step 36 from Clarke R.V. and Eck, J.E. (2005). Crime Analysis for Problem-Solvers in 60 Small Steps.  Washington, DC. Office of Community Oriented Policing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r an example of a summary grid, see http://www.popcenter.org/Tools/tool-researchingProblem_p3.htm and http://www.popcenter.org/problems/problem-drug_open_markets_summary.ht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http://www.popcenter.or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and the development of online social science databases have made it much easier for you to find research and best practice that can help with your problem-oriented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hours spent at the computer, and time spent in a nearby public or college library, can unearth a wealth of relevant material. For some problems that are new or rare, the haul might be more me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is sometimes difficult to find your way around the Internet or locate the material in libraries. But it is always worth seeking to profit from the labors of others. Learning what they have discovered could jump­start your efforts and save you valuable time later in your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ummary of this module see Step 19 from Clarke R.V. and Eck, J.E. (2005). Crime Analysis for Problem-Solvers in 60 Small Steps.  Washington, DC. Office of Community Oriented Policing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ffice of Community Oriented Policing Services (COPS Office) (</a:t>
            </a:r>
            <a:r>
              <a:rPr b="0" lang="en-US" sz="1200" spc="-1" strike="noStrike" u="sng">
                <a:solidFill>
                  <a:srgbClr val="009999"/>
                </a:solidFill>
                <a:uFillTx/>
                <a:latin typeface="Arial"/>
                <a:hlinkClick r:id="rId1"/>
              </a:rPr>
              <a:t>www.cops.usdoj.gov</a:t>
            </a:r>
            <a:r>
              <a:rPr b="1" i="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S Office provides grants to state and local law enforcement agencies to hire and train community policing officers, acquire and deploy new crime-fighting technologies, and develop and test innovative policing strategies. The website allows you to download or order COPS publications that deal with problem-oriented pol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 Criminal Justice Reference Service (NCJRS) Abstracts Database (http://abstractsdb.ncjrs.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Criminal Justice Reference Service is an information clearinghouse created by the U.S. Department of Justice for people involved in research, policy, and practice related to criminal and juvenile justice, and drug control. The "NCJRS Abstracts Database" is the largest collection of criminal justice abstracts in the world. It contains summaries of over 180,000 U.S. and international publications, including federal, state, and local government reports, books, research reports, journal articles, audiovisual presentations, and unpublished research. It contains far more material than the website for the Center for Problem-Oriented Policing, though only a small proportion of the abstracts deal directly with problem­ oriented policing or specific crime problems. Even so, it is likely to contain material that will be useful to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the abstracts are linked to the full text of the article or report, which you can read online or download and print. Where reports and articles are not online, some are available free of charge. Many others are available for a small fee. This service is efficient–it generally takes no more than two to three weeks to receive the material. (It usually helps to refer to the NCJ number for each publication you want to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n Institute of Criminology (www.aic.gov.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stralian Institute of Criminology (AIC) is Australia's national organization for the study of crime and criminal justice and for the dissemination of information on these subjects. It conducts and sponsors research, holds conferences and maintains a fine library. The website contains many full-text documents and reports. The best way to begin is by searching from the opening page. A short description is provided of each entry yielded by the search. By clicking on the title, you can get a fuller description and you can also download full-text copies of many of the documents. The website also allows you to search the library catalog, which will yield material not accessible through the home page search box. However, little more than the title of the document is listed so this will be of limited value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Home Office, United Kingdom (www.homeoffice.gov.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me Office is the government department responsible for U.K. internal affairs. It is roughly equivalent to the U.S. Department of Justice and has overall governmental responsibility for crime matters and the criminal justice system, including the police. As you might expect this is a large website with many links and, while you can browse the many sections, it is best to start with a "quick search" using the search box on the home page. You can ask it to search "any words" in your search term, "all words" or "exact phrase." Results will be delivered from thre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Crime Reduction Website (see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Research and Statistics Series published by the Home Office,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Criminal Justice website of the Home Off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to limit your search to any of these three sources. A small summary is given for each entry and you can click on the title to take you to the full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ful section of the website for you to browse is "Research and Statistics." The Home Office sponsors or conducts a large amount of high quality research, much of it dealing with policing and specific crim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olice Executive Research Forum (PERF) (www.policeforum. 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 is a national membership organization of police executives from large law enforcement agencies. Its mission is to improve policing and advance professionalism through research and involvement in public policy debate. It contains POPNet, a searchable database of problem-oriented policing projects, many of which are also included in the "Goldstein Awards" on the Center for Problem-Oriented Policing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ations and Information Services" lists publications for sale from the "online store" and "public publications" that may be downloaded f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unity Policing Consortium (</a:t>
            </a:r>
            <a:r>
              <a:rPr b="0" lang="en-US" sz="1200" spc="-1" strike="noStrike" u="sng">
                <a:solidFill>
                  <a:srgbClr val="009999"/>
                </a:solidFill>
                <a:uFillTx/>
                <a:latin typeface="Arial"/>
                <a:hlinkClick r:id="rId2"/>
              </a:rPr>
              <a:t>www.communitypolicing.org</a:t>
            </a:r>
            <a:r>
              <a:rPr b="1"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ty Policing Consortium is a training and technical partnership of five of the nation's leading law enforcement organizations: the International Association of Chiefs of Police; the National Organization of Black Law Enforcement Executives; the National Sheriffs' Association; the Police Executive Research Forum; and the Police Foundation.  Its mission is to deliver community policing training and technical assistance to police departments and sheriffs' offices. The website's "electronic library" contains community policing publications, some of which can be downloaded. It also allows you look for information in back issues of three of the consortium's newsletters: "Sheriff Times," "Community Policing Exchange" and "Community Li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useful Crime Mapping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lectc.org/c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ojp.usdoj.gov/ovc/publications/infores/geoinfosys2003/welcom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islounge.com/features/aa101100.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 one defines a problem greatly impacts how one addresses 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some training courses in problem-oriented policing, and in the corresponding materials developed over the past decade, a precise definition of the term </a:t>
            </a:r>
            <a:r>
              <a:rPr b="0" i="1" lang="en-US" sz="900" spc="-1" strike="noStrike">
                <a:solidFill>
                  <a:srgbClr val="000000"/>
                </a:solidFill>
                <a:latin typeface="Arial"/>
              </a:rPr>
              <a:t>problem</a:t>
            </a:r>
            <a:r>
              <a:rPr b="0" lang="en-US" sz="900" spc="-1" strike="noStrike">
                <a:solidFill>
                  <a:srgbClr val="000000"/>
                </a:solidFill>
                <a:latin typeface="Arial"/>
              </a:rPr>
              <a:t> has been put forth.  With slight variations, this definition has been something like the following:</a:t>
            </a:r>
            <a:r>
              <a:rPr b="0" i="1" lang="en-US" sz="900" spc="-1" strike="noStrike">
                <a:solidFill>
                  <a:srgbClr val="000000"/>
                </a:solidFill>
                <a:latin typeface="Arial"/>
              </a:rPr>
              <a:t> A problem is </a:t>
            </a:r>
            <a:r>
              <a:rPr b="1" i="1" lang="en-US" sz="900" spc="-1" strike="noStrike">
                <a:solidFill>
                  <a:srgbClr val="000000"/>
                </a:solidFill>
                <a:latin typeface="Arial"/>
              </a:rPr>
              <a:t>two or more incidents</a:t>
            </a:r>
            <a:r>
              <a:rPr b="0" i="1" lang="en-US" sz="900" spc="-1" strike="noStrike">
                <a:solidFill>
                  <a:srgbClr val="000000"/>
                </a:solidFill>
                <a:latin typeface="Arial"/>
              </a:rPr>
              <a:t>, similar in nature, that [are] of concern to the police and to the publ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 general sense, this definition is consistent with Goldstein’s model.  It is misleading, however, in that it suggests a mathematical precision to defining problems, never intended by Goldstein. There is nothing magical about the number two.  Even a single incident might prompt a broader investigation into an underlying problem if the incident is of sufficient consequence to the community and there is a high likelihood of future similar incidents.  Nor does the mere occurrence of multiple similar incidents automatically constitute a problem. The number of incidents must be both substantial and significant to warrant defining the pattern as a problem; that is, the number of incidents should exceed some norm or expected occurrence rate. The common feature among the incidents, moreover, must bear some significance. Exploring the pattern of burglaries committed by males, for example, is not likely to be productive, given that there is nothing remarkable about burglars being ma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otion of “two or more incidents” in the definition of a problem may derive from a misreading of the definition of a problem proposed by Eck and Spelman in </a:t>
            </a:r>
            <a:r>
              <a:rPr b="0" i="1" lang="en-US" sz="900" spc="-1" strike="noStrike">
                <a:solidFill>
                  <a:srgbClr val="000000"/>
                </a:solidFill>
                <a:latin typeface="Arial"/>
              </a:rPr>
              <a:t>Problem-Solving: Problem-Oriented Policing in Newport News</a:t>
            </a:r>
            <a:r>
              <a:rPr b="0" lang="en-US" sz="900" spc="-1" strike="noStrike">
                <a:solidFill>
                  <a:srgbClr val="000000"/>
                </a:solidFill>
                <a:latin typeface="Arial"/>
              </a:rPr>
              <a:t>. There, a problem is defined as “a group of incidents occurring in a community, that are similar in </a:t>
            </a:r>
            <a:r>
              <a:rPr b="0" i="1" lang="en-US" sz="900" spc="-1" strike="noStrike">
                <a:solidFill>
                  <a:srgbClr val="000000"/>
                </a:solidFill>
                <a:latin typeface="Arial"/>
              </a:rPr>
              <a:t>one or more ways</a:t>
            </a:r>
            <a:r>
              <a:rPr b="0" lang="en-US" sz="900" spc="-1" strike="noStrike">
                <a:solidFill>
                  <a:srgbClr val="000000"/>
                </a:solidFill>
                <a:latin typeface="Arial"/>
              </a:rPr>
              <a:t> [emphasis added], and that are of concern to the police and the publ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some police agencies where managers pressure officers to solve lots of problems, officers sometimes classify merely interesting or complex incidents as problems. To be sure, the quality of the police service delivered matters more than how it is classified or labeled, but defining every clever, creative or preventive response to an incident drains from the intended meaning of “probl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Scott, Michael (2000).  </a:t>
            </a:r>
            <a:r>
              <a:rPr b="0" i="1" lang="en-US" sz="900" spc="-1" strike="noStrike">
                <a:solidFill>
                  <a:srgbClr val="000000"/>
                </a:solidFill>
                <a:latin typeface="Arial"/>
              </a:rPr>
              <a:t>Problem-Oriented Policing:  Reflections on the First 20 Years</a:t>
            </a:r>
            <a:r>
              <a:rPr b="0" lang="en-US" sz="900" spc="-1" strike="noStrike">
                <a:solidFill>
                  <a:srgbClr val="000000"/>
                </a:solidFill>
                <a:latin typeface="Arial"/>
              </a:rPr>
              <a:t>.  Washington, DC.  U.S. Department of Justice, Office of Community Oriented Policing Servi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popcenter.org/Library/RecommendedReadings/Reflections.pdf</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blem is a recurring set of related harmful events in a community that members of the public expect the police to address. This definition draws attention to the six required elements of a problem: Community, Harm, Expectation, Events, Recurring, and Simila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 Community</a:t>
            </a:r>
            <a:r>
              <a:rPr b="0" lang="en-US" sz="1200" spc="-1" strike="noStrike">
                <a:solidFill>
                  <a:srgbClr val="000000"/>
                </a:solidFill>
                <a:latin typeface="Arial"/>
              </a:rPr>
              <a:t> – Members of the public must experience the harmfu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 – Harmful</a:t>
            </a:r>
            <a:r>
              <a:rPr b="0" lang="en-US" sz="1200" spc="-1" strike="noStrike">
                <a:solidFill>
                  <a:srgbClr val="000000"/>
                </a:solidFill>
                <a:latin typeface="Arial"/>
              </a:rPr>
              <a:t> – People or institutions must suffer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 – Expectation</a:t>
            </a:r>
            <a:r>
              <a:rPr b="0" lang="en-US" sz="1200" spc="-1" strike="noStrike">
                <a:solidFill>
                  <a:srgbClr val="000000"/>
                </a:solidFill>
                <a:latin typeface="Arial"/>
              </a:rPr>
              <a:t> –Some members of the community must expect police to address the causes of the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 – Events</a:t>
            </a:r>
            <a:r>
              <a:rPr b="0" lang="en-US" sz="1200" spc="-1" strike="noStrike">
                <a:solidFill>
                  <a:srgbClr val="000000"/>
                </a:solidFill>
                <a:latin typeface="Arial"/>
              </a:rPr>
              <a:t> – You must be able to describe the type of event that makes up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 – Recurring</a:t>
            </a:r>
            <a:r>
              <a:rPr b="0" lang="en-US" sz="1200" spc="-1" strike="noStrike">
                <a:solidFill>
                  <a:srgbClr val="000000"/>
                </a:solidFill>
                <a:latin typeface="Arial"/>
              </a:rPr>
              <a:t> – These events must re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 – Similarity</a:t>
            </a:r>
            <a:r>
              <a:rPr b="0" lang="en-US" sz="1200" spc="-1" strike="noStrike">
                <a:solidFill>
                  <a:srgbClr val="000000"/>
                </a:solidFill>
                <a:latin typeface="Arial"/>
              </a:rPr>
              <a:t> – The recurring events must have something in com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need to be examined with great specificity (see steps 6 and 15) because small details can make a difference between a set of circumstances that gives rise to harmful events, and a set of circumstances producing harmless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 For further details, see Step 14 of the 60 Steps Guide - 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greatly reduce the time spent searching for information if you tightly define your problem.  Let us say that you are dealing with a rash of vehicle-related thefts in your town.  An Internet search on "car theft" could yield hundreds of "hits" or sources.  It would take too long to scan through all these sources to find the ones most relevant to your particular problem. It is like a crime investigation with too many suspects, not too f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 is important that you focus more specifically.  What kind of car theft are you dealing with: Is it both thefts of cars and from cars, or is it just theft of cars?  Try to focus on the largest component of your problem.  If it is theft of cars, where are these cars being stolen–from the downtown area, from the suburbs or from university campuses?  If from downtown, are most of the thefts from the street or from parking lots? If from parking lots, are these public or private, or from surface lots or decks. And s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your search too narrow (for example, "joyriding thefts from Charlotte downtown lots at night,") might not yield any useful literature because nobody has conducted a study on precisely this topic in this particular place.  So even if this defines your problem exactly, you might have to broaden your search a little to find some relevant literature.  For example, searches for "car thefts from parking lots" or "juvenile joyriding" might yield articles or reports that begin to help you understand your problem and begin to suggest some possible responses, even if most of what you find is not directly relev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ew firm rules about defining your problem to make your search efficient, though it is usually best to begin with a tighter definition and broaden it progressively until you have begun to find relevant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 regulate the targets available, the activities of people and what they can engage in and who controls the location (the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elp to identify potential stake holders and patterns for addressing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specifying behavior helps pinpoint important aspects of harm, intent, and offender/target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elp understand the patterns of opportunity that the environment and behaviors are cr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54D5-9E51-4CC6-82E6-B5959639F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Problem</a:t>
            </a:r>
            <a:r>
              <a:rPr b="1" i="1" lang="en-US" sz="1200" spc="-1" strike="noStrike" u="sng">
                <a:solidFill>
                  <a:srgbClr val="000000"/>
                </a:solidFill>
                <a:uFillTx/>
                <a:latin typeface="Arial"/>
              </a:rPr>
              <a:t>	</a:t>
            </a:r>
            <a:r>
              <a:rPr b="1" i="1" lang="en-US" sz="1200" spc="-1" strike="noStrike" u="sng">
                <a:solidFill>
                  <a:srgbClr val="000000"/>
                </a:solidFill>
                <a:uFillTx/>
                <a:latin typeface="Arial"/>
              </a:rPr>
              <a:t>	</a:t>
            </a:r>
            <a:r>
              <a:rPr b="1" i="1" lang="en-US" sz="1200" spc="-1" strike="noStrike" u="sng">
                <a:solidFill>
                  <a:srgbClr val="000000"/>
                </a:solidFill>
                <a:uFillTx/>
                <a:latin typeface="Arial"/>
              </a:rPr>
              <a:t>	</a:t>
            </a:r>
            <a:r>
              <a:rPr b="1" i="1" lang="en-US" sz="1200" spc="-1" strike="noStrike" u="sng">
                <a:solidFill>
                  <a:srgbClr val="000000"/>
                </a:solidFill>
                <a:uFillTx/>
                <a:latin typeface="Arial"/>
              </a:rPr>
              <a:t>	</a:t>
            </a:r>
            <a:r>
              <a:rPr b="1" i="1" lang="en-US" sz="1200" spc="-1" strike="noStrike" u="sng">
                <a:solidFill>
                  <a:srgbClr val="000000"/>
                </a:solidFill>
                <a:uFillTx/>
                <a:latin typeface="Arial"/>
              </a:rPr>
              <a:t>	</a:t>
            </a:r>
            <a:r>
              <a:rPr b="1" i="1" lang="en-US" sz="1200" spc="-1" strike="noStrike" u="sng">
                <a:solidFill>
                  <a:srgbClr val="000000"/>
                </a:solidFill>
                <a:uFillTx/>
                <a:latin typeface="Arial"/>
              </a:rPr>
              <a:t>	</a:t>
            </a:r>
            <a:r>
              <a:rPr b="1" i="1" lang="en-US" sz="1200" spc="-1" strike="noStrike" u="sng">
                <a:solidFill>
                  <a:srgbClr val="000000"/>
                </a:solidFill>
                <a:uFillTx/>
                <a:latin typeface="Arial"/>
              </a:rPr>
              <a:t>Environment</a:t>
            </a:r>
            <a:r>
              <a:rPr b="1" i="1" lang="en-US" sz="1200" spc="-1" strike="noStrike" u="sng">
                <a:solidFill>
                  <a:srgbClr val="000000"/>
                </a:solidFill>
                <a:uFillTx/>
                <a:latin typeface="Arial"/>
              </a:rPr>
              <a:t>	</a:t>
            </a:r>
            <a:r>
              <a:rPr b="1" i="1" lang="en-US" sz="1200" spc="-1" strike="noStrike" u="sng">
                <a:solidFill>
                  <a:srgbClr val="000000"/>
                </a:solidFill>
                <a:uFillTx/>
                <a:latin typeface="Arial"/>
              </a:rPr>
              <a:t>	</a:t>
            </a:r>
            <a:r>
              <a:rPr b="1" i="1" lang="en-US" sz="1200" spc="-1" strike="noStrike" u="sng">
                <a:solidFill>
                  <a:srgbClr val="000000"/>
                </a:solidFill>
                <a:uFillTx/>
                <a:latin typeface="Arial"/>
              </a:rPr>
              <a:t>Behavi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aults in bar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creationa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fli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site burglaries of hom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ransitiona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da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s at intersection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ublic way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danger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fts from vehicle at a m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ai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datory</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burglary alarms at factori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ustria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use of pol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prostitution in a neighborhoo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ublic way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sensu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imate violence at work</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i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flic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ud parties at an apartment complex</a:t>
            </a:r>
            <a:r>
              <a:rPr b="0" lang="en-US" sz="1200" spc="-1" strike="noStrike">
                <a:solidFill>
                  <a:srgbClr val="000000"/>
                </a:solidFill>
                <a:latin typeface="Arial"/>
              </a:rPr>
              <a:t>	</a:t>
            </a:r>
            <a:r>
              <a:rPr b="0" lang="en-US" sz="1200" spc="-1" strike="noStrike">
                <a:solidFill>
                  <a:srgbClr val="000000"/>
                </a:solidFill>
                <a:latin typeface="Arial"/>
              </a:rPr>
              <a:t>Residentia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civil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bery of bus driver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ranspor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dato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 for Researching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You are familiar with problem-oriented policing</a:t>
            </a:r>
            <a:r>
              <a:rPr b="0" i="1" lang="en-US" sz="1200" spc="-1" strike="noStrike">
                <a:solidFill>
                  <a:srgbClr val="000000"/>
                </a:solidFill>
                <a:latin typeface="Arial"/>
              </a:rPr>
              <a:t> – </a:t>
            </a:r>
            <a:r>
              <a:rPr b="0" lang="en-US" sz="1200" spc="-1" strike="noStrike">
                <a:solidFill>
                  <a:srgbClr val="000000"/>
                </a:solidFill>
                <a:latin typeface="Arial"/>
              </a:rPr>
              <a:t>You should be familiar with problem-solving models, such as SARA (Scanning, Analysis, Response, Assessment).  This module will assist you at the Analysis and Response stages by pointing you to the possible cause of the problem you are tackling and to the ways you might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You are willing to consider new responses to the problem</a:t>
            </a:r>
            <a:r>
              <a:rPr b="0" i="1" lang="en-US" sz="1200" spc="-1" strike="noStrike">
                <a:solidFill>
                  <a:srgbClr val="000000"/>
                </a:solidFill>
                <a:latin typeface="Arial"/>
              </a:rPr>
              <a:t> - </a:t>
            </a:r>
            <a:r>
              <a:rPr b="0" lang="en-US" sz="1200" spc="-1" strike="noStrike">
                <a:solidFill>
                  <a:srgbClr val="000000"/>
                </a:solidFill>
                <a:latin typeface="Arial"/>
              </a:rPr>
              <a:t>Rarely does police enforcement alone solve a persistent problem. To bring a lasting improvement, it is almost always necessary to modify the conditions giving rise to the problem, such as a lack of security or surveillance. Whatever measures you adopt must be carefully matched to the nature of your problem.  Many of the measures are likely to be outside your experience. So, you need to learn about the ones that have been successfully used with the kind of problem you face.  The key is to understand whether lessons learned elsewhere would apply under the conditions that exist for your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You have limited time</a:t>
            </a:r>
            <a:r>
              <a:rPr b="0" i="1" lang="en-US" sz="1200" spc="-1" strike="noStrike">
                <a:solidFill>
                  <a:srgbClr val="000000"/>
                </a:solidFill>
                <a:latin typeface="Arial"/>
              </a:rPr>
              <a:t> – </a:t>
            </a:r>
            <a:r>
              <a:rPr b="0" lang="en-US" sz="1200" spc="-1" strike="noStrike">
                <a:solidFill>
                  <a:srgbClr val="000000"/>
                </a:solidFill>
                <a:latin typeface="Arial"/>
              </a:rPr>
              <a:t>Often you will have limited time to research best practices and you want results quickly. You are not writing an academic paper where you might be faulted for missing a particular article or book. You are simply trying to find information that will help you with the practical task of dealing with your problem.  There are two main categories of information relevant to your task: (1) articles by researchers who have studied the problem you are facing and, (2) reports of police projects dealing with the problem. The first category of information will help you understand the factors giving rise to your problem; the second will help you find effective responses.  Later in the project, you might wish to search for a third category of information: detailed information about a particular response (say, street closures or a publicity campaign) that you would lik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You are not writing a formal literature review</a:t>
            </a:r>
            <a:r>
              <a:rPr b="0" i="1" lang="en-US" sz="1200" spc="-1" strike="noStrike">
                <a:solidFill>
                  <a:srgbClr val="000000"/>
                </a:solidFill>
                <a:latin typeface="Arial"/>
              </a:rPr>
              <a:t> -  </a:t>
            </a:r>
            <a:r>
              <a:rPr b="0" lang="en-US" sz="1200" spc="-1" strike="noStrike">
                <a:solidFill>
                  <a:srgbClr val="000000"/>
                </a:solidFill>
                <a:latin typeface="Arial"/>
              </a:rPr>
              <a:t>Instead, this module will provide some advice about reading the material you find and extracting the information you n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You have Internet access</a:t>
            </a:r>
            <a:r>
              <a:rPr b="0" i="1" lang="en-US" sz="1200" spc="-1" strike="noStrike">
                <a:solidFill>
                  <a:srgbClr val="000000"/>
                </a:solidFill>
                <a:latin typeface="Arial"/>
              </a:rPr>
              <a:t> –</a:t>
            </a:r>
            <a:r>
              <a:rPr b="0" lang="en-US" sz="1200" spc="-1" strike="noStrike">
                <a:solidFill>
                  <a:srgbClr val="000000"/>
                </a:solidFill>
                <a:latin typeface="Arial"/>
              </a:rPr>
              <a:t> This module assumes that you have Internet access and you are familiar with searching for information on the Internet.  The computer you use will need a copy of Adobe Reader, which allows you to read and download articles in portable document format (.pdf) that you find at websites on the Internet.  Unless your computer has a high speed connection, this process of visiting websites and reading and downloading material can be slow and frustrating.  Most computers in libraries have high speed connections and you can usually pay to obtain print copies of the material you have dow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You have library access</a:t>
            </a:r>
            <a:r>
              <a:rPr b="0" i="1" lang="en-US" sz="1200" spc="-1" strike="noStrike">
                <a:solidFill>
                  <a:srgbClr val="000000"/>
                </a:solidFill>
                <a:latin typeface="Arial"/>
              </a:rPr>
              <a:t> - </a:t>
            </a:r>
            <a:r>
              <a:rPr b="0" lang="en-US" sz="1200" spc="-1" strike="noStrike">
                <a:solidFill>
                  <a:srgbClr val="000000"/>
                </a:solidFill>
                <a:latin typeface="Arial"/>
              </a:rPr>
              <a:t>The guide assumes that you have access to a large public library or a university or college library.  Libraries have computers linked to the Internet and paid subscriptions to some on-line sources of information that can be particularly helpful in your research.  In addition, college or university libraries hold large numbers of books and journals that contain information that may be very relevant to your needs, especially if they have a criminal justice program. They also have professional librarians who can point you in the right direction and save you hours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Schultze, P.A. (2005)  Researching a Problem.  Problem-Oriented Guides for Police.  Tools Guides Series No. 2.  Washington, DC: Office of Community-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opcenter.org/Tools/tool-researchingProble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3BF42-2CE0-4625-AA60-126BC436E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4ACE6-B7E2-4A35-8137-F43F39BEC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38815-25CC-4627-91F0-0804F54F0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93869-C280-44F2-AF60-97FF81939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88F75-34A4-4F68-9C71-5A4878082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E1B00-1D97-4B1E-8149-B32345B8D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E462D-6A96-4A0B-B048-018FBB3AE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D6C55-F012-4900-82C9-73CFA5D5C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2CE0-CEA3-4048-AA96-65062B5B6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06CF-612F-4FFC-8B50-C25E722A3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3F1BC-F08E-4BF8-852C-6AA5E8019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E8AE6-2875-417B-A467-FEEBDB6C4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AF2C-F48C-47E6-9680-05F48C0A1C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popcenter.org/" TargetMode="External"/><Relationship Id="rId2" Type="http://schemas.openxmlformats.org/officeDocument/2006/relationships/hyperlink" Target="http://www.cops.usdoj.gov/" TargetMode="External"/><Relationship Id="rId3" Type="http://schemas.openxmlformats.org/officeDocument/2006/relationships/hyperlink" Target="http://www.cops.usdoj.gov/" TargetMode="External"/><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www.scholar.google.com/" TargetMode="External"/><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questia.com/" TargetMode="External"/><Relationship Id="rId2" Type="http://schemas.openxmlformats.org/officeDocument/2006/relationships/hyperlink" Target="http://www.ingenta.com/" TargetMode="External"/><Relationship Id="rId3" Type="http://schemas.openxmlformats.org/officeDocument/2006/relationships/hyperlink" Target="http://www.apa.org/psycinfo)" TargetMode="External"/><Relationship Id="rId4" Type="http://schemas.openxmlformats.org/officeDocument/2006/relationships/hyperlink" Target="http://www.apa.org/psycinfo)" TargetMode="External"/><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rimereduction.gov.uk/"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rand.org/psj" TargetMode="External"/><Relationship Id="rId2" Type="http://schemas.openxmlformats.org/officeDocument/2006/relationships/hyperlink" Target="http://www.rand.org/psj"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7</a:t>
            </a:r>
            <a:endParaRPr b="0" lang="en-US" sz="4000" spc="-1" strike="noStrike">
              <a:solidFill>
                <a:srgbClr val="000000"/>
              </a:solidFill>
              <a:latin typeface="Arial"/>
            </a:endParaRPr>
          </a:p>
        </p:txBody>
      </p:sp>
      <p:sp>
        <p:nvSpPr>
          <p:cNvPr id="49" name=""/>
          <p:cNvSpPr/>
          <p:nvPr/>
        </p:nvSpPr>
        <p:spPr>
          <a:xfrm>
            <a:off x="304920" y="4114800"/>
            <a:ext cx="8534160" cy="20574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ols for Researching Problems</a:t>
            </a:r>
            <a:endParaRPr b="0" lang="en-US" sz="36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CDB473B1-8246-4B41-AD15-F1759498A9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Places to</a:t>
            </a:r>
            <a:br>
              <a:rPr sz="4000"/>
            </a:br>
            <a:r>
              <a:rPr b="1" lang="en-US" sz="4000" spc="-1" strike="noStrike">
                <a:solidFill>
                  <a:srgbClr val="000000"/>
                </a:solidFill>
                <a:latin typeface="Arial"/>
              </a:rPr>
              <a:t> Start Your Researc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enter for Problem-Oriented Policing at </a:t>
            </a:r>
            <a:r>
              <a:rPr b="0" lang="en-US" sz="2800" spc="-1" strike="noStrike" u="sng">
                <a:solidFill>
                  <a:srgbClr val="009999"/>
                </a:solidFill>
                <a:uFillTx/>
                <a:latin typeface="Arial"/>
                <a:hlinkClick r:id="rId1"/>
              </a:rPr>
              <a:t>www.popcenter.or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ffice of Community Oriented Policing Services at </a:t>
            </a:r>
            <a:r>
              <a:rPr b="0" lang="en-US" sz="2800" spc="-1" strike="noStrike" u="sng">
                <a:solidFill>
                  <a:srgbClr val="009999"/>
                </a:solidFill>
                <a:uFillTx/>
                <a:latin typeface="Arial"/>
                <a:hlinkClick r:id="rId2"/>
              </a:rPr>
              <a:t>www.cops.usdoj.gov</a:t>
            </a:r>
            <a:r>
              <a:rPr b="0" lang="en-US" sz="2800" spc="-1" strike="noStrike" u="sng">
                <a:solidFill>
                  <a:srgbClr val="009999"/>
                </a:solidFill>
                <a:uFillTx/>
                <a:latin typeface="Arial"/>
                <a:hlinkClick r:id="rId3"/>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ime Reduction Toolkits at http://www.crimereduction.gov.uk/toolkits/index.ht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0A7C8D3-1DB9-46DA-B4B4-30A75902AA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04560"/>
            <a:ext cx="86868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gin Your Search By </a:t>
            </a:r>
            <a:br>
              <a:rPr sz="4000"/>
            </a:br>
            <a:r>
              <a:rPr b="1" lang="en-US" sz="4000" spc="-1" strike="noStrike">
                <a:solidFill>
                  <a:srgbClr val="000000"/>
                </a:solidFill>
                <a:latin typeface="Arial"/>
              </a:rPr>
              <a:t>Formulating Search Ter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7200" y="1980720"/>
            <a:ext cx="8153280" cy="4419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rase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olean operators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uncation symbols </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ECBCB60E-F89A-4E74-8320-1E3A2B11C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ining Your Searc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roadening Your Sear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using synonyms and keywords that are more gener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using fewer keywor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eed to search using a number of words, search them individually (or possibly in pairs) firs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or" operator and truncation * symbo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wer case, even for proper nouns. This will broaden your search.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241C01A-382A-4629-B19E-D80AF42BD9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ining Your Searc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380880" y="1294920"/>
            <a:ext cx="8305920" cy="53341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rrowing Your Search</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more specific. Evaluate your keywords and synonym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ize when appropriate. Some search engines are case sensitiv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D. The Boolean operator "and" will limit your search to only those occurrences that include both term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hrase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using NOT. The Boolean operator "not" narrows the search by excluding certain wor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2B987F-7216-4011-9989-44801D33E1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line Exercise</a:t>
            </a:r>
            <a:endParaRPr b="0" lang="en-US" sz="4000" spc="-1" strike="noStrike">
              <a:solidFill>
                <a:srgbClr val="000000"/>
              </a:solidFill>
              <a:latin typeface="Arial"/>
            </a:endParaRPr>
          </a:p>
        </p:txBody>
      </p:sp>
      <p:sp>
        <p:nvSpPr>
          <p:cNvPr id="77"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CJRS Online Tutorial can be a useful exercise for students who are not familiar with searching the abstract datab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D3337C-2CDC-4637-A5D8-69FDF794F4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anding Your Internet Search from Your Home or Offi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general search of the Internet using </a:t>
            </a:r>
            <a:r>
              <a:rPr b="0" i="1" lang="en-US" sz="3200" spc="-1" strike="noStrike">
                <a:solidFill>
                  <a:srgbClr val="000000"/>
                </a:solidFill>
                <a:latin typeface="Arial"/>
              </a:rPr>
              <a:t>Google </a:t>
            </a:r>
            <a:r>
              <a:rPr b="0" lang="en-US" sz="3200" spc="-1" strike="noStrike">
                <a:solidFill>
                  <a:srgbClr val="000000"/>
                </a:solidFill>
                <a:latin typeface="Arial"/>
              </a:rPr>
              <a:t>or similar search eng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online archives of some large newspap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online databas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07E0EF-0852-49DB-B517-D3DA2C670B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arching the Internet Using Google (</a:t>
            </a:r>
            <a:r>
              <a:rPr b="0" lang="en-US" sz="4000" spc="-1" strike="noStrike" u="sng">
                <a:solidFill>
                  <a:srgbClr val="009999"/>
                </a:solidFill>
                <a:uFillTx/>
                <a:latin typeface="Arial"/>
                <a:hlinkClick r:id="rId1"/>
              </a:rPr>
              <a:t>www.google.com</a:t>
            </a:r>
            <a:r>
              <a:rPr b="1"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457200" y="2209320"/>
            <a:ext cx="8229600" cy="35053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oogle </a:t>
            </a:r>
            <a:r>
              <a:rPr b="0" lang="en-US" sz="3200" spc="-1" strike="noStrike">
                <a:solidFill>
                  <a:srgbClr val="000000"/>
                </a:solidFill>
                <a:latin typeface="Arial"/>
              </a:rPr>
              <a:t>is considered the premier search tool on the Interne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oogle Scholar </a:t>
            </a:r>
            <a:r>
              <a:rPr b="0" lang="en-US" sz="3200" spc="-1" strike="noStrike">
                <a:solidFill>
                  <a:srgbClr val="000000"/>
                </a:solidFill>
                <a:latin typeface="Arial"/>
              </a:rPr>
              <a:t>(</a:t>
            </a:r>
            <a:r>
              <a:rPr b="0" lang="en-US" sz="3200" spc="-1" strike="noStrike" u="sng">
                <a:solidFill>
                  <a:srgbClr val="009999"/>
                </a:solidFill>
                <a:uFillTx/>
                <a:latin typeface="Arial"/>
                <a:hlinkClick r:id="rId2"/>
              </a:rPr>
              <a:t>www.scholar.google.com</a:t>
            </a:r>
            <a:r>
              <a:rPr b="0" lang="en-US" sz="3200" spc="-1" strike="noStrike" u="sng">
                <a:solidFill>
                  <a:srgbClr val="000000"/>
                </a:solidFill>
                <a:uFillTx/>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0180BC9-2C34-43D2-AEFF-828A124119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line Newspaper Archiv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380880" y="1752480"/>
            <a:ext cx="8229600" cy="4572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an Francisco Chronicl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ashington Pos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ew York Tim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hicago Tribun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F2EB81B-006A-41CA-B3F1-42E34297CE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line Databases</a:t>
            </a:r>
            <a:br>
              <a:rPr sz="4000"/>
            </a:br>
            <a:r>
              <a:rPr b="1" lang="en-US" sz="4000" spc="-1" strike="noStrike">
                <a:solidFill>
                  <a:srgbClr val="000000"/>
                </a:solidFill>
                <a:latin typeface="Arial"/>
              </a:rPr>
              <a:t> </a:t>
            </a:r>
            <a:r>
              <a:rPr b="1" lang="en-US" sz="3200" spc="-1" strike="noStrike">
                <a:solidFill>
                  <a:srgbClr val="000000"/>
                </a:solidFill>
                <a:latin typeface="Arial"/>
              </a:rPr>
              <a:t>(may sometimes require a fe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5" name="PlaceHolder 2"/>
          <p:cNvSpPr>
            <a:spLocks noGrp="1"/>
          </p:cNvSpPr>
          <p:nvPr>
            <p:ph/>
          </p:nvPr>
        </p:nvSpPr>
        <p:spPr>
          <a:xfrm>
            <a:off x="457200" y="2057040"/>
            <a:ext cx="8229600" cy="35053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a (</a:t>
            </a:r>
            <a:r>
              <a:rPr b="0" lang="en-US" sz="3200" spc="-1" strike="noStrike" u="sng">
                <a:solidFill>
                  <a:srgbClr val="009999"/>
                </a:solidFill>
                <a:uFillTx/>
                <a:latin typeface="Arial"/>
                <a:hlinkClick r:id="rId1"/>
              </a:rPr>
              <a:t>www.questia.com</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ta (</a:t>
            </a:r>
            <a:r>
              <a:rPr b="0" lang="en-US" sz="3200" spc="-1" strike="noStrike" u="sng">
                <a:solidFill>
                  <a:srgbClr val="009999"/>
                </a:solidFill>
                <a:uFillTx/>
                <a:latin typeface="Arial"/>
                <a:hlinkClick r:id="rId2"/>
              </a:rPr>
              <a:t>www.ingenta.com</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INFO (</a:t>
            </a:r>
            <a:r>
              <a:rPr b="0" lang="en-US" sz="3200" spc="-1" strike="noStrike" u="sng">
                <a:solidFill>
                  <a:srgbClr val="009999"/>
                </a:solidFill>
                <a:uFillTx/>
                <a:latin typeface="Arial"/>
                <a:hlinkClick r:id="rId3"/>
              </a:rPr>
              <a:t>www.apa.org/psycinfo</a:t>
            </a:r>
            <a:r>
              <a:rPr b="0" lang="en-US" sz="3200" spc="-1" strike="noStrike" u="sng">
                <a:solidFill>
                  <a:srgbClr val="009999"/>
                </a:solidFill>
                <a:uFillTx/>
                <a:latin typeface="Arial"/>
                <a:hlinkClick r:id="rId4"/>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8AC3234-6CC7-42F5-A4DD-F2A20FA624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tting Advi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me Analyst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ice Department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 College or University Faculty</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Exper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441B245-BA49-47B8-8E1D-E40D43CCAE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7 Topic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and Researching Proble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vailable Research Too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E20A5BB-DB16-4576-89AF-7674C0872A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iting a Libra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blic Librarie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versity or College Librarie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480CC7-9A42-478F-88CA-438A99BB5A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Libraries</a:t>
            </a: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 with high speed connections to the Interne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criptions to online databas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Quest, Ebsco, InfoTrac</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library loa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B0F2D59-1A64-4CD4-A3A8-67ECFC83A8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iversity or College Librar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brary's collectio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resourc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inal Justice Abstract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D66D186-8E35-41D2-9618-50A08F87EA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ng Sources of Inform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ademic Article Format</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e</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Recommendations</a:t>
            </a:r>
            <a:endParaRPr b="0" lang="en-US" sz="24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s of Police Projects</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can vary depending on the purpo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D10F82-A0B9-49C5-B778-CE24A9625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tilizing the Inform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7" name="PlaceHolder 2"/>
          <p:cNvSpPr>
            <a:spLocks noGrp="1"/>
          </p:cNvSpPr>
          <p:nvPr>
            <p:ph/>
          </p:nvPr>
        </p:nvSpPr>
        <p:spPr>
          <a:xfrm>
            <a:off x="456840" y="1752120"/>
            <a:ext cx="8458200" cy="480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standing Your Proble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involved?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xactly do they do?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they do this?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they do this?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o they do this?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they carry out the crim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F076BF6-E0B4-4171-AEB8-F5FEE22106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ing a Problem</a:t>
            </a:r>
            <a:endParaRPr b="0" lang="en-US" sz="4400" spc="-1" strike="noStrike">
              <a:solidFill>
                <a:srgbClr val="000000"/>
              </a:solidFill>
              <a:latin typeface="Arial"/>
            </a:endParaRPr>
          </a:p>
        </p:txBody>
      </p:sp>
      <p:sp>
        <p:nvSpPr>
          <p:cNvPr id="99" name=""/>
          <p:cNvSpPr/>
          <p:nvPr/>
        </p:nvSpPr>
        <p:spPr>
          <a:xfrm>
            <a:off x="6161040" y="6477120"/>
            <a:ext cx="28306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1"/>
          <a:stretch/>
        </p:blipFill>
        <p:spPr>
          <a:xfrm>
            <a:off x="838080" y="0"/>
            <a:ext cx="7429680" cy="1359000"/>
          </a:xfrm>
          <a:prstGeom prst="rect">
            <a:avLst/>
          </a:prstGeom>
          <a:ln w="0">
            <a:noFill/>
          </a:ln>
        </p:spPr>
      </p:pic>
      <p:sp>
        <p:nvSpPr>
          <p:cNvPr id="101" name=""/>
          <p:cNvSpPr/>
          <p:nvPr/>
        </p:nvSpPr>
        <p:spPr>
          <a:xfrm>
            <a:off x="228600" y="2187360"/>
            <a:ext cx="8686800" cy="4025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n Tips For Researching a Problem</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eck the </a:t>
            </a:r>
            <a:r>
              <a:rPr b="0" i="1" lang="en-US" sz="2100" spc="-1" strike="noStrike">
                <a:solidFill>
                  <a:srgbClr val="000000"/>
                </a:solidFill>
                <a:latin typeface="Arial"/>
              </a:rPr>
              <a:t>Problem-Oriented Guides for Police Series. </a:t>
            </a:r>
            <a:endParaRPr b="0"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owse the Tilley and Goldstein awards at www.popcenter.org. </a:t>
            </a:r>
            <a:endParaRPr b="0"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owse </a:t>
            </a:r>
            <a:r>
              <a:rPr b="0" lang="en-US" sz="2100" spc="-1" strike="noStrike" u="sng">
                <a:solidFill>
                  <a:srgbClr val="009999"/>
                </a:solidFill>
                <a:uFillTx/>
                <a:latin typeface="Arial"/>
                <a:hlinkClick r:id="rId2"/>
              </a:rPr>
              <a:t>www.crimereduction.gov.uk</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y to get access to </a:t>
            </a:r>
            <a:r>
              <a:rPr b="0" i="1" lang="en-US" sz="2100" spc="-1" strike="noStrike">
                <a:solidFill>
                  <a:srgbClr val="000000"/>
                </a:solidFill>
                <a:latin typeface="Arial"/>
              </a:rPr>
              <a:t>Criminal Justice Abstracts. </a:t>
            </a:r>
            <a:endParaRPr b="0"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sit your local library and speak to a librarian. </a:t>
            </a:r>
            <a:endParaRPr b="0"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a computer with a high-speed Internet connection. </a:t>
            </a:r>
            <a:endParaRPr b="0"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copies of the best articles and reports that you find. </a:t>
            </a:r>
            <a:endParaRPr b="0"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ok for additional material in the reference lists of any useful article. </a:t>
            </a:r>
            <a:endParaRPr b="0"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 a hypothesis about the causes of your problem. </a:t>
            </a:r>
            <a:endParaRPr b="0" lang="en-US" sz="21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Organize information about responses in a summary grid.*</a:t>
            </a:r>
            <a:endParaRPr b="0" lang="en-US" sz="2100" spc="-1" strike="noStrike">
              <a:solidFill>
                <a:srgbClr val="000000"/>
              </a:solidFill>
              <a:latin typeface="Arial"/>
            </a:endParaRPr>
          </a:p>
        </p:txBody>
      </p:sp>
      <p:sp>
        <p:nvSpPr>
          <p:cNvPr id="3" name="PlaceHolder 2"/>
          <p:cNvSpPr>
            <a:spLocks noGrp="1"/>
          </p:cNvSpPr>
          <p:nvPr>
            <p:ph type="sldNum" idx="3"/>
          </p:nvPr>
        </p:nvSpPr>
        <p:spPr/>
        <p:txBody>
          <a:bodyPr/>
          <a:p>
            <a:fld id="{7B884A91-9221-44D8-817D-549A3D5A06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03" name="PlaceHolder 2"/>
          <p:cNvSpPr>
            <a:spLocks noGrp="1"/>
          </p:cNvSpPr>
          <p:nvPr>
            <p:ph/>
          </p:nvPr>
        </p:nvSpPr>
        <p:spPr>
          <a:xfrm>
            <a:off x="228600" y="1294920"/>
            <a:ext cx="8686800" cy="4830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et and online social science databases have made it much easier and faster to find research articles and identify best practic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or college libraries can unearth a wealth of relevant material.</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77420BE-FB7C-403D-B9AC-D3D9A257BE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1</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research article on a specific problem and have the students find the article (perhaps online </a:t>
            </a:r>
            <a:r>
              <a:rPr b="0" lang="en-US" sz="3200" spc="-1" strike="noStrike" u="sng">
                <a:solidFill>
                  <a:srgbClr val="000000"/>
                </a:solidFill>
                <a:uFillTx/>
                <a:latin typeface="Arial"/>
              </a:rPr>
              <a:t>and</a:t>
            </a:r>
            <a:r>
              <a:rPr b="0" lang="en-US" sz="3200" spc="-1" strike="noStrike">
                <a:solidFill>
                  <a:srgbClr val="000000"/>
                </a:solidFill>
                <a:latin typeface="Arial"/>
              </a:rPr>
              <a:t> in the library), copy the article, summarize the contents in one page, and describe the findings in cla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6F9337F-3428-4EB1-81DA-818C97F88A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her Useful Research Websit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6840" y="990720"/>
            <a:ext cx="8381880" cy="58672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riminal Justice Reference Service (NCJRS) Abstracts Database</a:t>
            </a:r>
            <a:r>
              <a:rPr b="1" lang="en-US" sz="2000" spc="-1" strike="noStrike">
                <a:solidFill>
                  <a:srgbClr val="000000"/>
                </a:solidFill>
                <a:latin typeface="Arial"/>
              </a:rPr>
              <a:t> (http://abstractsdb.ncjrs.org)</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n Institute of Criminology</a:t>
            </a:r>
            <a:r>
              <a:rPr b="1" lang="en-US" sz="2000" spc="-1" strike="noStrike">
                <a:solidFill>
                  <a:srgbClr val="000000"/>
                </a:solidFill>
                <a:latin typeface="Arial"/>
              </a:rPr>
              <a:t> (www.aic.gov.a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me Office, United Kingdom (www.homeoffice.gov.uk) </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e Executive Research Forum (PERF) (www.policeforum. org)</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munity Policing Consortium (www.communitypolicing.org)</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lice Foundation (www.policefoundation.org)</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national Association of Chiefs of Police (www.theiacp.org)</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ND (Public Safety and Justice Center) (</a:t>
            </a:r>
            <a:r>
              <a:rPr b="0" lang="en-US" sz="2100" spc="-1" strike="noStrike" u="sng">
                <a:solidFill>
                  <a:srgbClr val="009999"/>
                </a:solidFill>
                <a:uFillTx/>
                <a:latin typeface="Arial"/>
                <a:hlinkClick r:id="rId1"/>
              </a:rPr>
              <a:t>www.rand.org/psj</a:t>
            </a:r>
            <a:r>
              <a:rPr b="0" lang="en-US" sz="2100" spc="-1" strike="noStrike" u="sng">
                <a:solidFill>
                  <a:srgbClr val="009999"/>
                </a:solidFill>
                <a:uFillTx/>
                <a:latin typeface="Arial"/>
                <a:hlinkClick r:id="rId2"/>
              </a:rPr>
              <a:t>)</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ACEEDCD7-27B4-4CCB-BBE6-420C4B5A04C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blem”?</a:t>
            </a:r>
            <a:endParaRPr b="0" lang="en-US" sz="3600" spc="-1" strike="noStrike">
              <a:solidFill>
                <a:srgbClr val="000000"/>
              </a:solidFill>
              <a:latin typeface="Arial"/>
            </a:endParaRPr>
          </a:p>
        </p:txBody>
      </p:sp>
      <p:sp>
        <p:nvSpPr>
          <p:cNvPr id="54"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ossible definition – “a group of incidents occurring in a community, that are similar in </a:t>
            </a:r>
            <a:r>
              <a:rPr b="0" i="1" lang="en-US" sz="3200" spc="-1" strike="noStrike">
                <a:solidFill>
                  <a:srgbClr val="000000"/>
                </a:solidFill>
                <a:latin typeface="Arial"/>
              </a:rPr>
              <a:t>one or more ways</a:t>
            </a:r>
            <a:r>
              <a:rPr b="0" lang="en-US" sz="3200" spc="-1" strike="noStrike">
                <a:solidFill>
                  <a:srgbClr val="000000"/>
                </a:solidFill>
                <a:latin typeface="Arial"/>
              </a:rPr>
              <a:t> [emphasis added], and that are of concern to the police and the publi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can be defined or described in many ways – based on an offense type, the people involved, where and when the problem occurs,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8C3CB1-C327-4FFE-8293-4F801276FC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 Required Elements of a Problem:</a:t>
            </a:r>
            <a:br>
              <a:rPr sz="4000"/>
            </a:br>
            <a:r>
              <a:rPr b="1" lang="en-US" sz="4000" spc="-1" strike="noStrike">
                <a:solidFill>
                  <a:srgbClr val="000000"/>
                </a:solidFill>
                <a:latin typeface="Arial"/>
              </a:rPr>
              <a:t>The CHEERS Test</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t>
            </a:r>
            <a:r>
              <a:rPr b="0" lang="en-US" sz="3200" spc="-1" strike="noStrike">
                <a:solidFill>
                  <a:srgbClr val="000000"/>
                </a:solidFill>
                <a:latin typeface="Arial"/>
              </a:rPr>
              <a:t>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t>
            </a:r>
            <a:r>
              <a:rPr b="0" lang="en-US" sz="3200" spc="-1" strike="noStrike">
                <a:solidFill>
                  <a:srgbClr val="000000"/>
                </a:solidFill>
                <a:latin typeface="Arial"/>
              </a:rPr>
              <a:t>arm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a:t>
            </a:r>
            <a:r>
              <a:rPr b="0" lang="en-US" sz="3200" spc="-1" strike="noStrike">
                <a:solidFill>
                  <a:srgbClr val="000000"/>
                </a:solidFill>
                <a:latin typeface="Arial"/>
              </a:rPr>
              <a:t>xpec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t>
            </a:r>
            <a:r>
              <a:rPr b="0" lang="en-US" sz="3200" spc="-1" strike="noStrike">
                <a:solidFill>
                  <a:srgbClr val="000000"/>
                </a:solidFill>
                <a:latin typeface="Arial"/>
              </a:rPr>
              <a:t>v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t>
            </a:r>
            <a:r>
              <a:rPr b="0" lang="en-US" sz="3200" spc="-1" strike="noStrike">
                <a:solidFill>
                  <a:srgbClr val="000000"/>
                </a:solidFill>
                <a:latin typeface="Arial"/>
              </a:rPr>
              <a:t>ecur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t>
            </a:r>
            <a:r>
              <a:rPr b="0" lang="en-US" sz="3200" spc="-1" strike="noStrike">
                <a:solidFill>
                  <a:srgbClr val="000000"/>
                </a:solidFill>
                <a:latin typeface="Arial"/>
              </a:rPr>
              <a:t>imilar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920C08-FFB0-4FB9-B84D-48BA04535C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ng Your Proble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151920" y="1828800"/>
            <a:ext cx="861084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the largest component of your probl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with a very specific definition and broaden it progressively until you find relevant material. For example:</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 theft from parking lots downtow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 theft from parking lo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 theft from parking facilities (lots and struct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 thef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6A025D1-8509-4069-9091-0C196334D5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ure of Activit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 of problem activity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the comparison of different levels of activ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levels are relate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causes and routine behavior</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riteria</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E271C1F-B260-455F-A72E-20946E2A00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ure of Activity</a:t>
            </a:r>
            <a:endParaRPr b="0" lang="en-US" sz="4400" spc="-1" strike="noStrike">
              <a:solidFill>
                <a:srgbClr val="000000"/>
              </a:solidFill>
              <a:latin typeface="Arial"/>
            </a:endParaRPr>
          </a:p>
        </p:txBody>
      </p:sp>
      <p:sp>
        <p:nvSpPr>
          <p:cNvPr id="62" name="PlaceHolder 2"/>
          <p:cNvSpPr>
            <a:spLocks noGrp="1"/>
          </p:cNvSpPr>
          <p:nvPr>
            <p:ph/>
          </p:nvPr>
        </p:nvSpPr>
        <p:spPr>
          <a:xfrm>
            <a:off x="685440" y="1523880"/>
            <a:ext cx="459108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 </a:t>
            </a: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reat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a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icultu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Ser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W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ransitional</a:t>
            </a:r>
            <a:endParaRPr b="0" lang="en-US" sz="2400" spc="-1" strike="noStrike">
              <a:solidFill>
                <a:srgbClr val="000000"/>
              </a:solidFill>
              <a:latin typeface="Arial"/>
            </a:endParaRPr>
          </a:p>
        </p:txBody>
      </p:sp>
      <p:sp>
        <p:nvSpPr>
          <p:cNvPr id="63" name="PlaceHolder 3"/>
          <p:cNvSpPr>
            <a:spLocks noGrp="1"/>
          </p:cNvSpPr>
          <p:nvPr>
            <p:ph/>
          </p:nvPr>
        </p:nvSpPr>
        <p:spPr>
          <a:xfrm>
            <a:off x="4876560" y="1523880"/>
            <a:ext cx="426708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havior</a:t>
            </a: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ator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nsu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vilit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angerm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use of Police</a:t>
            </a:r>
            <a:endParaRPr b="0" lang="en-US" sz="2400" spc="-1" strike="noStrike">
              <a:solidFill>
                <a:srgbClr val="000000"/>
              </a:solidFill>
              <a:latin typeface="Arial"/>
            </a:endParaRPr>
          </a:p>
        </p:txBody>
      </p:sp>
      <p:sp>
        <p:nvSpPr>
          <p:cNvPr id="5" name="PlaceHolder 4"/>
          <p:cNvSpPr>
            <a:spLocks noGrp="1"/>
          </p:cNvSpPr>
          <p:nvPr>
            <p:ph type="sldNum" idx="3"/>
          </p:nvPr>
        </p:nvSpPr>
        <p:spPr/>
        <p:txBody>
          <a:bodyPr/>
          <a:p>
            <a:fld id="{A0ADE501-34E4-4578-8F80-C13E0856B3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Proble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aults in bar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on site burglaries of ho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s at intersection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fts from vehicle at a mall</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burglary alarms at factori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et prostitution in a neighborhoo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imate violence at work</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d parties at an apartment comple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bery of bus driver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048B8C-3543-4258-85A5-23D8E27748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 Assumptions</a:t>
            </a:r>
            <a:endParaRPr b="0" lang="en-US" sz="4400" spc="-1" strike="noStrike">
              <a:solidFill>
                <a:srgbClr val="000000"/>
              </a:solidFill>
              <a:latin typeface="Arial"/>
            </a:endParaRPr>
          </a:p>
        </p:txBody>
      </p:sp>
      <p:sp>
        <p:nvSpPr>
          <p:cNvPr id="67"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familiar with P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willing to consider new respons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limited time and resourc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not writing a formal literature review.</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Internet acces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library acces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301FF6-E8C7-41E0-91C3-1C8259FA46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11:17Z</dcterms:created>
  <dc:creator>Joe Kuhns</dc:creator>
  <dc:description/>
  <dc:language>en-US</dc:language>
  <cp:lastModifiedBy>Joe Kuhns</cp:lastModifiedBy>
  <dcterms:modified xsi:type="dcterms:W3CDTF">2006-12-18T14:50:46Z</dcterms:modified>
  <cp:revision>93</cp:revision>
  <dc:subject/>
  <dc:title>Slide 1</dc:title>
</cp:coreProperties>
</file>