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4D99-4EF5-415B-A79C-82634908F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www.policeforum.org/"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popcenter.org/library-recommended_readings.htm"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ntroduced in 1993, The Herman Goldstein Award recognizes outstanding police officers and police agencies—both in the United States and around the world—that engage in innovative and effective problem-solving efforts and achieve measurable success in reducing specific crime, disorder, and public safety problems. This international competition is named after the founder of problem-oriented policing, University of Wisconsin emeritus Professor Herman Goldstein and administered by the Center for Problem-Oriented Policing. (The award program was administered by the </a:t>
            </a:r>
            <a:r>
              <a:rPr b="0" lang="en-US" sz="1200" spc="-1" strike="noStrike" u="sng">
                <a:solidFill>
                  <a:srgbClr val="009999"/>
                </a:solidFill>
                <a:uFillTx/>
                <a:latin typeface="Arial"/>
                <a:hlinkClick r:id="rId1"/>
              </a:rPr>
              <a:t>Police Executive Research Forum</a:t>
            </a:r>
            <a:r>
              <a:rPr b="0" lang="en-US" sz="1200" spc="-1" strike="noStrike">
                <a:solidFill>
                  <a:srgbClr val="000000"/>
                </a:solidFill>
                <a:latin typeface="Arial"/>
              </a:rPr>
              <a:t> (PERF) from 1993-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enter for Problem-Oriented Policing, http://www.popcenter.org/library-goldstei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a:t>
            </a:r>
            <a:r>
              <a:rPr b="0" lang="en-US" sz="1200" spc="-1" strike="noStrike">
                <a:solidFill>
                  <a:srgbClr val="000000"/>
                </a:solidFill>
                <a:latin typeface="Arial"/>
              </a:rPr>
              <a:t> - Each title is hyperlinked to the specific guide.  As such, if you have online access, you can pull up any guide that you choose as an example or for purposes of an in-class exercise.  These are useful examples of model POP projects that can be used to illustrate the process and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re are more current award winner examples available at the POP Center website.  The link in the title of this slide will direct you to the Herman Goldstein Award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http://www.popcenter.org/library-goldstein.htm#2004</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illey Award was set up by the U.K. Home Office Policing and Reducing Crime Unit (now the Crime and Policing Group) in 1999 to encourage and recognize good practice in implementing problem-oriented policing (POP). The Award, funded by the Home Office, pays for winners to attend the Annual International Problem-Oriented Policing Conference in San Diego: this usually provides the opportunity for winners to present their project at the conference. The prizes are presented at the annual UK National Problem Oriented Policing Conference.  The Tilley Award is open to all UK police forc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three categories of entry:</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ganizational Support in Police Forces</a:t>
            </a:r>
            <a:r>
              <a:rPr b="0" lang="en-US" sz="900" spc="-1" strike="noStrike">
                <a:solidFill>
                  <a:srgbClr val="000000"/>
                </a:solidFill>
                <a:latin typeface="Arial"/>
              </a:rPr>
              <a:t> - Projects in this category describe work to support front-line problem oriented policing, for example, by freeing up resources, which result in increased problem solving activity, or by demonstrating improvements to problem solving working practice.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me and Disorder Reduction</a:t>
            </a:r>
            <a:r>
              <a:rPr b="0" lang="en-US" sz="900" spc="-1" strike="noStrike">
                <a:solidFill>
                  <a:srgbClr val="000000"/>
                </a:solidFill>
                <a:latin typeface="Arial"/>
              </a:rPr>
              <a:t> - Projects in this category describe work undertaken to reduce specific crime and disorder problems. They can cover the full range of problems encountere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tnership Projects</a:t>
            </a:r>
            <a:r>
              <a:rPr b="0" lang="en-US" sz="900" spc="-1" strike="noStrike">
                <a:solidFill>
                  <a:srgbClr val="000000"/>
                </a:solidFill>
                <a:latin typeface="Arial"/>
              </a:rPr>
              <a:t> - Beginning in 2003, this is a special award to recognize the increasing role that Crime and Disorder Partnerships have in reducing crime and disorder. Entries in this category must show how the project fits into the local crime and disorder reduction strategy and the role and contribution made by each partner. The projects may be concerned with improving partnership performance through a demonstration of improved delivery of POP or may describe work to reduce a specific crime and disorder problem through the use of a multi agency problem oriented approach.</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overall winner is identified in each category, with no runners up.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ain, there are more current award winner examples available at the POP Center website.  The link in the title of this slide will direct you to the Tilley Award pag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Center for Problem-Oriented Policing, http://www.popcenter.org/library-tilley.htm</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 – </a:t>
            </a:r>
            <a:r>
              <a:rPr b="0" lang="en-US" sz="1200" spc="-1" strike="noStrike">
                <a:solidFill>
                  <a:srgbClr val="000000"/>
                </a:solidFill>
                <a:latin typeface="Arial"/>
              </a:rPr>
              <a:t>This online exercise is based on the Street Prostitution problem-specific guide.  It can be used in or out of class (depending on in-class Internet access).  You should have students turn in a copy of the final letter from the Mayor from the “Create My Plan” section of the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for the students - Do the following to complete this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o to www.popcenter.org.  Click the “Learning Center” tab at the top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lick on “Begin the Street Prostitution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nter your email and complete the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nt out the final letter from the mayor in the “Create My Plan” module and turn that in to the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ou will be graded based on the results described in the l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you can complete the exercise more than once if you want to achieve a more positive resu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note that the module takes between 1-2 hours to comple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basic problem-oriented policing principles and methods. The guides are not primers in problem-oriented policing. They deal only briefly with the initial decision to focus on a particular problem, methods to analyze the problem, and means to assess the results of a problem-oriented policing project. They are designed to help police decide how best to analyze and address a problem they have already identified. (An assessment guide has been produced as a companion to this series and the COPS Office has also published an introductory guide to problem analysis. For those who want to learn more about the principles and methods of problem-oriented policing, the assessment and analysis guides, along with other recommended readings, are listed </a:t>
            </a:r>
            <a:r>
              <a:rPr b="0" lang="en-US" sz="1200" spc="-1" strike="noStrike" u="sng">
                <a:solidFill>
                  <a:srgbClr val="009999"/>
                </a:solidFill>
                <a:uFillTx/>
                <a:latin typeface="Arial"/>
                <a:hlinkClick r:id="rId1"/>
              </a:rPr>
              <a:t>here.</a:t>
            </a:r>
            <a:br>
              <a:rPr sz="1200"/>
            </a:br>
            <a:r>
              <a:rPr b="0" lang="en-US" sz="1200" spc="-1" strike="noStrike" u="sng">
                <a:solidFill>
                  <a:srgbClr val="009999"/>
                </a:solidFill>
                <a:uFillTx/>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ook at a problem in depth. Depending on the complexity of the problem, you should be prepared to spend perhaps weeks, or even months, analyzing and responding to it. Carefully studying a problem before responding helps you design the right strategy, one that is most likely to work in your community. You should not blindly adopt the responses others have used; you must decide whether they are appropriate to your local situation. What is true in one place may not be true elsewhere; what works in one place may not work everywher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illing to consider new ways of doing police business. The guides describe responses that other police departments have used or that researchers have tested. While not all of these responses will be appropriate to your particular problem, they should help give a broader view of the kinds of things you could do. You may think you cannot implement some of these responses in your jurisdiction, but perhaps you can. In many places, when police have discovered a more effective response, they have succeeded in having laws and policies changed, improving the response to the probl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the value and the limits of research knowledge. For some types of problems, a lot of useful research is available to the police; for other problems, little is available. Accordingly, some guides in this series summarize existing research whereas other guides illustrate the need for more research on that particular problem. Regardless, research has not provided definitive answers to all the questions you might have about the problem. The research may help get you started in designing your own responses, but it cannot tell you exactly what to do. This will depend greatly on the particular nature of your local problem. In the interest of keeping the guides readable, not every piece of relevant research has been cited, nor has every point been attributed to its sources. To have done so would have overwhelmed and distracted the reader. The references listed at the end of each guide are those drawn on most heavily; they are not a complete bibliography of research on the subjec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illing to work with other community agencies to find effective solutions to the problem. The police alone cannot implement many of the responses discussed in the guides. They must frequently implement them in partnership with other responsible private and public entities. An effective problem-solver must know how to forge genuine partnerships with others and be prepared to invest considerable effort in making these partnerships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uides have drawn on research findings and police practices in the United States, the United Kingdom, Canada, Australia, New Zealand, the Netherlands, and Scandinavia. Even though laws, customs and police practices vary from country to country, it is apparent that the police everywhere experience common problems. In a world that is becoming increasingly interconnected, it is important that police be aware of research and successful practices beyond the borders of their ow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problems-abou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Specific Guides for Police summarize knowledge about how police can reduce the harm caused by specific crime and disorder proble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 Guides summarize the collective knowledge from research and practice about how, and under what conditions, certain common police responses to crime and disorder do and do not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olving Tool Guides explain how various analytical methods and techniques can be applied to improve an understanding of crime and disorder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enter for Problem-Oriented Policing, www.popcenter.or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a:t>
            </a:r>
            <a:r>
              <a:rPr b="0" lang="en-US" sz="1200" spc="-1" strike="noStrike">
                <a:solidFill>
                  <a:srgbClr val="000000"/>
                </a:solidFill>
                <a:latin typeface="Arial"/>
              </a:rPr>
              <a:t> - Each title is hyperlinked to the specific guide.  As such, if you have online access, you can pull up any guide that you choose as an example or for purposes of an in-class exercise.  In addition, these lists of guides are not comprehensive because new guides are in development all the time.  As such, you may want to update this list at the beginning of each course/semester using the links in the titles of the following 4-5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problem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a:t>
            </a:r>
            <a:r>
              <a:rPr b="0" lang="en-US" sz="1200" spc="-1" strike="noStrike">
                <a:solidFill>
                  <a:srgbClr val="000000"/>
                </a:solidFill>
                <a:latin typeface="Arial"/>
              </a:rPr>
              <a:t> - Each title is hyperlinked to the specific guide.  As such, if you have online access, you can pull up any guide that you choose as an example or for purposes of an in-class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problem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a:t>
            </a:r>
            <a:r>
              <a:rPr b="0" lang="en-US" sz="1200" spc="-1" strike="noStrike">
                <a:solidFill>
                  <a:srgbClr val="000000"/>
                </a:solidFill>
                <a:latin typeface="Arial"/>
              </a:rPr>
              <a:t> - Each title is hyperlinked to the specific guide.  As such, if you have online access, you can pull up any guide that you choose as an example or for purposes of an in-class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problem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a:t>
            </a:r>
            <a:r>
              <a:rPr b="0" lang="en-US" sz="1200" spc="-1" strike="noStrike">
                <a:solidFill>
                  <a:srgbClr val="000000"/>
                </a:solidFill>
                <a:latin typeface="Arial"/>
              </a:rPr>
              <a:t> - Each title is hyperlinked to the specific guide.  As such, if you have online access, you can pull up any guide that you choose as an example or for purposes of an in-class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http://www.popcenter.org/respons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a:t>
            </a:r>
            <a:r>
              <a:rPr b="0" lang="en-US" sz="1200" spc="-1" strike="noStrike">
                <a:solidFill>
                  <a:srgbClr val="000000"/>
                </a:solidFill>
                <a:latin typeface="Arial"/>
              </a:rPr>
              <a:t> - Each title is hyperlinked to the specific guide.  As such, if you have online access, you can pull up any guide that you choose as an example or for purposes of an in-class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http://www.popcenter.org/tool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802C3-64B6-4C03-948D-D33050A55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2EE2A-C6E3-4869-B2DD-6E9B88BF2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1009E-4559-416F-A3B2-743036FC8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53BBC-F0FF-4B9B-8E5B-97C743CCC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2C143-2DA2-4050-BDE0-E2097F61D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3CD22-04AC-40E7-8B7F-0883BF8A3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E9D7D-BB3D-49A4-B49A-4873145DD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3C950-F2DD-45ED-8A87-518159532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5A833-1C62-4BFD-A2CE-B4AF05E4C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1D99-8656-4D25-9E56-755AC1190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AAFD6-992C-454C-92D1-CA78D93AC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7A20-C2DC-403C-9FB5-4BB035822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3D95-9EF9-42D9-A685-A027502C3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popcenter.org/Library/Goldstein/2004/04-38(W).pdf" TargetMode="External"/><Relationship Id="rId2" Type="http://schemas.openxmlformats.org/officeDocument/2006/relationships/hyperlink" Target="http://www.popcenter.org/Library/Goldstein/2004/04-38(W).pdf" TargetMode="External"/><Relationship Id="rId3" Type="http://schemas.openxmlformats.org/officeDocument/2006/relationships/hyperlink" Target="http://www.popcenter.org/Library/Goldstein/2004/04-24(F).pdf" TargetMode="External"/><Relationship Id="rId4" Type="http://schemas.openxmlformats.org/officeDocument/2006/relationships/hyperlink" Target="http://www.popcenter.org/Library/Goldstein/2004/04-24(F).pdf" TargetMode="External"/><Relationship Id="rId5" Type="http://schemas.openxmlformats.org/officeDocument/2006/relationships/hyperlink" Target="http://www.popcenter.org/Library/Goldstein/2004/04-24(F).pdf" TargetMode="External"/><Relationship Id="rId6" Type="http://schemas.openxmlformats.org/officeDocument/2006/relationships/hyperlink" Target="http://www.popcenter.org/Library/Goldstein/2004/04-24(F).pdf" TargetMode="External"/><Relationship Id="rId7" Type="http://schemas.openxmlformats.org/officeDocument/2006/relationships/hyperlink" Target="http://www.popcenter.org/library-goldstein.htm#2004" TargetMode="External"/><Relationship Id="rId8" Type="http://schemas.openxmlformats.org/officeDocument/2006/relationships/hyperlink" Target="http://www.popcenter.org/library-goldstein.htm#2004" TargetMode="External"/><Relationship Id="rId9" Type="http://schemas.openxmlformats.org/officeDocument/2006/relationships/hyperlink" Target="http://www.popcenter.org/library-goldstein.htm#2004" TargetMode="External"/><Relationship Id="rId10" Type="http://schemas.openxmlformats.org/officeDocument/2006/relationships/hyperlink" Target="http://www.popcenter.org/library-goldstein.htm#2004" TargetMode="External"/><Relationship Id="rId11" Type="http://schemas.openxmlformats.org/officeDocument/2006/relationships/hyperlink" Target="http://www.popcenter.org/library-goldstein.htm#2004" TargetMode="External"/><Relationship Id="rId12" Type="http://schemas.openxmlformats.org/officeDocument/2006/relationships/hyperlink" Target="http://www.popcenter.org/library-goldstein.htm#2004" TargetMode="External"/><Relationship Id="rId13" Type="http://schemas.openxmlformats.org/officeDocument/2006/relationships/hyperlink" Target="http://www.popcenter.org/library-goldstein.htm#2004" TargetMode="External"/><Relationship Id="rId14" Type="http://schemas.openxmlformats.org/officeDocument/2006/relationships/slideLayout" Target="../slideLayouts/slideLayout3.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popcenter.org/learning/prostitution/intro/default.cfm" TargetMode="External"/><Relationship Id="rId2" Type="http://schemas.openxmlformats.org/officeDocument/2006/relationships/hyperlink" Target="http://www.popcenter.org/learning/prostitution/intro/default.cfm"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opcenter.org/Problems/problem-assaults.htm" TargetMode="External"/><Relationship Id="rId2" Type="http://schemas.openxmlformats.org/officeDocument/2006/relationships/hyperlink" Target="http://www.popcenter.org/Problems/problem-acquaintance.htm" TargetMode="External"/><Relationship Id="rId3" Type="http://schemas.openxmlformats.org/officeDocument/2006/relationships/hyperlink" Target="http://www.popcenter.org/Problems/problem-bomb_threats.htm" TargetMode="External"/><Relationship Id="rId4" Type="http://schemas.openxmlformats.org/officeDocument/2006/relationships/hyperlink" Target="http://www.popcenter.org/Problems/problem-bullying.htm" TargetMode="External"/><Relationship Id="rId5" Type="http://schemas.openxmlformats.org/officeDocument/2006/relationships/hyperlink" Target="http://www.popcenter.org/Problems/problem-burglary-retail.htm" TargetMode="External"/><Relationship Id="rId6" Type="http://schemas.openxmlformats.org/officeDocument/2006/relationships/hyperlink" Target="http://www.popcenter.org/Problems/problem-burglary-family.htm" TargetMode="External"/><Relationship Id="rId7" Type="http://schemas.openxmlformats.org/officeDocument/2006/relationships/hyperlink" Target="http://www.popcenter.org/Problems/problem-check-card-fraud.htm" TargetMode="External"/><Relationship Id="rId8" Type="http://schemas.openxmlformats.org/officeDocument/2006/relationships/hyperlink" Target="http://www.popcenter.org/Problems/problem-druglabs.htm" TargetMode="External"/><Relationship Id="rId9" Type="http://schemas.openxmlformats.org/officeDocument/2006/relationships/hyperlink" Target="http://www.popcenter.org/Problems/problem-crimes_tourists.htm" TargetMode="External"/><Relationship Id="rId10" Type="http://schemas.openxmlformats.org/officeDocument/2006/relationships/hyperlink" Target="http://www.popcenter.org/Problems/problem-cruising.htm" TargetMode="External"/><Relationship Id="rId11" Type="http://schemas.openxmlformats.org/officeDocument/2006/relationships/hyperlink" Target="http://www.popcenter.org/Problems/problem-budget_motels.htm" TargetMode="External"/><Relationship Id="rId12" Type="http://schemas.openxmlformats.org/officeDocument/2006/relationships/hyperlink" Target="http://www.popcenter.org/Problems/problem-disorderly_youth.htm" TargetMode="External"/><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opcenter.org/problems/" TargetMode="External"/><Relationship Id="rId2" Type="http://schemas.openxmlformats.org/officeDocument/2006/relationships/hyperlink" Target="http://www.popcenter.org/Problems/problem-drug_open_markets.htm" TargetMode="External"/><Relationship Id="rId3" Type="http://schemas.openxmlformats.org/officeDocument/2006/relationships/hyperlink" Target="http://www.popcenter.org/Problems/problem-dealing-private.htm" TargetMode="External"/><Relationship Id="rId4" Type="http://schemas.openxmlformats.org/officeDocument/2006/relationships/hyperlink" Target="http://www.popcenter.org/Problems/problem-drunk_driving.htm" TargetMode="External"/><Relationship Id="rId5" Type="http://schemas.openxmlformats.org/officeDocument/2006/relationships/hyperlink" Target="http://www.popcenter.org/Problems/problem-false-alarms.htm" TargetMode="External"/><Relationship Id="rId6" Type="http://schemas.openxmlformats.org/officeDocument/2006/relationships/hyperlink" Target="http://www.popcenter.org/Problems/problem-financial_crimes.htm" TargetMode="External"/><Relationship Id="rId7" Type="http://schemas.openxmlformats.org/officeDocument/2006/relationships/hyperlink" Target="http://www.popcenter.org/Problems/problem-graffiti.htm" TargetMode="External"/><Relationship Id="rId8" Type="http://schemas.openxmlformats.org/officeDocument/2006/relationships/hyperlink" Target="http://www.popcenter.org/Problems/problem-gun_violence.htm" TargetMode="External"/><Relationship Id="rId9" Type="http://schemas.openxmlformats.org/officeDocument/2006/relationships/hyperlink" Target="http://www.popcenter.org/Problems/problem-identity_theft.htm" TargetMode="External"/><Relationship Id="rId10" Type="http://schemas.openxmlformats.org/officeDocument/2006/relationships/hyperlink" Target="http://www.popcenter.org/Problems/problem-illicit_sex.htm" TargetMode="External"/><Relationship Id="rId11" Type="http://schemas.openxmlformats.org/officeDocument/2006/relationships/hyperlink" Target="http://www.popcenter.org/Problems/problem-car-stereos.htm" TargetMode="External"/><Relationship Id="rId12" Type="http://schemas.openxmlformats.org/officeDocument/2006/relationships/hyperlink" Target="http://www.popcenter.org/Problems/problem-misuse-911.htm" TargetMode="External"/><Relationship Id="rId13" Type="http://schemas.openxmlformats.org/officeDocument/2006/relationships/hyperlink" Target="http://www.popcenter.org/Problems/problem-panhandling.htm" TargetMode="External"/><Relationship Id="rId14" Type="http://schemas.openxmlformats.org/officeDocument/2006/relationships/slideLayout" Target="../slideLayouts/slideLayout3.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opcenter.org/problems/" TargetMode="External"/><Relationship Id="rId2" Type="http://schemas.openxmlformats.org/officeDocument/2006/relationships/hyperlink" Target="http://www.popcenter.org/Problems/problem-prescription-fraud.htm" TargetMode="External"/><Relationship Id="rId3" Type="http://schemas.openxmlformats.org/officeDocument/2006/relationships/hyperlink" Target="http://www.popcenter.org/Problems/problem-rave_parties.htm" TargetMode="External"/><Relationship Id="rId4" Type="http://schemas.openxmlformats.org/officeDocument/2006/relationships/hyperlink" Target="http://www.popcenter.org/Problems/problem-robbery_ATMs.htm" TargetMode="External"/><Relationship Id="rId5" Type="http://schemas.openxmlformats.org/officeDocument/2006/relationships/hyperlink" Target="http://www.popcenter.org/Problems/problem-taxi_robberies.htm" TargetMode="External"/><Relationship Id="rId6" Type="http://schemas.openxmlformats.org/officeDocument/2006/relationships/hyperlink" Target="http://www.popcenter.org/Problems/problem-vandalism.htm" TargetMode="External"/><Relationship Id="rId7" Type="http://schemas.openxmlformats.org/officeDocument/2006/relationships/hyperlink" Target="http://www.popcenter.org/Problems/problem-shoplifting.htm" TargetMode="External"/><Relationship Id="rId8" Type="http://schemas.openxmlformats.org/officeDocument/2006/relationships/hyperlink" Target="http://www.popcenter.org/Problems/problem-speeding.htm" TargetMode="External"/><Relationship Id="rId9" Type="http://schemas.openxmlformats.org/officeDocument/2006/relationships/hyperlink" Target="http://www.popcenter.org/Problems/problem-stalking.htm" TargetMode="External"/><Relationship Id="rId10" Type="http://schemas.openxmlformats.org/officeDocument/2006/relationships/hyperlink" Target="http://www.popcenter.org/Problems/problem-street_prostitution.htm" TargetMode="External"/><Relationship Id="rId11" Type="http://schemas.openxmlformats.org/officeDocument/2006/relationships/hyperlink" Target="http://www.popcenter.org/Problems/problem-street_racing.htm" TargetMode="External"/><Relationship Id="rId12" Type="http://schemas.openxmlformats.org/officeDocument/2006/relationships/hyperlink" Target="http://www.popcenter.org/Problems/problem-theft_cars.htm" TargetMode="External"/><Relationship Id="rId13" Type="http://schemas.openxmlformats.org/officeDocument/2006/relationships/hyperlink" Target="http://www.popcenter.org/Problems/problem-underage-drinking.htm" TargetMode="External"/><Relationship Id="rId14" Type="http://schemas.openxmlformats.org/officeDocument/2006/relationships/slideLayout" Target="../slideLayouts/slideLayout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popcenter.org/Responses/response-crackdowns.htm" TargetMode="External"/><Relationship Id="rId2" Type="http://schemas.openxmlformats.org/officeDocument/2006/relationships/hyperlink" Target="http://www.popcenter.org/Responses/response-closing_streets.htm" TargetMode="External"/><Relationship Id="rId3" Type="http://schemas.openxmlformats.org/officeDocument/2006/relationships/hyperlink" Target="http://www.popcenter.org/Responses/response-responsibility.htm" TargetMode="External"/><Relationship Id="rId4" Type="http://schemas.openxmlformats.org/officeDocument/2006/relationships/hyperlink" Target="http://www.popcenter.org/Responses/response-surveillance.htm" TargetMode="External"/><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popcenter.org/Tools/tool-assessing.htm" TargetMode="External"/><Relationship Id="rId2" Type="http://schemas.openxmlformats.org/officeDocument/2006/relationships/hyperlink" Target="http://www.popcenter.org/Tools/tool-interviewingOffenders.htm" TargetMode="External"/><Relationship Id="rId3" Type="http://schemas.openxmlformats.org/officeDocument/2006/relationships/hyperlink" Target="http://www.popcenter.org/Tools/tool-researchingProblem.htm" TargetMode="External"/><Relationship Id="rId4" Type="http://schemas.openxmlformats.org/officeDocument/2006/relationships/hyperlink" Target="http://www.popcenter.org/Tools/tool-repeatVictimization.htm" TargetMode="External"/><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8</a:t>
            </a:r>
            <a:endParaRPr b="0" lang="en-US" sz="4000" spc="-1" strike="noStrike">
              <a:solidFill>
                <a:srgbClr val="000000"/>
              </a:solidFill>
              <a:latin typeface="Arial"/>
            </a:endParaRPr>
          </a:p>
        </p:txBody>
      </p:sp>
      <p:sp>
        <p:nvSpPr>
          <p:cNvPr id="49" name=""/>
          <p:cNvSpPr/>
          <p:nvPr/>
        </p:nvSpPr>
        <p:spPr>
          <a:xfrm>
            <a:off x="1295280" y="3962520"/>
            <a:ext cx="708660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 Resources</a:t>
            </a:r>
            <a:endParaRPr b="0" lang="en-US" sz="32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5071C424-0545-49BB-BECD-9FA040D734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560"/>
            <a:ext cx="861048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Herman Goldstein Award for Excellence in Problem-Oriented Policing</a:t>
            </a:r>
            <a:endParaRPr b="0" lang="en-US" sz="3400" spc="-1" strike="noStrike">
              <a:solidFill>
                <a:srgbClr val="000000"/>
              </a:solidFill>
              <a:latin typeface="Arial"/>
            </a:endParaRPr>
          </a:p>
        </p:txBody>
      </p:sp>
      <p:sp>
        <p:nvSpPr>
          <p:cNvPr id="6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ldstein Awards recognize innovative and effective problem-oriented policing (POP) projects that have achieved measurable success in resolving recurring specific crime, disorder or public safety problems faced by police and the community.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4856E55-34B6-4A96-B20E-4E7E9D65F5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man Goldstein Award Examples</a:t>
            </a:r>
            <a:endParaRPr b="0" lang="en-US" sz="2800" spc="-1" strike="noStrike">
              <a:solidFill>
                <a:srgbClr val="000000"/>
              </a:solidFill>
              <a:latin typeface="Arial"/>
            </a:endParaRPr>
          </a:p>
        </p:txBody>
      </p:sp>
      <p:sp>
        <p:nvSpPr>
          <p:cNvPr id="70" name="PlaceHolder 2"/>
          <p:cNvSpPr>
            <a:spLocks noGrp="1"/>
          </p:cNvSpPr>
          <p:nvPr>
            <p:ph/>
          </p:nvPr>
        </p:nvSpPr>
        <p:spPr>
          <a:xfrm>
            <a:off x="380880" y="1523880"/>
            <a:ext cx="82296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Operation Cobra: Tackling Vehicle Crime in the City of Portsmouth, England, Using a Problem Solving Approach - </a:t>
            </a:r>
            <a:r>
              <a:rPr b="0" lang="en-US" sz="2400" spc="-1" strike="noStrike" u="sng">
                <a:solidFill>
                  <a:srgbClr val="009999"/>
                </a:solidFill>
                <a:uFillTx/>
                <a:latin typeface="Arial"/>
                <a:hlinkClick r:id="rId2"/>
              </a:rPr>
              <a:t>Hampshire Constabulary, United Kingdom, 2004 Winner</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 </a:t>
            </a:r>
            <a:r>
              <a:rPr b="0" lang="en-US" sz="2800" spc="-1" strike="noStrike" u="sng">
                <a:solidFill>
                  <a:srgbClr val="009999"/>
                </a:solidFill>
                <a:uFillTx/>
                <a:latin typeface="Arial"/>
                <a:hlinkClick r:id="rId4"/>
              </a:rPr>
              <a:t>Mole Hills from Mountains - </a:t>
            </a:r>
            <a:r>
              <a:rPr b="0" lang="en-US" sz="2400" spc="-1" strike="noStrike" u="sng">
                <a:solidFill>
                  <a:srgbClr val="009999"/>
                </a:solidFill>
                <a:uFillTx/>
                <a:latin typeface="Arial"/>
                <a:hlinkClick r:id="rId5"/>
              </a:rPr>
              <a:t>Lancashire Constabulary, United Kingdom, 2004 Finalist</a:t>
            </a:r>
            <a:r>
              <a:rPr b="0" lang="en-US" sz="2800" spc="-1" strike="noStrike" u="sng">
                <a:solidFill>
                  <a:srgbClr val="009999"/>
                </a:solidFill>
                <a:uFillTx/>
                <a:latin typeface="Arial"/>
                <a:hlinkClick r:id="rId6"/>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It Takes a Village..</a:t>
            </a:r>
            <a:r>
              <a:rPr b="0" lang="en-US" sz="2800" spc="-1" strike="noStrike" u="sng">
                <a:solidFill>
                  <a:srgbClr val="009999"/>
                </a:solidFill>
                <a:uFillTx/>
                <a:latin typeface="Arial"/>
                <a:hlinkClick r:id="rId8"/>
              </a:rPr>
              <a:t>.</a:t>
            </a:r>
            <a:r>
              <a:rPr b="0" lang="en-US" sz="2800" spc="-1" strike="noStrike" u="sng">
                <a:solidFill>
                  <a:srgbClr val="009999"/>
                </a:solidFill>
                <a:uFillTx/>
                <a:latin typeface="Arial"/>
                <a:hlinkClick r:id="rId9"/>
              </a:rPr>
              <a:t>Reducing Traffic Congestion Around Barron Early Childhood School - </a:t>
            </a:r>
            <a:r>
              <a:rPr b="0" lang="en-US" sz="2400" spc="-1" strike="noStrike" u="sng">
                <a:solidFill>
                  <a:srgbClr val="009999"/>
                </a:solidFill>
                <a:uFillTx/>
                <a:latin typeface="Arial"/>
                <a:hlinkClick r:id="rId10"/>
              </a:rPr>
              <a:t>Plano Police Department, TX,</a:t>
            </a:r>
            <a:r>
              <a:rPr b="0" lang="en-US" sz="2800" spc="-1" strike="noStrike" u="sng">
                <a:solidFill>
                  <a:srgbClr val="009999"/>
                </a:solidFill>
                <a:uFillTx/>
                <a:latin typeface="Arial"/>
                <a:hlinkClick r:id="rId11"/>
              </a:rPr>
              <a:t> </a:t>
            </a:r>
            <a:r>
              <a:rPr b="0" lang="en-US" sz="2400" spc="-1" strike="noStrike" u="sng">
                <a:solidFill>
                  <a:srgbClr val="009999"/>
                </a:solidFill>
                <a:uFillTx/>
                <a:latin typeface="Arial"/>
                <a:hlinkClick r:id="rId12"/>
              </a:rPr>
              <a:t>2004 Finalist.</a:t>
            </a:r>
            <a:r>
              <a:rPr b="0" lang="en-US" sz="2800" spc="-1" strike="noStrike" u="sng">
                <a:solidFill>
                  <a:srgbClr val="009999"/>
                </a:solidFill>
                <a:uFillTx/>
                <a:latin typeface="Arial"/>
                <a:hlinkClick r:id="rId13"/>
              </a:rPr>
              <a:t> </a:t>
            </a:r>
            <a:endParaRPr b="0" lang="en-US" sz="2800" spc="-1" strike="noStrike">
              <a:solidFill>
                <a:srgbClr val="000000"/>
              </a:solidFill>
              <a:latin typeface="Arial"/>
            </a:endParaRPr>
          </a:p>
        </p:txBody>
      </p:sp>
      <p:sp>
        <p:nvSpPr>
          <p:cNvPr id="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B36349-586B-4F6E-87A9-CE1D89538F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Tilley Awards (UK)</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lley Awards promotes best practice in tackling crime and anti-social behavior by recognizing initiatives that reduce crime over the long term, not just by making arrests, but by working with local agencies to tackle the root causes of the problem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433A7C-5DC7-4361-B847-2878EDD150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
              </a:rPr>
              <a:t>Online Exercise - Street Prostitution Interactive Module</a:t>
            </a:r>
            <a:endParaRPr b="0" lang="en-US" sz="2600" spc="-1" strike="noStrike">
              <a:solidFill>
                <a:srgbClr val="000000"/>
              </a:solidFill>
              <a:latin typeface="Arial"/>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8" name="" descr="">
            <a:hlinkClick r:id="rId2"/>
          </p:cNvPr>
          <p:cNvPicPr/>
          <p:nvPr/>
        </p:nvPicPr>
        <p:blipFill>
          <a:blip r:embed="rId3"/>
          <a:srcRect l="16405" t="12502" r="17970" b="11458"/>
          <a:stretch/>
        </p:blipFill>
        <p:spPr>
          <a:xfrm>
            <a:off x="533520" y="887400"/>
            <a:ext cx="8076960" cy="5894280"/>
          </a:xfrm>
          <a:prstGeom prst="rect">
            <a:avLst/>
          </a:prstGeom>
          <a:ln w="0">
            <a:noFill/>
          </a:ln>
        </p:spPr>
      </p:pic>
      <p:sp>
        <p:nvSpPr>
          <p:cNvPr id="3" name="PlaceHolder 2"/>
          <p:cNvSpPr>
            <a:spLocks noGrp="1"/>
          </p:cNvSpPr>
          <p:nvPr>
            <p:ph type="sldNum" idx="3"/>
          </p:nvPr>
        </p:nvSpPr>
        <p:spPr/>
        <p:txBody>
          <a:bodyPr/>
          <a:p>
            <a:fld id="{BE3FFF38-A006-4304-8C98-35359B062F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fficer Exercise</a:t>
            </a:r>
            <a:endParaRPr b="0" lang="en-US" sz="5400" spc="-1" strike="noStrike">
              <a:solidFill>
                <a:srgbClr val="000000"/>
              </a:solidFill>
              <a:latin typeface="Arial"/>
            </a:endParaRPr>
          </a:p>
        </p:txBody>
      </p:sp>
      <p:sp>
        <p:nvSpPr>
          <p:cNvPr id="80" name="PlaceHolder 2"/>
          <p:cNvSpPr>
            <a:spLocks noGrp="1"/>
          </p:cNvSpPr>
          <p:nvPr>
            <p:ph/>
          </p:nvPr>
        </p:nvSpPr>
        <p:spPr>
          <a:xfrm>
            <a:off x="533520" y="1447920"/>
            <a:ext cx="82296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 persistent problem in your jurisdic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re is already POP Guide that addresses that problem (or one is comparable to it) use it as a reference and develop an implementation plan for a comparable POP project in your commun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B49BC13-6063-47BB-9972-3C392865534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8 Topic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pecific Guides for Pol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Gu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 Tools Gu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stein Award Pro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ley Aw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et Prostitution Modu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DBE48F-386C-41DD-87D8-07B92CFCD0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out the POP Guide Seri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fontScale="95000"/>
          </a:bodyPr>
          <a:p>
            <a:pPr marL="434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guides are most useful to students/officers who:</a:t>
            </a:r>
            <a:endParaRPr b="0" lang="en-US" sz="2600" spc="-1" strike="noStrike">
              <a:solidFill>
                <a:srgbClr val="000000"/>
              </a:solidFill>
              <a:latin typeface="Arial"/>
            </a:endParaRPr>
          </a:p>
          <a:p>
            <a:pPr marL="4341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34160" indent="-434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basic problem-oriented policing principles and methods</a:t>
            </a:r>
            <a:endParaRPr b="0" lang="en-US" sz="2400" spc="-1" strike="noStrike">
              <a:solidFill>
                <a:srgbClr val="000000"/>
              </a:solidFill>
              <a:latin typeface="Arial"/>
            </a:endParaRPr>
          </a:p>
          <a:p>
            <a:pPr marL="4341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34160" indent="-434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look at a problem in depth</a:t>
            </a:r>
            <a:endParaRPr b="0" lang="en-US" sz="2600" spc="-1" strike="noStrike">
              <a:solidFill>
                <a:srgbClr val="000000"/>
              </a:solidFill>
              <a:latin typeface="Arial"/>
            </a:endParaRPr>
          </a:p>
          <a:p>
            <a:pPr marL="43416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34160" indent="-434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willing to consider new ways of doing police business.</a:t>
            </a:r>
            <a:endParaRPr b="0" lang="en-US" sz="2600" spc="-1" strike="noStrike">
              <a:solidFill>
                <a:srgbClr val="000000"/>
              </a:solidFill>
              <a:latin typeface="Arial"/>
            </a:endParaRPr>
          </a:p>
          <a:p>
            <a:pPr marL="43416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34160" indent="-434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value and the limits of research knowledge.</a:t>
            </a:r>
            <a:endParaRPr b="0" lang="en-US" sz="2600" spc="-1" strike="noStrike">
              <a:solidFill>
                <a:srgbClr val="000000"/>
              </a:solidFill>
              <a:latin typeface="Arial"/>
            </a:endParaRPr>
          </a:p>
          <a:p>
            <a:pPr marL="43416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34160" indent="-4341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e willing to work with other community agencies to find effective solutions to the problem.</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1396A55-487C-427E-A1F6-FE57C8286C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Oriented Guides for Police (POP Guides)</a:t>
            </a:r>
            <a:endParaRPr b="0" lang="en-US" sz="4400" spc="-1" strike="noStrike">
              <a:solidFill>
                <a:srgbClr val="000000"/>
              </a:solidFill>
              <a:latin typeface="Arial"/>
            </a:endParaRPr>
          </a:p>
        </p:txBody>
      </p:sp>
      <p:sp>
        <p:nvSpPr>
          <p:cNvPr id="5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Specific Guide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ponse Guide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Solving Tool Guide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EE987DDA-A478-41D0-A29C-0189C6A7AB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blem-Specific Guides</a:t>
            </a:r>
            <a:endParaRPr b="0" lang="en-US" sz="4000" spc="-1" strike="noStrike">
              <a:solidFill>
                <a:srgbClr val="000000"/>
              </a:solidFill>
              <a:latin typeface="Arial"/>
            </a:endParaRPr>
          </a:p>
        </p:txBody>
      </p:sp>
      <p:sp>
        <p:nvSpPr>
          <p:cNvPr id="58" name="PlaceHolder 2"/>
          <p:cNvSpPr>
            <a:spLocks noGrp="1"/>
          </p:cNvSpPr>
          <p:nvPr>
            <p:ph/>
          </p:nvPr>
        </p:nvSpPr>
        <p:spPr>
          <a:xfrm>
            <a:off x="380520" y="1219320"/>
            <a:ext cx="8458200" cy="5333760"/>
          </a:xfrm>
          <a:prstGeom prst="rect">
            <a:avLst/>
          </a:prstGeom>
          <a:noFill/>
          <a:ln w="0">
            <a:noFill/>
          </a:ln>
        </p:spPr>
        <p:txBody>
          <a:bodyPr lIns="90000" rIns="90000" tIns="46800" bIns="46800" anchor="t">
            <a:normAutofit/>
          </a:bodyPr>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
              </a:rPr>
              <a:t>Assaults in and Around Bar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2"/>
              </a:rPr>
              <a:t>Acquaintance Rape of College Student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3"/>
              </a:rPr>
              <a:t>Bomb Threats in School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4"/>
              </a:rPr>
              <a:t>Bullying in Schools</a:t>
            </a:r>
            <a:r>
              <a:rPr b="0" lang="en-US" sz="2600" spc="-1" strike="noStrike" u="sng">
                <a:solidFill>
                  <a:srgbClr val="000000"/>
                </a:solidFill>
                <a:uFillTx/>
                <a:latin typeface="Arial"/>
              </a:rPr>
              <a:t> </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5"/>
              </a:rPr>
              <a:t>Burglary of Retail Establishment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6"/>
              </a:rPr>
              <a:t>Burglary of Single-Family House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7"/>
              </a:rPr>
              <a:t>Check and Card Fraud</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8"/>
              </a:rPr>
              <a:t>Clandestine Drug Lab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9"/>
              </a:rPr>
              <a:t>Crimes Against Tourists </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0"/>
              </a:rPr>
              <a:t>Cruising</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1"/>
              </a:rPr>
              <a:t>Disorder at Budget Motel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2"/>
              </a:rPr>
              <a:t>Disorderly Youth in Public Plac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48FD9EC-8C85-4B87-94E6-F80D725F7C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Problem-Specific Guides</a:t>
            </a:r>
            <a:endParaRPr b="0" lang="en-US" sz="4000" spc="-1" strike="noStrike">
              <a:solidFill>
                <a:srgbClr val="000000"/>
              </a:solidFill>
              <a:latin typeface="Arial"/>
            </a:endParaRPr>
          </a:p>
        </p:txBody>
      </p:sp>
      <p:sp>
        <p:nvSpPr>
          <p:cNvPr id="60" name="PlaceHolder 2"/>
          <p:cNvSpPr>
            <a:spLocks noGrp="1"/>
          </p:cNvSpPr>
          <p:nvPr>
            <p:ph/>
          </p:nvPr>
        </p:nvSpPr>
        <p:spPr>
          <a:xfrm>
            <a:off x="304920" y="1066680"/>
            <a:ext cx="8534160" cy="5562720"/>
          </a:xfrm>
          <a:prstGeom prst="rect">
            <a:avLst/>
          </a:prstGeom>
          <a:noFill/>
          <a:ln w="0">
            <a:noFill/>
          </a:ln>
        </p:spPr>
        <p:txBody>
          <a:bodyPr lIns="90000" rIns="90000" tIns="46800" bIns="46800" anchor="t">
            <a:normAutofit/>
          </a:bodyPr>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2"/>
              </a:rPr>
              <a:t>Drug Dealing in Open-Air Markets</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3"/>
              </a:rPr>
              <a:t>Drug Dealing in Privately Owned Apartment Complexes</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4"/>
              </a:rPr>
              <a:t>Drunk Driving</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5"/>
              </a:rPr>
              <a:t>False Burglar Alarms</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6"/>
              </a:rPr>
              <a:t>Financial Crimes Against the Elderly</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7"/>
              </a:rPr>
              <a:t>Graffiti</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8"/>
              </a:rPr>
              <a:t>Gun Violence Among Serious Young Offenders</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9"/>
              </a:rPr>
              <a:t>Identity Theft</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0"/>
              </a:rPr>
              <a:t>Illicit Sexual Activity in Public Places</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1"/>
              </a:rPr>
              <a:t>Loud Car Stereos</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2"/>
              </a:rPr>
              <a:t>Misuse and Abuse of 911</a:t>
            </a: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3"/>
              </a:rPr>
              <a:t>Panhandl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2B2F727-C378-4BCE-A621-A9A8A7F755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Problem-Specific Guides</a:t>
            </a:r>
            <a:endParaRPr b="0" lang="en-US" sz="4000" spc="-1" strike="noStrike">
              <a:solidFill>
                <a:srgbClr val="000000"/>
              </a:solidFill>
              <a:latin typeface="Arial"/>
            </a:endParaRPr>
          </a:p>
        </p:txBody>
      </p:sp>
      <p:sp>
        <p:nvSpPr>
          <p:cNvPr id="62" name="PlaceHolder 2"/>
          <p:cNvSpPr>
            <a:spLocks noGrp="1"/>
          </p:cNvSpPr>
          <p:nvPr>
            <p:ph/>
          </p:nvPr>
        </p:nvSpPr>
        <p:spPr>
          <a:xfrm>
            <a:off x="304560" y="1219320"/>
            <a:ext cx="8458200" cy="5333760"/>
          </a:xfrm>
          <a:prstGeom prst="rect">
            <a:avLst/>
          </a:prstGeom>
          <a:noFill/>
          <a:ln w="0">
            <a:noFill/>
          </a:ln>
        </p:spPr>
        <p:txBody>
          <a:bodyPr lIns="90000" rIns="90000" tIns="46800" bIns="46800" anchor="t">
            <a:normAutofit/>
          </a:bodyPr>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2"/>
              </a:rPr>
              <a:t>Prescription Fraud</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3"/>
              </a:rPr>
              <a:t>Rave Partie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4"/>
              </a:rPr>
              <a:t>Robbery at Automated Teller Machine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5"/>
              </a:rPr>
              <a:t>Robbery of Taxi Driver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6"/>
              </a:rPr>
              <a:t>School Vandalism and Break-In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7"/>
              </a:rPr>
              <a:t>Shoplifting</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8"/>
              </a:rPr>
              <a:t>Speeding in Residential Area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9"/>
              </a:rPr>
              <a:t>Stalking</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0"/>
              </a:rPr>
              <a:t>Street Prostitution</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1"/>
              </a:rPr>
              <a:t>Street Racing</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2"/>
              </a:rPr>
              <a:t>Thefts of and from Cars in Parking Facilities</a:t>
            </a:r>
            <a:endParaRPr b="0" lang="en-US" sz="2600" spc="-1" strike="noStrike">
              <a:solidFill>
                <a:srgbClr val="000000"/>
              </a:solidFill>
              <a:latin typeface="Arial"/>
            </a:endParaRPr>
          </a:p>
          <a:p>
            <a:pPr marL="457200" indent="-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hlinkClick r:id="rId13"/>
              </a:rPr>
              <a:t>Underage Drinking</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479C3E4-5E3A-4816-955F-61B3AF1663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se Guides</a:t>
            </a:r>
            <a:endParaRPr b="0" lang="en-US" sz="4400" spc="-1" strike="noStrike">
              <a:solidFill>
                <a:srgbClr val="000000"/>
              </a:solidFill>
              <a:latin typeface="Arial"/>
            </a:endParaRPr>
          </a:p>
        </p:txBody>
      </p:sp>
      <p:sp>
        <p:nvSpPr>
          <p:cNvPr id="6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The Benefits and Consequences of Police Crackdow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Closing Streets and Alleys to Reduce Cri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Shifting and Sharing Responsibility for Public Safety Problem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Video Surveillance of Public Plac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Prevention Publicity Campaig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6A1BEA8-7759-4813-B52D-CA746DD41F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olving Tool Guides</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Assessing Responses to Proble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Using Offender Interviews to Inform Police Problem-Sol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Researching a Proble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Analyzing Repeat Victimiz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ing with Businesses to Address Public Safety Problem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807C70-34D9-427F-941B-DA32051A85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11:17Z</dcterms:created>
  <dc:creator>Joe Kuhns</dc:creator>
  <dc:description/>
  <dc:language>en-US</dc:language>
  <cp:lastModifiedBy>Joe Kuhns</cp:lastModifiedBy>
  <dcterms:modified xsi:type="dcterms:W3CDTF">2006-12-18T19:07:30Z</dcterms:modified>
  <cp:revision>120</cp:revision>
  <dc:subject/>
  <dc:title>Slide 1</dc:title>
</cp:coreProperties>
</file>