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BA5A-7454-4FD2-A038-188FA6DEE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popcenter.org/"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noted that the temporal signature of crime can vary from one precinct to the next.  As such, we may need to look further to explore precinct differences, temporal patterns, and temporal patterns within precincts.  In other words, the analytical process can become more challenging but also more foc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Maguire, E., Snipes, J. &amp; Katz, C. (2005).  Strategic Analysis and Deployment: Taking a STAND against Crime and Violence.  Presented to the Trinidad &amp; Tobago Police Services, Port of Spain, Trinidad &amp; Tobag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Maguire, E., Snipes, J. &amp; Katz, C. (2005).  Strategic Analysis and Deployment: Taking a STAND against Crime and Violence.  Presented to the Trinidad &amp; Tobago Police Services, Port of Spain, Trinidad &amp; Tobag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Maguire, E., Snipes, J. &amp; Katz, C. (2005).  Strategic Analysis and Deployment: Taking a STAND against Crime and Violence.  Presented to the Trinidad &amp; Tobago Police Services, Port of Spain, Trinidad &amp; Tobag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the basic framework of a problem-solving model, there are four basic reasons why any particular problem reduction initiative might fail (or, conversely, succe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blem was inaccurately </a:t>
            </a:r>
            <a:r>
              <a:rPr b="0" i="1" lang="en-US" sz="1000" spc="-1" strike="noStrike">
                <a:solidFill>
                  <a:srgbClr val="000000"/>
                </a:solidFill>
                <a:latin typeface="Arial"/>
              </a:rPr>
              <a:t>identified</a:t>
            </a:r>
            <a:r>
              <a:rPr b="0" lang="en-US" sz="1000" spc="-1" strike="noStrike">
                <a:solidFill>
                  <a:srgbClr val="000000"/>
                </a:solidFill>
                <a:latin typeface="Arial"/>
              </a:rPr>
              <a:t>: the underlying problem was something other than what it first appeared, the problem was not as acute as initially believed, or the police agency or the community was not as concerned about the problem as first thought.</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blem was insufficiently or inadequately </a:t>
            </a:r>
            <a:r>
              <a:rPr b="0" i="1" lang="en-US" sz="1000" spc="-1" strike="noStrike">
                <a:solidFill>
                  <a:srgbClr val="000000"/>
                </a:solidFill>
                <a:latin typeface="Arial"/>
              </a:rPr>
              <a:t>analyzed</a:t>
            </a:r>
            <a:r>
              <a:rPr b="0" lang="en-US" sz="1000" spc="-1" strike="noStrike">
                <a:solidFill>
                  <a:srgbClr val="000000"/>
                </a:solidFill>
                <a:latin typeface="Arial"/>
              </a:rPr>
              <a:t>: either the real contributing or causative factors were not discovered, or insufficient or inadequate evidence was mounted to persuade others to take interest in the problem.</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ponses developed from the problem analysis were improperly or insufficiently </a:t>
            </a:r>
            <a:r>
              <a:rPr b="0" i="1" lang="en-US" sz="1000" spc="-1" strike="noStrike">
                <a:solidFill>
                  <a:srgbClr val="000000"/>
                </a:solidFill>
                <a:latin typeface="Arial"/>
              </a:rPr>
              <a:t>implemented</a:t>
            </a:r>
            <a:r>
              <a:rPr b="0" lang="en-US" sz="1000" spc="-1" strike="noStrike">
                <a:solidFill>
                  <a:srgbClr val="000000"/>
                </a:solidFill>
                <a:latin typeface="Arial"/>
              </a:rPr>
              <a:t>, or not implemented at all.</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blem was properly identified and analyzed, and responses were implemented, but the responses did not have the desired effect on the proble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Scott, Michael (2006). </a:t>
            </a:r>
            <a:r>
              <a:rPr b="0" i="1" lang="en-US" sz="1000" spc="-1" strike="noStrike">
                <a:solidFill>
                  <a:srgbClr val="000000"/>
                </a:solidFill>
                <a:latin typeface="Arial"/>
              </a:rPr>
              <a:t>Implementing Crime Prevention: Lessons Learned from Problem-Oriented Policing Projects.</a:t>
            </a:r>
            <a:r>
              <a:rPr b="0" lang="en-US" sz="1000" spc="-1" strike="noStrike">
                <a:solidFill>
                  <a:srgbClr val="000000"/>
                </a:solidFill>
                <a:latin typeface="Arial"/>
              </a:rPr>
              <a:t> </a:t>
            </a:r>
            <a:r>
              <a:rPr b="0" lang="en-US" sz="1200" spc="-1" strike="noStrike">
                <a:solidFill>
                  <a:srgbClr val="000000"/>
                </a:solidFill>
                <a:latin typeface="Arial"/>
              </a:rPr>
              <a:t>Implementing Situational Crime Prevention and Problem-oriented Policing (Crime Prevention Studies, vol. 20)</a:t>
            </a:r>
            <a:br>
              <a:rPr sz="1200"/>
            </a:b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Scott, Michael (2006). </a:t>
            </a:r>
            <a:r>
              <a:rPr b="0" i="1" lang="en-US" sz="1200" spc="-1" strike="noStrike">
                <a:solidFill>
                  <a:srgbClr val="000000"/>
                </a:solidFill>
                <a:latin typeface="Arial"/>
              </a:rPr>
              <a:t>Implementing Crime Prevention: Lessons Learned from Problem-Oriented Policing Projects.</a:t>
            </a:r>
            <a:r>
              <a:rPr b="0" lang="en-US" sz="1200" spc="-1" strike="noStrike">
                <a:solidFill>
                  <a:srgbClr val="000000"/>
                </a:solidFill>
                <a:latin typeface="Arial"/>
              </a:rPr>
              <a:t> </a:t>
            </a:r>
            <a:r>
              <a:rPr b="0" lang="en-US" sz="1400" spc="-1" strike="noStrike">
                <a:solidFill>
                  <a:srgbClr val="000000"/>
                </a:solidFill>
                <a:latin typeface="Arial"/>
              </a:rPr>
              <a:t>Implementing Situational Crime Prevention and Problem-oriented Policing (Crime Prevention Studies, vol. 20)</a:t>
            </a:r>
            <a:br>
              <a:rPr sz="1400"/>
            </a:b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Leadership at or near the level of the principal project agents</a:t>
            </a:r>
            <a:r>
              <a:rPr b="0" lang="en-US" sz="800" spc="-1" strike="noStrike">
                <a:solidFill>
                  <a:srgbClr val="000000"/>
                </a:solidFill>
                <a:latin typeface="Arial"/>
              </a:rPr>
              <a:t> -  Few police agencies seem to have well-established systems for ensuring that the action plans developed in POP initiatives are carried out. Consequently, to the extent that they are carried out, it seems often to be due to the diligence, persistence, and perseverance of one or a few individuals. These individuals schedule and lead meetings, perform the tasks they have agreed to and hold others accountable for doing the same, and generally do whatever is necessary to keep the project a priority concern. It is often the case that these individuals exercise a degree of leadership not commonly expected of their rank and position. They press ahead unless made to stop.</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Personal support and involvement of high-ranking police executives</a:t>
            </a:r>
            <a:r>
              <a:rPr b="0" lang="en-US" sz="800" spc="-1" strike="noStrike">
                <a:solidFill>
                  <a:srgbClr val="000000"/>
                </a:solidFill>
                <a:latin typeface="Arial"/>
              </a:rPr>
              <a:t> - Particularly when the POP initiative requires a significant commitment of resources, a change in policy or legislation, or the exercise of significant political influence, the police chief executive’s personal engagement in and commitment to implementing a response plan can be critical.  Even where a police chief executive does not intentionally squelch a POP initiative, his or her lack of engagement at critical junctures in the project can mean that the project achieves less than it might otherwis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Continuity of project leadership and management</a:t>
            </a:r>
            <a:r>
              <a:rPr b="0" lang="en-US" sz="800" spc="-1" strike="noStrike">
                <a:solidFill>
                  <a:srgbClr val="000000"/>
                </a:solidFill>
                <a:latin typeface="Arial"/>
              </a:rPr>
              <a:t> --  Many POP initiatives take months, even years, to bring to fruition. When key project leaders and managers stop working on the project (due to transfers, promotions, retirements, new project assignments, and the like), it is often difficult to maintain interest in and commitment to the project (Bullock, Farrell et al., 2002). This is typically the case when POP initiatives are perceived within the agency to be matters of personal, rather than organizational, interest and priority. Absent a formalized system in which project management is officially transferred to a successor, the departure of the project’s key leaders often spells the end of the initiative.</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Ownership of the initiative</a:t>
            </a:r>
            <a:r>
              <a:rPr b="0" lang="en-US" sz="800" spc="-1" strike="noStrike">
                <a:solidFill>
                  <a:srgbClr val="000000"/>
                </a:solidFill>
                <a:latin typeface="Arial"/>
              </a:rPr>
              <a:t> -- Most people are more committed to their own ideas than to others’. In the context of implementing POP initiatives this means that it is desirable that the people needed to implement responses feel some sense of ownership of the action plan (Bullock, Farrell et al., 2002, citing Read and Tilley, 2000). A sense of ownership can be cultivated in key individuals by providing them with opportunities to meaningfully influence the direction of the project such that they feel they are not merely implementing somebody else’s plan, but implementing their own plan. Conversely, a lack of input by key individuals at meaningful stages of the project can lead to their lack of commitment to implementation (Long et al., 2002).</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Effective communication of policy objectives and directives to those responsible for implementation</a:t>
            </a:r>
            <a:r>
              <a:rPr b="0" lang="en-US" sz="800" spc="-1" strike="noStrike">
                <a:solidFill>
                  <a:srgbClr val="000000"/>
                </a:solidFill>
                <a:latin typeface="Arial"/>
              </a:rPr>
              <a:t> -  Problem-solving is, for the most part, not sufficiently well institutionalized in most police agency’s operations for it to be self-evident that the tasks needed to implement a POP initiative response plan must be dutifully performed. Notwithstanding that police agencies are perceived to be highly disciplined quasi-military organizations in which orders are faithfully obeyed, police officers, like most workers, comply with directives better when they understand and agree with the objectives and see value in their contributions toward them. Accordingly, getting others to carry out essential tasks often requires a careful effort to get them to “buy in” to the initiative. This is more readily accomplished if those tasked with implementing the responses have at least some input into the design of those respons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Professional capabilities of key individuals</a:t>
            </a:r>
            <a:r>
              <a:rPr b="0" lang="en-US" sz="800" spc="-1" strike="noStrike">
                <a:solidFill>
                  <a:srgbClr val="000000"/>
                </a:solidFill>
                <a:latin typeface="Arial"/>
              </a:rPr>
              <a:t> - Even where strong leadership is present, successful implementation requires that the individuals responsible for carrying out essential implementation tasks must have the requisite technical knowledge, skills, and abilities (Larson, 1980; Bullock and Tilley, 2003; Ekblom, 2002; Clarke and Eck, 2003). These requisite proficiencies extend both to project management and supervision, as well as to service delivery or the acquisition, installation, and operation of thing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Scott, Michael (2006). </a:t>
            </a:r>
            <a:r>
              <a:rPr b="0" i="1" lang="en-US" sz="800" spc="-1" strike="noStrike">
                <a:solidFill>
                  <a:srgbClr val="000000"/>
                </a:solidFill>
                <a:latin typeface="Arial"/>
              </a:rPr>
              <a:t>Implementing Crime Prevention: Lessons Learned from Problem-Oriented Policing Projects.</a:t>
            </a:r>
            <a:r>
              <a:rPr b="0" lang="en-US" sz="800" spc="-1" strike="noStrike">
                <a:solidFill>
                  <a:srgbClr val="000000"/>
                </a:solidFill>
                <a:latin typeface="Arial"/>
              </a:rPr>
              <a:t> </a:t>
            </a:r>
            <a:r>
              <a:rPr b="0" lang="en-US" sz="900" spc="-1" strike="noStrike">
                <a:solidFill>
                  <a:srgbClr val="000000"/>
                </a:solidFill>
                <a:latin typeface="Arial"/>
              </a:rPr>
              <a:t>Implementing Situational Crime Prevention and Problem-oriented Policing (Crime Prevention Studies, vol. 20)</a:t>
            </a:r>
            <a:br>
              <a:rPr sz="900"/>
            </a:br>
            <a:endParaRPr b="0" lang="en-US" sz="9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ufficiency of legal and organizational authority</a:t>
            </a:r>
            <a:r>
              <a:rPr b="0" lang="en-US" sz="1000" spc="-1" strike="noStrike">
                <a:solidFill>
                  <a:srgbClr val="000000"/>
                </a:solidFill>
                <a:latin typeface="Arial"/>
              </a:rPr>
              <a:t> -- It is often the case that the responses developed in POP initiatives are sufficiently innovative that they present a significant challenge to the status quo. Accordingly, POP initiative managers must acquire and use new forms and grants of authority in order to properly implement new responses. This authority might come in the form of a change in the law – a new regulation, ordinance, by-law, statute, or judicial interpretation – or in the form of a change in administrative or organizational policy or practice.</a:t>
            </a:r>
            <a:endParaRPr b="0" lang="en-US" sz="1000" spc="-1" strike="noStrike">
              <a:solidFill>
                <a:srgbClr val="000000"/>
              </a:solidFill>
              <a:latin typeface="Arial"/>
            </a:endParaRPr>
          </a:p>
          <a:p>
            <a:pPr marL="2286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vailability and flexibility of sufficient resources</a:t>
            </a:r>
            <a:r>
              <a:rPr b="0" lang="en-US" sz="1000" spc="-1" strike="noStrike">
                <a:solidFill>
                  <a:srgbClr val="000000"/>
                </a:solidFill>
                <a:latin typeface="Arial"/>
              </a:rPr>
              <a:t> - Some responses to problems do not require the commitment of new resources; perhaps all that is required is a shift of existing resources or revision of a policy. But most projects involve at least some responses that do require additional resources: staffing, money, equipment, and so forth. This often presents significant challenges to police agencies, particularly during times when resources are tight. The regular operating and capital budgets of most police agencies are set well before most problem-oriented initiatives are crystallized and few police budgets have pools of funds set aside for unanticipated needs. Accordingly, many POP initiatives, to the extent they require the commitment of significant new resources, are heavily dependent on other funding sources: grants, special police funds such as drug asset forfeiture funds, or corporate or community donations. Even where external resources are available, the strictures of those resources – delays between application for and receipt of resources, timelines for expending the resources, reporting requirements, use restrictions, and so forth – can make them less useful for the purpose of addressing an evolving public safety problem than they might first appear.</a:t>
            </a:r>
            <a:endParaRPr b="0" lang="en-US" sz="1000" spc="-1" strike="noStrike">
              <a:solidFill>
                <a:srgbClr val="000000"/>
              </a:solidFill>
              <a:latin typeface="Arial"/>
            </a:endParaRPr>
          </a:p>
          <a:p>
            <a:pPr marL="2286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Scott, Michael (2006). </a:t>
            </a:r>
            <a:r>
              <a:rPr b="0" i="1" lang="en-US" sz="1000" spc="-1" strike="noStrike">
                <a:solidFill>
                  <a:srgbClr val="000000"/>
                </a:solidFill>
                <a:latin typeface="Arial"/>
              </a:rPr>
              <a:t>Implementing Crime Prevention: Lessons Learned from Problem-Oriented Policing Projects.</a:t>
            </a:r>
            <a:r>
              <a:rPr b="0" lang="en-US" sz="1000" spc="-1" strike="noStrike">
                <a:solidFill>
                  <a:srgbClr val="000000"/>
                </a:solidFill>
                <a:latin typeface="Arial"/>
              </a:rPr>
              <a:t> </a:t>
            </a:r>
            <a:r>
              <a:rPr b="0" lang="en-US" sz="1200" spc="-1" strike="noStrike">
                <a:solidFill>
                  <a:srgbClr val="000000"/>
                </a:solidFill>
                <a:latin typeface="Arial"/>
              </a:rPr>
              <a:t>Implementing Situational Crime Prevention and Problem-oriented Policing (Crime Prevention Studies, vol. 20)</a:t>
            </a:r>
            <a:br>
              <a:rPr sz="1200"/>
            </a:br>
            <a:endParaRPr b="0" lang="en-US" sz="12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rass roots community support</a:t>
            </a:r>
            <a:r>
              <a:rPr b="0" lang="en-US" sz="1200" spc="-1" strike="noStrike">
                <a:solidFill>
                  <a:srgbClr val="000000"/>
                </a:solidFill>
                <a:latin typeface="Arial"/>
              </a:rPr>
              <a:t> -- Response plans that enjoy grass-roots community support tend to be more likely to be implemented than those without it because such community support can be converted into political influence which can mobilize resources and action. Police have influence themselves, to be sure, but their influence alone is not always sufficient to persuade reluctant government official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pportive media coverage</a:t>
            </a:r>
            <a:r>
              <a:rPr b="0" lang="en-US" sz="1200" spc="-1" strike="noStrike">
                <a:solidFill>
                  <a:srgbClr val="000000"/>
                </a:solidFill>
                <a:latin typeface="Arial"/>
              </a:rPr>
              <a:t> - Where media coverage of a police effort to address a problem presents the police perspective in a favorable light, this can provide a substantial boost to the implementation of responses. It can do so in several ways: by engendering public understanding of and support for the course of action recommended by police (and thereby giving elected officials incentives to ensure that the problem is addressed), by shaming and holding to account certain parties deemed to be responsible for contributing to the problem or parties deemed not to be cooperating in the effort to remediate the problem, by keeping the problem in the consciousness of key officials (including police officials) until it is properly addressed, by providing a reasonably objective assessment of the case being made by police for new responses to the problem, and by encouraging police officials through the intrinsic satisfaction of positive publicity and recogni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istence of organizations with the capacity and mandate to implement responses</a:t>
            </a:r>
            <a:r>
              <a:rPr b="0" lang="en-US" sz="1200" spc="-1" strike="noStrike">
                <a:solidFill>
                  <a:srgbClr val="000000"/>
                </a:solidFill>
                <a:latin typeface="Arial"/>
              </a:rPr>
              <a:t> - Where there already exist organizations outside the police agency with the clear mandate and capacity to implement responses, the probability that the responses will actually be implemented appears to be higher. Conversely, where the response would require creating a new organization or unit to implement the response, or where it is unclear which organization or unit has the mandate and capacity to implement the response, successful implementation is less likely (Long, Wells et al., 2002; Bullock, Farrell et al. 2002).</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ortuitous timing -</a:t>
            </a:r>
            <a:r>
              <a:rPr b="0" lang="en-US" sz="1200" spc="-1" strike="noStrike">
                <a:solidFill>
                  <a:srgbClr val="000000"/>
                </a:solidFill>
                <a:latin typeface="Arial"/>
              </a:rPr>
              <a:t> Some POP initiatives benefit from fortuitous timing. A critical incident (such as a heinous crime) or budget pressures might generate public interest in and attention to a problem that might not otherwise occur merely through a more painstaking presentation of evidence and arguments (Goldstein and Susmilch, 1982). Police ought to exploit such opportunities responsibly, taking care to complete a careful analysis of the problem so that they are able to justify their new responses to the problem if called upon to do so in a more deliberate and reasoned fashio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ngruence of perspectives and objectives -</a:t>
            </a:r>
            <a:r>
              <a:rPr b="0" lang="en-US" sz="1200" spc="-1" strike="noStrike">
                <a:solidFill>
                  <a:srgbClr val="000000"/>
                </a:solidFill>
                <a:latin typeface="Arial"/>
              </a:rPr>
              <a:t> Problem-oriented policing generally urges police to engage other organizations in the effort to address problems. While such engagement often yields a synergetic effect, it can also have an inhibiting effect. Where the perspectives, objectives, performance indicators, or cultures of the various collaborating organizations are too divergent and are not effectively reconciled, implementation plans can suffer (Bullock, Farrell et al., 2002; Bullock and Tilley, 2003; Grabosky, 1996; Clarke and Eck, 2003; Laycock and Tilley, 1995). For example, if police personnel are motivated to undertake activities with which they are familiar and for which they believe they will be rewarded – such as law enforcement – and the particular project calls for them to undertake different sorts of activities – such as providing social services – police might be less than enthusiastic or diligent in providing the social serv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Scott, Michael (2006). </a:t>
            </a:r>
            <a:r>
              <a:rPr b="0" i="1" lang="en-US" sz="1200" spc="-1" strike="noStrike">
                <a:solidFill>
                  <a:srgbClr val="000000"/>
                </a:solidFill>
                <a:latin typeface="Arial"/>
              </a:rPr>
              <a:t>Implementing Crime Prevention: Lessons Learned from Problem-Oriented Policing Projects.</a:t>
            </a:r>
            <a:r>
              <a:rPr b="0" lang="en-US" sz="1200" spc="-1" strike="noStrike">
                <a:solidFill>
                  <a:srgbClr val="000000"/>
                </a:solidFill>
                <a:latin typeface="Arial"/>
              </a:rPr>
              <a:t> </a:t>
            </a:r>
            <a:r>
              <a:rPr b="0" lang="en-US" sz="1400" spc="-1" strike="noStrike">
                <a:solidFill>
                  <a:srgbClr val="000000"/>
                </a:solidFill>
                <a:latin typeface="Arial"/>
              </a:rPr>
              <a:t>Implementing Situational Crime Prevention and Problem-oriented Policing (Crime Prevention Studies, vol. 20)</a:t>
            </a:r>
            <a:br>
              <a:rPr sz="1400"/>
            </a:b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dequacy of hard data support and effective communications of the evidence to key decision makers</a:t>
            </a:r>
            <a:r>
              <a:rPr b="0" lang="en-US" sz="1200" spc="-1" strike="noStrike">
                <a:solidFill>
                  <a:srgbClr val="000000"/>
                </a:solidFill>
                <a:latin typeface="Arial"/>
              </a:rPr>
              <a:t> - Hard evidence that a particular response is justifiable and is or is not known to be effective, and effective communication of that evidence to decision makers, is a powerful factor influencing whether or not that response is ultimately implement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Scott, Michael (2006). </a:t>
            </a:r>
            <a:r>
              <a:rPr b="0" i="1" lang="en-US" sz="1200" spc="-1" strike="noStrike">
                <a:solidFill>
                  <a:srgbClr val="000000"/>
                </a:solidFill>
                <a:latin typeface="Arial"/>
              </a:rPr>
              <a:t>Implementing Crime Prevention: Lessons Learned from Problem-Oriented Policing Projects.</a:t>
            </a:r>
            <a:r>
              <a:rPr b="0" lang="en-US" sz="1200" spc="-1" strike="noStrike">
                <a:solidFill>
                  <a:srgbClr val="000000"/>
                </a:solidFill>
                <a:latin typeface="Arial"/>
              </a:rPr>
              <a:t> </a:t>
            </a:r>
            <a:r>
              <a:rPr b="0" lang="en-US" sz="1400" spc="-1" strike="noStrike">
                <a:solidFill>
                  <a:srgbClr val="000000"/>
                </a:solidFill>
                <a:latin typeface="Arial"/>
              </a:rPr>
              <a:t>Implementing Situational Crime Prevention and Problem-oriented Policing (Crime Prevention Studies, vol. 20)</a:t>
            </a:r>
            <a:br>
              <a:rPr sz="1400"/>
            </a:b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se of implementation</a:t>
            </a:r>
            <a:r>
              <a:rPr b="0" lang="en-US" sz="1200" spc="-1" strike="noStrike">
                <a:solidFill>
                  <a:srgbClr val="000000"/>
                </a:solidFill>
                <a:latin typeface="Arial"/>
              </a:rPr>
              <a:t> - The relative ease with which a response </a:t>
            </a:r>
            <a:r>
              <a:rPr b="0" i="1" lang="en-US" sz="1200" spc="-1" strike="noStrike">
                <a:solidFill>
                  <a:srgbClr val="000000"/>
                </a:solidFill>
                <a:latin typeface="Arial"/>
              </a:rPr>
              <a:t>can</a:t>
            </a:r>
            <a:r>
              <a:rPr b="0" lang="en-US" sz="1200" spc="-1" strike="noStrike">
                <a:solidFill>
                  <a:srgbClr val="000000"/>
                </a:solidFill>
                <a:latin typeface="Arial"/>
              </a:rPr>
              <a:t> be implemented is obviously a significant factor in explaining whether and to what degree they </a:t>
            </a:r>
            <a:r>
              <a:rPr b="0" i="1" lang="en-US" sz="1200" spc="-1" strike="noStrike">
                <a:solidFill>
                  <a:srgbClr val="000000"/>
                </a:solidFill>
                <a:latin typeface="Arial"/>
              </a:rPr>
              <a:t>are</a:t>
            </a:r>
            <a:r>
              <a:rPr b="0" lang="en-US" sz="1200" spc="-1" strike="noStrike">
                <a:solidFill>
                  <a:srgbClr val="000000"/>
                </a:solidFill>
                <a:latin typeface="Arial"/>
              </a:rPr>
              <a:t> implemented: simple responses are more likely to get implemented, complex ones less likely (Clarke and Eck, 2003).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bsence of delays</a:t>
            </a:r>
            <a:r>
              <a:rPr b="0" lang="en-US" sz="1200" spc="-1" strike="noStrike">
                <a:solidFill>
                  <a:srgbClr val="000000"/>
                </a:solidFill>
                <a:latin typeface="Arial"/>
              </a:rPr>
              <a:t> - Delays in implementation, for whatever reason, can stall the momentum of the project and create doubt about the viability of the plan (Larson, 1980; Bullock, Farrell et al., 2002). To the extent that project managers can keep the project moving forward, the likelihood that the action plan developed will actually be implemented appears to increas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Scott, Michael (2006). </a:t>
            </a:r>
            <a:r>
              <a:rPr b="0" i="1" lang="en-US" sz="1200" spc="-1" strike="noStrike">
                <a:solidFill>
                  <a:srgbClr val="000000"/>
                </a:solidFill>
                <a:latin typeface="Arial"/>
              </a:rPr>
              <a:t>Implementing Crime Prevention: Lessons Learned from Problem-Oriented Policing Projects.</a:t>
            </a:r>
            <a:r>
              <a:rPr b="0" lang="en-US" sz="1200" spc="-1" strike="noStrike">
                <a:solidFill>
                  <a:srgbClr val="000000"/>
                </a:solidFill>
                <a:latin typeface="Arial"/>
              </a:rPr>
              <a:t> </a:t>
            </a:r>
            <a:r>
              <a:rPr b="0" lang="en-US" sz="1400" spc="-1" strike="noStrike">
                <a:solidFill>
                  <a:srgbClr val="000000"/>
                </a:solidFill>
                <a:latin typeface="Arial"/>
              </a:rPr>
              <a:t>Implementing Situational Crime Prevention and Problem-oriented Policing (Crime Prevention Studies, vol. 20)</a:t>
            </a:r>
            <a:br>
              <a:rPr sz="1400"/>
            </a:b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ublic calls upon the police to respond to an astounding range of problems and to perform an extraordinary diversity of tasks, all the while assuming that police have the expertise and resources to do so.  Many of these problems and tasks fall to the police through the default of others: from gaps in government services, to the abandonment of responsibility by private citizens, corporations, and other organizations.  In recent years, through a more methodical approach to policing, police are increasingly pressing for a more rational distribution of responsibilities based upon a detailed examination of the differing facets of police busin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safety problems are commonly addressed through a combination of responses; seldom is a single type of response sufficient. Of course, many public safety problems are adequately addressed by the police in the exercise of their normal authority and expertise. Increasingly, however, police and others are discovering that it is not only the police who have the authority and expertise to respond to many public safety problems; consequently, the police have come to depend heavily upon others to aid them in responding effectively to crime and disorder. There is growing evidence that by addressing the conditions that underlie crime and disorder problems, rather than merely looking to arrest offenders, police can more effectively prevent and control such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is also growing evidence—much of it found in the literature on situational crime prevention—that demonstrates how public safety problems can be prevented, reduced, and controlled with little or no police involvement, a process by which police unquestionably benef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ed, the very process of producing the </a:t>
            </a:r>
            <a:r>
              <a:rPr b="0" i="1" lang="en-US" sz="800" spc="-1" strike="noStrike">
                <a:solidFill>
                  <a:srgbClr val="000000"/>
                </a:solidFill>
                <a:latin typeface="Arial"/>
              </a:rPr>
              <a:t>Problem-Oriented Guides for Police — </a:t>
            </a:r>
            <a:r>
              <a:rPr b="0" lang="en-US" sz="800" spc="-1" strike="noStrike">
                <a:solidFill>
                  <a:srgbClr val="000000"/>
                </a:solidFill>
                <a:latin typeface="Arial"/>
              </a:rPr>
              <a:t>particularly the review of police reports submitted to problem-oriented policing award programs — reveals that police frequently conclude that they must somehow get others to respond to problems that would otherwise be inadequately addressed if the police were forced to act al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e the problem and a remedial strategy have been identified, it is important to determine which of the various stakeholders is in the best position to implement and enforce the proposed solution.  Depending on the situation, the police, private citizens, industry, or the government may all bear some responsibility for addressing a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some instances, it is clear that the police are the best choice. For example, where a criminal investigation and arrests are necessary, the police are typically responsible, as most other individuals and organizations lack the authority and expertise to perform such tas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ther instances, however, it is clear that someone other than the police should be responsible. For example, where changes in corporate policies or practices are necessary, it is the corporation, not the police, that has the authority to effectuate the necessary policy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still other instances, although the response is clear, there may be any number of viable actors who are able to accept responsibility for carrying the response to fruition. For example, where educating, warning, or advising citizens is called for, it is very much an open question whether the police or someone else should be responsible for developing and delivering the messa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few firm rules that dictate who is primarily responsible for addressing a particular public safety problem. What rules, for example, dictate who is responsible for preventing and controlling retail theft. Is it the police? The shop? The consumer? The insurance carrier? The difficulty arises because every problem stems from a variety of sources, each of which can plausibly be said to bear some responsibility for its remediation. Much depends on who possesses the skill, knowledge, authority, and resources to implement changes that will effectively reduce or control the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hough some individuals will not question the basis upon which the police ask others to assume responsibility for addressing a problem, the force of such requests can be greatly strengthened if police can explain persuasively the rationale for the request, inclu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compliance with the request will address the problem;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asis for police knowledge about the effectiveness of the proposed respon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measures police have already taken to resolve the problem;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mitations of those measures; an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enefits to all concerned if new practices are adopted voluntaril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e are increasingly seeking to shift and share responsibility for addressing public safety problems, largely because of several trends within and without the police profession, inclu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ncreased police emphasis on prevention and proactive strategie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ncreased emphasis on and capability for conducting detailed analysis of police workload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cognition that incidents often cluster around concentrated sources—common places, offenders, victims, and times—which, if dealt with effectively, can greatly reduce the magnitude of the problem; an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ncreased emphasis on efficiency, especially in times of tightened budgets and heightened fiscal awaren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oriented policing depends heavily on strong, mutually trusting partnerships among police and other entities and constituencies, partnerships in which each party assumes its fair share of responsibility.  The overriding goal of problem-oriented policing is to adopt responses to community problems that are more equitable and effective for the community as a whole than are current respon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Scott, M.S. and Goldstein H. (2005).  Shifting and Sharing Responsibility for Public Safety Problems, Problem-Oriented Guides for Police, Response Guides Series, No. 3.  Washington, DC.  Office of Community Oriented Policing Services, U.S. Department of Justice. </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lice can apply a variety of methods to get others to assume greater responsibility for public safety problems.  The list of methods in this slide is not intended to be exhaustive or definitive, but rather illustrative. One way in which the methods differ is the degree of coercion that police apply to achieve their objective. The list begins with methods that are generally less coercive and proceeds to those that are generally more coercive, although the degree of coercion may depend upon the specific context and not necessarily on the nature of the method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any instances, it may make sense to first employ the methods that are relatively non-coercive and to move to more coercive methods only if the former fail to achieve the desired cooperation. (See "Determining the Appropriate Degree of Pressure Police Ought to Bring to Bear to Shift Responsibility," below, for further discussion of this mat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its ultimate form, the police effort to shift responsibility for public safety problems entails assisting others to develop the capacity to identify and rectify problems without further police intervention. A prime example occurs where police work at the neighborhood level helps residents develop what sociologists term collective efficacy, "the ability of neighborhoods to realize the common values of residents and maintain effective social controls." Short of a complete shift in responsibility, in most instances police look to shift or share part of the responsibility with respect to a specific problem or set of problems, bounded in time and sp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STRUCTORS NOTE:</a:t>
            </a:r>
            <a:r>
              <a:rPr b="0" lang="en-US" sz="800" spc="-1" strike="noStrike">
                <a:solidFill>
                  <a:srgbClr val="000000"/>
                </a:solidFill>
                <a:latin typeface="Arial"/>
              </a:rPr>
              <a:t> Explanations of the successful application of the various methods for shifting and sharing responsibility for public safety problems follow. For examples, a more complete and detailed account can be found in the original source documents, many of which are accessible online via the Center for Problem-Oriented Policing website at </a:t>
            </a:r>
            <a:r>
              <a:rPr b="0" lang="en-US" sz="800" spc="-1" strike="noStrike" u="sng">
                <a:solidFill>
                  <a:srgbClr val="009999"/>
                </a:solidFill>
                <a:uFillTx/>
                <a:latin typeface="Arial"/>
                <a:hlinkClick r:id="rId1"/>
              </a:rPr>
              <a:t>www.popcenter.org</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ucating Victims and Offenders</a:t>
            </a:r>
            <a:r>
              <a:rPr b="0" lang="en-US" sz="800" spc="-1" strike="noStrike">
                <a:solidFill>
                  <a:srgbClr val="000000"/>
                </a:solidFill>
                <a:latin typeface="Arial"/>
              </a:rPr>
              <a:t> -- Police have long been involved in systematically conveying information to the public on how to prevent crime. They do this through presentations, brochures, and a variety of other programs. Some of these efforts are aimed broadly at the general public; others are targeted at specific constituencies. Educational messages and programs are directed either at potential victims, instructing them on how to avoid being victimized, or at potential offenders, instructing them on how to avoid offending. Central to all of these efforts, however, is the fact that those to whom the message is directed are in a position to take actions that will protect themselves from either victimization or arrest. Such educational materials and presentations are generally low-key; one can take the advice or ignore it. Educational messages to potential offenders adopt a helpful rather than a warning tone: they are aimed at people who are inclined to obey the law, but who might offend out of ignorance or carelessn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king a Straightforward Informal Request</a:t>
            </a:r>
            <a:r>
              <a:rPr b="0" lang="en-US" sz="800" spc="-1" strike="noStrike">
                <a:solidFill>
                  <a:srgbClr val="000000"/>
                </a:solidFill>
                <a:latin typeface="Arial"/>
              </a:rPr>
              <a:t> - The use of straightforward requests is a natural first step that police take when seeking to have specific individuals or organizations take responsibility for addressing a crime or disorder problem. Naturally, a positive response to the initial request obviates the need for any increased pressu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the police are not simply broadcasting prepared advice on prevention to a large audience. Rather, they are focused upon asking citizens to resolve an immediate problem by taking a specific remedial action. Although the fact that the police are making the request may imply that consequences will follow if the request is ignored, it is often the case that police are merely informing a citizen of something of which she was not aware, and the citizen gratefully and graciously complies with the reques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king a Targeted Confrontational Request</a:t>
            </a:r>
            <a:r>
              <a:rPr b="0" lang="en-US" sz="800" spc="-1" strike="noStrike">
                <a:solidFill>
                  <a:srgbClr val="000000"/>
                </a:solidFill>
                <a:latin typeface="Arial"/>
              </a:rPr>
              <a:t> - One of the clearest results of recent changes in policing is the increased tendency of police agencies to confront aggressively those adjudged responsible for a large volume of incidents that fall to the police to handle. Police typically resort to this more confrontational mode when straightforward requests are ign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police document both how a problem is caused and how it is aggravated by the actions or inactions of others. The resulting documentation is then presented to the offending party, together with a request that preventive measures be taken. The hope is that when confronted with such documentation the party will feel obliged to assume responsibility for taking the requisite preventive measures. However, depending on the specific situation, the confrontation may be bolstered by either a subtle implication or a more overt threat that failure to comply will result in more coercive measures. The potential for more coercive measures argues for a high standard of accuracy by police in documenting condi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gaging Another Existing Service Agency</a:t>
            </a:r>
            <a:r>
              <a:rPr b="0" lang="en-US" sz="800" spc="-1" strike="noStrike">
                <a:solidFill>
                  <a:srgbClr val="000000"/>
                </a:solidFill>
                <a:latin typeface="Arial"/>
              </a:rPr>
              <a:t> - Much police business consists of handling problems and cases that fall through holes in the social safety net or that constitute an overflow stemming from the limited resources of other agencies: mentally-ill persons who are not adequately cared for in the community; drug addicts who do not receive adequate treatment services; parks, playgrounds, and housing developments that are not adequately maintained; cars and homes that are abandoned; and so forth. In such cases, police sometimes attempt to shift the responsibility for crime prevention to another government agency or nongovernmental organization that provides relevant services in the commun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ssing for the Creation of a New Organization</a:t>
            </a:r>
            <a:r>
              <a:rPr b="0" lang="en-US" sz="800" spc="-1" strike="noStrike">
                <a:solidFill>
                  <a:srgbClr val="000000"/>
                </a:solidFill>
                <a:latin typeface="Arial"/>
              </a:rPr>
              <a:t> - Police are not always in a position to implement measures that will best address a specific problem, and there may not be any other appropriate entity to do so. Police may then find themselves advocating the creation of a new organization with the mandate and resources to address the probl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the increase in efforts to organize neighborhoods, especially in large urban areas, it is frequently not necessary for police to be the primary catalyst of such efforts; instead, police often assume a supportive role. There are also situations in which a community organization grows organically out of concern for a given problem, with the police enlisted in support of the objective. However, as organizations come into existence and are sustained, police find that they are gradually transferring responsibility for specific prevention strategies to the new organiz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Scott, M.S. and Goldstein H. (2005).  Shifting and Sharing Responsibility for Public Safety Problems, Problem-Oriented Guides for Police, Response Guides Series, No. 3.  Washington, DC.  Office of Community Oriented Policing Services, U.S. Department of Justice. http://www.popcenter.org/Responses/response-responsibility.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ming Delinquent Parties</a:t>
            </a:r>
            <a:r>
              <a:rPr b="0" lang="en-US" sz="1200" spc="-1" strike="noStrike">
                <a:solidFill>
                  <a:srgbClr val="000000"/>
                </a:solidFill>
                <a:latin typeface="Arial"/>
              </a:rPr>
              <a:t> - Public shaming is often an intermediate step between the type of private confrontation described earlier and resort to legal action. The stakes in resorting to public shaming are high for both the police and those against whom it is directed. The police must obviously be on solid ground. Public reputation is of great value to individuals, businesses, and agencies; hence, having police publicly discredit them can have significant long-term consequences. This method of shifting responsibility can be perceived as the most coercive. Consequently, police typically resort to it only after more private methods of persuasion have failed. The police goal is to call to public attention the nature of the problem, the factors that cause or contribute to the problem, the reasonableness of police requests, the refusal or failure to respond to less coercive measures, and the arguments for holding others accountable for their contributions to th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drawing Police Services</a:t>
            </a:r>
            <a:r>
              <a:rPr b="0" lang="en-US" sz="1200" spc="-1" strike="noStrike">
                <a:solidFill>
                  <a:srgbClr val="000000"/>
                </a:solidFill>
                <a:latin typeface="Arial"/>
              </a:rPr>
              <a:t> -Police occasionally seek to force the adoption of preventive strategies by refusing to respond, investigate, arrest, or take other official action where an individual or organization has refused to implement measures that are designed to reduce the likelihood of victimization. If a complete service withdrawal is not feasible, police may respond with fewer resources, which can be done by lowering the priority given to certain types of incidents, by putting more of the reporting burden on the complainant, or by reducing the level of follow-up service after the taking of an initial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withdrawal or modification of police services occurs in the context of a business operation, where there is overwhelming evidence that a problem would be eliminated if certain measures were put in place, measures which the business owner or operator will not implement based upon a belief that doing so would reduce s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ision to withdraw services should only be made after a consideration of the disparate impact withdrawal might have on those who cannot afford even the most elementary remedial measures. For example, where imposing such a cost forced an already marginal business to close its doors, an additional consequence might be to deprive a depressed neighborhood of a vital business o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ithdrawal of police service is rare, most likely because police are reluctant to be seen as refusing to perform what others perceive as "their job." Police may also worry that the failure to respond to a simple request for assistance may result in their failing to attend to a more serious infraction than the one that was originally r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ging Fees for Police Services</a:t>
            </a:r>
            <a:r>
              <a:rPr b="0" lang="en-US" sz="1200" spc="-1" strike="noStrike">
                <a:solidFill>
                  <a:srgbClr val="000000"/>
                </a:solidFill>
                <a:latin typeface="Arial"/>
              </a:rPr>
              <a:t> -Some police agencies seek to recover the cost of providing a particular service from the individuals who benefit from the service. The rationale for cost recovery is that those who make excessive claims are consuming more than their fair share of public resources, or at least more than their tax payments reasonably entitle them to. In some jurisdictions, legislation authorizes police to recover the actual cost of police investigations from defendants. In 2003, for example, police in Oakland, California successfully recovered $35,000 in investigative costs from the owners of a problematic motel. Elsewhere, police and emergency rescue agencies charge thrill-seekers for the costs of rescue if their adventures go awry. Increasingly, police are extending the cost recovery principle to owners whose properties generate an inordinate volume of calls, such as taverns and apartment comple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fees are not intended as penalties; therefore, recovery is typically limited to the actual cost to the police agency. Nonetheless, the fees provide an economic incentive to individuals and businesses to keep the cost of police services under control by keeping problem behaviors under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sing for Legislation</a:t>
            </a:r>
            <a:r>
              <a:rPr b="0" lang="en-US" sz="1200" spc="-1" strike="noStrike">
                <a:solidFill>
                  <a:srgbClr val="000000"/>
                </a:solidFill>
                <a:latin typeface="Arial"/>
              </a:rPr>
              <a:t> - In addition to having recourse to the many laws that directly proscribe illegal and harmful conduct, police have long been aided by a variety of municipal ordinances and administrative regulations that are designed to manage and control the conditions that foster and engender offending and harm. These reflect a legislative judgment that certain businesses, organizations, and individuals are responsible for ensuring that the activities in which they are engaged are carried out in a safe and orderly fashion; a prime example is the extensive regulation of the sale of alcoholic beverages. Police now commonly establish conditions for issuing permits for public events such as parades, festivals, demonstrations, and street parties-conditions that require event organizers to provide for the public's safety and to prevent disorder and crime. The primary responsibility for such measures rests with the license or permit holder. The police role is secondary: to reinforce the responsibility of the license or permit holder through regulatory enforcement. By virtue of the special knowledge they have acquired by analyzing crime and disorder problems, police are often in a position to propose specific new laws and regulations that assign responsibility for controlling criminogenic conditions to certain individuals, businesses, or groups, and that impose penalties upon those who fail to do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nging a Civil Action</a:t>
            </a:r>
            <a:r>
              <a:rPr b="0" lang="en-US" sz="1200" spc="-1" strike="noStrike">
                <a:solidFill>
                  <a:srgbClr val="000000"/>
                </a:solidFill>
                <a:latin typeface="Arial"/>
              </a:rPr>
              <a:t> - There are several avenues by which police and others can bring legal actions to force individuals and organizations to implement measures to prevent crime and disorder. This strategy is normally reserved for the most egregious conditions and is employed only as a last resort, because, with some exceptions, the process is difficult and the costs are high. Among the numerous forms of civil actions police may either initiate or support are nuisance abatement orders (in the United States), anti-social behavior orders (in the United Kingdom), civil injunctions and restraining orders, civil asset forfeitures, civil fines, enforcement of codified regulations, and ev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Scott, M.S. and Goldstein H. (2005).  Shifting and Sharing Responsibility for Public Safety Problems, Problem-Oriented Guides for Police, Response Guides Series, No. 3.  Washington, DC.  Office of Community Oriented Policing Services, U.S. Department of Justice. http://www.popcenter.org/Responses/response-responsibilit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leading up to police efforts to shift or share responsibility typically involv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ing the magnitude of a specific problem;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ing the conditions that contribute to the problem; and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ing a link between those conditions and the individual, business, or organization deemed responsible for them.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gathering detailed information, including statistical data, is an integral part of the process before it moves forward. Because the police are using gradually increasing degrees of government power, such studies must be carried out meticulously to assure accuracy and fairness, and, when resulting in a proposal, to present the strongest possible ca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ch of the body of knowledge that police rely upon to argue for shifting and sharing responsibility for addressing problems is based upon insights they have acquired through years of experience and, less commonly, upon rigorous research. The value of police expertise is sometimes underestimated by those who rely only upon the highest standards of social science and policy analysis to inform policy decisions; conversely, such expertise is sometimes overestimated by those who believe that "street smarts" outweigh research-based knowledge. Much police knowledge about the prevention and control of crime and disorder is largely untested. That does not totally diminish its value, and there remains a critical need to capture, test, and refine police expertise, thereby contributing to a more formal body of knowledge to support police practic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Scott, M.S. and Goldstein H. (2005).  Shifting and Sharing Responsibility for Public Safety Problems, Problem-Oriented Guides for Police, Response Guides Series, No. 3.  Washington, DC.  Office of Community Oriented Policing Services, U.S. Department of Justice. http://www.popcenter.org/Responses/response-responsibility.ht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Scott, M.S. and Goldstein H. (2005).  Shifting and Sharing Responsibility for Public Safety Problems, Problem-Oriented Guides for Police, Response Guides Series, No. 3.  Washington, DC.  Office of Community Oriented Policing Services, U.S. Department of Justice. http://www.popcenter.org/Responses/response-responsibilit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Scott, M.S. and Goldstein H. (2005).  Shifting and Sharing Responsibility for Public Safety Problems, Problem-Oriented Guides for Police, Response Guides Series, No. 3.  Washington, DC.  Office of Community Oriented Policing Services, U.S. Department of Justice. http://www.popcenter.org/Responses/response-responsibilit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e responses likely to be implemented – Finding a suitable response can be a troublesome process.  You may be repeatedly disappointed when promising interventions are vetoed because of expense or difficult, or because of lack of cooperation.  Basic response requirement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It is not too ambitious or costly</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Focuses on near, direct causes rather than distant indirect ones, which gives it a good chance of making an immediate impact.</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The mechanism through which each response should impact the problem has been clearly articulated.</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ve main obstacles to implementation:</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anticipated technical difficulties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adequate supervision of implementation</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ilure to coordinate action among different agencies</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eting priorities</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anticipated cost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See Step 45 of</a:t>
            </a:r>
            <a:r>
              <a:rPr b="1" lang="en-US" sz="1000" spc="-1" strike="noStrike">
                <a:solidFill>
                  <a:srgbClr val="000000"/>
                </a:solidFill>
                <a:latin typeface="Arial"/>
              </a:rPr>
              <a:t> </a:t>
            </a:r>
            <a:r>
              <a:rPr b="0" lang="en-US" sz="1000" spc="-1" strike="noStrike">
                <a:solidFill>
                  <a:srgbClr val="000000"/>
                </a:solidFill>
                <a:latin typeface="Arial"/>
              </a:rPr>
              <a:t>Clarke R.V. and Eck, J.E. (2005). Crime Analysis for Problem-Solvers in 60 Small Steps.  Washington, DC. Office of Community Oriented Policing Servi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have learned, the Problem Analysis Triangle has three sides (offender, place, and victim).  However, some argue that there is a 4</a:t>
            </a:r>
            <a:r>
              <a:rPr b="0" lang="en-US" sz="1200" spc="-1" strike="noStrike" baseline="30000">
                <a:solidFill>
                  <a:srgbClr val="000000"/>
                </a:solidFill>
                <a:latin typeface="Arial"/>
              </a:rPr>
              <a:t>th</a:t>
            </a:r>
            <a:r>
              <a:rPr b="0" lang="en-US" sz="1200" spc="-1" strike="noStrike">
                <a:solidFill>
                  <a:srgbClr val="000000"/>
                </a:solidFill>
                <a:latin typeface="Arial"/>
              </a:rPr>
              <a:t> dimension to the triangle, such that the offender and victim must coincide in a place AND at a certain time.  The follow slides illustrate the importance of considering time within the context of the problem analysis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Maguire, E., Snipes, J. &amp; Katz, C. (2005).  Strategic Analysis and Deployment: Taking a STAND against Crime and Violence.  Presented to the Trinidad &amp; Tobago Police Services, Port of Spain, Trinidad &amp; Tob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absence of a long-term commitment on the part of police leaders to strengthening policing and the police as an institution -  </a:t>
            </a:r>
            <a:r>
              <a:rPr b="0" lang="en-US" sz="800" spc="-1" strike="noStrike">
                <a:solidFill>
                  <a:srgbClr val="000000"/>
                </a:solidFill>
                <a:latin typeface="Arial"/>
              </a:rPr>
              <a:t>The police agencies that have made the greatest progress in experimenting with problem-oriented policing had top executives who championed the concep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dedication requires a strong commitment up front to the importance of analyzing problems. It requires an appropriate allocation of resources.  It requires protecting those personnel engaged in detailed analysis from the demands of daily operations. It requires patience, because each in-depth study may take a substantial amount of time. It requires that those conducting a study and implementing its results have easy access to top executives for reviewing their recommendations.  And, if approved, it requires that these staff members have their backing in gaining both internal and external support for implementa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requirements for police leadership are in sharp conflict with the culture of police agencies and, specifically, with the demands being made on police executives today.  Police and, it follows, their leaders, are under extraordinary pressure in these times to respond most directly to the urgent concerns of the moment – be it a serious crime that awaits clearance, a crime wave that is generating wide-spread fears, or a much larger and amorphous threat such as, most recently, terroris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yond this, police executives, more recently, seem to be increasingly engaged in handling administrative problems that rise to the level of a crisis for their agency and that require fixing:  e.g., allegations of abuse or corruption; questionable use of deadly force; allegations of racial profiling; complaints of unanswered calls or slow response.  The majority of a police administrator’s time is consumed in matters relating to the management of his or her personne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lack of skills within a police agency that are required to analyze problems and to evaluate strategies for dealing with those problems -- </a:t>
            </a:r>
            <a:r>
              <a:rPr b="0" lang="en-US" sz="800" spc="-1" strike="noStrike">
                <a:solidFill>
                  <a:srgbClr val="000000"/>
                </a:solidFill>
                <a:latin typeface="Arial"/>
              </a:rPr>
              <a:t> Many police agencies of sufficient size have, or the past half century, established units or designated individuals to engage in research, planning and crime analysis.  The scope and quality of the work of these units is quite uneven.  Some are unfortunately relegated to performing rather mundane administrative and clerical tasks in support of an agency’s operations.  Most analyze crime patterns and seek to identify the offenders responsible for them. The best among them, buoyed by advances in the use of computerized data and in crime mapping, are now quite sophisticated in their operations.  They go well beyond helping operating officers in identifying offenders.   They study crime patterns as a basis for allocating personnel, for selecting strategies for dealing with these patterns, and for achieving great accountability in the organization. But even the most advanced of the crime analysis efforts have not extended their work to analyzing in depth (as contemplated in the context of problem-oriented policing) the common problems that police are required to handle.  Nor have their efforts extended to evaluating police strategies in responding to these problems. </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lack of a clear academic connection --   (1) </a:t>
            </a:r>
            <a:r>
              <a:rPr b="0" lang="en-US" sz="800" spc="-1" strike="noStrike">
                <a:solidFill>
                  <a:srgbClr val="000000"/>
                </a:solidFill>
                <a:latin typeface="Arial"/>
              </a:rPr>
              <a:t>From among the universe of studies, only a small percentage have focused specifically on researching problems that the police routinely handle and on the way in which those problems present themselves to the police.  Among these studies, even fewer focus on strategies for responding to those problems and, particularly, on the relative effectiveness of those strategies.  </a:t>
            </a:r>
            <a:r>
              <a:rPr b="1" lang="en-US" sz="800" spc="-1" strike="noStrike">
                <a:solidFill>
                  <a:srgbClr val="000000"/>
                </a:solidFill>
                <a:latin typeface="Arial"/>
              </a:rPr>
              <a:t>(2)</a:t>
            </a:r>
            <a:r>
              <a:rPr b="0" lang="en-US" sz="800" spc="-1" strike="noStrike">
                <a:solidFill>
                  <a:srgbClr val="000000"/>
                </a:solidFill>
                <a:latin typeface="Arial"/>
              </a:rPr>
              <a:t> An array of complex issues in the relationships between practitioners and academics and other researchers impede initiating such studies.  These same issues greatly limit the use of that knowledge which has already been acquired. </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ost critical needs, up front ar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o increase the number of academics willing to study the problems of concern to the police and willing to work on the development of methodologies for doing so;</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o increase the number of practitioners who are willing to engage with academics involved in this work and to open their agencies to research and;</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o develop university-level training for students interested in a career working within the police field in the newly defined position of problem analys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Goldstein, Herman (2003).  On Further Developing Problem-Oriented Policing:  The Most Critical Need, the Major Impediments, and a Proposal.  </a:t>
            </a:r>
            <a:r>
              <a:rPr b="0" i="1" lang="en-US" sz="800" spc="-1" strike="noStrike">
                <a:solidFill>
                  <a:srgbClr val="000000"/>
                </a:solidFill>
                <a:latin typeface="Arial"/>
              </a:rPr>
              <a:t>Crime Prevention Studies</a:t>
            </a:r>
            <a:r>
              <a:rPr b="0" lang="en-US" sz="800" spc="-1" strike="noStrike">
                <a:solidFill>
                  <a:srgbClr val="000000"/>
                </a:solidFill>
                <a:latin typeface="Arial"/>
              </a:rPr>
              <a:t>, Volume 15.  Criminal Justice Press, Monsey, N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absence of informed outside pressures – </a:t>
            </a:r>
            <a:r>
              <a:rPr b="0" lang="en-US" sz="800" spc="-1" strike="noStrike">
                <a:solidFill>
                  <a:srgbClr val="000000"/>
                </a:solidFill>
                <a:latin typeface="Arial"/>
              </a:rPr>
              <a:t>Given the absence of a stronger initiative from within police agencies to make greater use of new knowledge to inform police practice, it has been observed that it will take pressure from outside police agencies to get them to do so.  But there is little reason to believe that the public is sufficiently informed about policing to bring such pressures to bear – to know what they should be pressuring for or even what questions they should be asking.</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lack of financial support</a:t>
            </a:r>
            <a:r>
              <a:rPr b="0" lang="en-US" sz="800" spc="-1" strike="noStrike">
                <a:solidFill>
                  <a:srgbClr val="000000"/>
                </a:solidFill>
                <a:latin typeface="Arial"/>
              </a:rPr>
              <a:t> -  For a police agency to hire one or more problem analysts will require funds.  And to free police officers from other duties so that they can join in working on specific problems will also involve some costs.  In the current milieu, most police executives would resist the new costs.  In the intense competition for police resources, a police chief is hard pressed to create any positions that take funds, officers or other existing staff away from the established programs aimed at providing basic services in the field.</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ck of adequate infrastructure</a:t>
            </a:r>
            <a:r>
              <a:rPr b="0" lang="en-US" sz="800" spc="-1" strike="noStrike">
                <a:solidFill>
                  <a:srgbClr val="000000"/>
                </a:solidFill>
                <a:latin typeface="Arial"/>
              </a:rPr>
              <a:t> – This can take on many forms, but if the people and organization are not effective and efficient, the project will be challenged from the beginning to the end.</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lowed inertia or competing demands</a:t>
            </a:r>
            <a:r>
              <a:rPr b="0" lang="en-US" sz="800" spc="-1" strike="noStrike">
                <a:solidFill>
                  <a:srgbClr val="000000"/>
                </a:solidFill>
                <a:latin typeface="Arial"/>
              </a:rPr>
              <a:t> – Often a project gets off to a quick start, but then stagnates as attention is directed elsewhere or as new challenges arise.</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ck of training, rewards, and/or supervision</a:t>
            </a:r>
            <a:r>
              <a:rPr b="0" lang="en-US" sz="800" spc="-1" strike="noStrike">
                <a:solidFill>
                  <a:srgbClr val="000000"/>
                </a:solidFill>
                <a:latin typeface="Arial"/>
              </a:rPr>
              <a:t> – All of these are important for employees, who ultimately make POP projects succeed or fai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Goldstein, Herman (2003).  On Further Developing Problem-Oriented Policing:  The Most Critical Need, the Major Impediments, and a Proposal.  </a:t>
            </a:r>
            <a:r>
              <a:rPr b="0" i="1" lang="en-US" sz="800" spc="-1" strike="noStrike">
                <a:solidFill>
                  <a:srgbClr val="000000"/>
                </a:solidFill>
                <a:latin typeface="Arial"/>
              </a:rPr>
              <a:t>Crime Prevention Studies</a:t>
            </a:r>
            <a:r>
              <a:rPr b="0" lang="en-US" sz="800" spc="-1" strike="noStrike">
                <a:solidFill>
                  <a:srgbClr val="000000"/>
                </a:solidFill>
                <a:latin typeface="Arial"/>
              </a:rPr>
              <a:t>, Volume 15.  Criminal Justice Press, Monsey, N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Maguire, E., Snipes, J. &amp; Katz, C. (2005).  Strategic Analysis and Deployment: Taking a STAND against Crime and Violence.  Presented to the Trinidad &amp; Tobago Police Services, Port of Spain, Trinidad &amp; Tobag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Maguire, E., Snipes, J. &amp; Katz, C. (2005).  Strategic Analysis and Deployment: Taking a STAND against Crime and Violence.  Presented to the Trinidad &amp; Tobago Police Services, Port of Spain, Trinidad &amp; Tobag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Maguire, E., Snipes, J. &amp; Katz, C. (2005).  Strategic Analysis and Deployment: Taking a STAND against Crime and Violence.  Presented to the Trinidad &amp; Tobago Police Services, Port of Spain, Trinidad &amp; Tobag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Maguire, E., Snipes, J. &amp; Katz, C. (2005).  Strategic Analysis and Deployment: Taking a STAND against Crime and Violence.  Presented to the Trinidad &amp; Tobago Police Services, Port of Spain, Trinidad &amp; Tobag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Maguire, E., Snipes, J. &amp; Katz, C. (2005).  Strategic Analysis and Deployment: Taking a STAND against Crime and Violence.  Presented to the Trinidad &amp; Tobago Police Services, Port of Spain, Trinidad &amp; Tobag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Maguire, E., Snipes, J. &amp; Katz, C. (2005).  Strategic Analysis and Deployment: Taking a STAND against Crime and Violence.  Presented to the Trinidad &amp; Tobago Police Services, Port of Spain, Trinidad &amp; Toba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FB333-D17C-4DEE-9CE0-D7AB4DCE5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84951-5D7A-4135-8498-71EFA44E5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F1ECA-A98F-4F9F-85DC-B7FD8A3BA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F4860-2DDC-4165-B181-A63BB68E6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DE744-A02C-4417-904A-E1635B967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11C6D-05D3-4D10-BFCA-FC2B3A55A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94A05-6DE4-4D17-B5BF-1247FAE8D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98433-3712-4C6D-8FDE-949825B4B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7A3FC-83E3-40F1-AE04-C3F113C30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86198-2C22-4A83-9ACF-B65508266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D3C90-25DF-4BEF-AD1B-88CDF28A3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CB743-EED6-43EE-8D04-8EC7BCBFA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89073-728C-4399-8BE5-B1B9382813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14</a:t>
            </a:r>
            <a:endParaRPr b="0" lang="en-US" sz="4000" spc="-1" strike="noStrike">
              <a:solidFill>
                <a:srgbClr val="000000"/>
              </a:solidFill>
              <a:latin typeface="Arial"/>
            </a:endParaRPr>
          </a:p>
        </p:txBody>
      </p:sp>
      <p:sp>
        <p:nvSpPr>
          <p:cNvPr id="49" name=""/>
          <p:cNvSpPr/>
          <p:nvPr/>
        </p:nvSpPr>
        <p:spPr>
          <a:xfrm>
            <a:off x="380880" y="4191120"/>
            <a:ext cx="8382240" cy="2361960"/>
          </a:xfrm>
          <a:prstGeom prst="rect">
            <a:avLst/>
          </a:prstGeom>
          <a:noFill/>
          <a:ln w="0">
            <a:noFill/>
          </a:ln>
        </p:spPr>
        <p:style>
          <a:lnRef idx="0"/>
          <a:fillRef idx="0"/>
          <a:effectRef idx="0"/>
          <a:fontRef idx="minor"/>
        </p:style>
        <p:txBody>
          <a:bodyPr lIns="90000" rIns="90000" tIns="46800" bIns="46800" anchor="t">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hallenges and Future Considerations for Implementing Successful POP Projects</a:t>
            </a:r>
            <a:endParaRPr b="0" lang="en-US" sz="2900" spc="-1" strike="noStrike">
              <a:solidFill>
                <a:srgbClr val="000000"/>
              </a:solidFill>
              <a:latin typeface="Arial"/>
            </a:endParaRPr>
          </a:p>
        </p:txBody>
      </p:sp>
      <p:pic>
        <p:nvPicPr>
          <p:cNvPr id="50" name="" descr=""/>
          <p:cNvPicPr/>
          <p:nvPr/>
        </p:nvPicPr>
        <p:blipFill>
          <a:blip r:embed="rId1"/>
          <a:stretch/>
        </p:blipFill>
        <p:spPr>
          <a:xfrm>
            <a:off x="1752480" y="838080"/>
            <a:ext cx="5486400" cy="1000080"/>
          </a:xfrm>
          <a:prstGeom prst="rect">
            <a:avLst/>
          </a:prstGeom>
          <a:ln w="0">
            <a:noFill/>
          </a:ln>
        </p:spPr>
      </p:pic>
      <p:sp>
        <p:nvSpPr>
          <p:cNvPr id="2" name="PlaceHolder 1"/>
          <p:cNvSpPr>
            <a:spLocks noGrp="1"/>
          </p:cNvSpPr>
          <p:nvPr>
            <p:ph type="sldNum" idx="3"/>
          </p:nvPr>
        </p:nvSpPr>
        <p:spPr/>
        <p:txBody>
          <a:bodyPr/>
          <a:p>
            <a:fld id="{1C897700-8D91-48C5-8779-85448505B3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Making Deployment Decisions by Shifts</a:t>
            </a:r>
            <a:endParaRPr b="0" lang="en-US" sz="35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 of violent crime takes place on the midnight shift (12-8).</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takes place on the day shift (8-4).</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takes place on the evening shift (4-1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rthwest precinct has 500 offic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midnight shift has 35% of the violent crime, so it gets 175 offi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day shift has 20%, so it gets 100 offi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evening shift has 45%, so it gets 225 officers.</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79F138F8-7D56-4D6C-BA42-A67A73791E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verall Deployment Picture</a:t>
            </a:r>
            <a:endParaRPr b="0" lang="en-US" sz="4400" spc="-1" strike="noStrike">
              <a:solidFill>
                <a:srgbClr val="000000"/>
              </a:solidFill>
              <a:latin typeface="Arial"/>
            </a:endParaRPr>
          </a:p>
        </p:txBody>
      </p:sp>
      <p:graphicFrame>
        <p:nvGraphicFramePr>
          <p:cNvPr id="84" name=""/>
          <p:cNvGraphicFramePr/>
          <p:nvPr/>
        </p:nvGraphicFramePr>
        <p:xfrm>
          <a:off x="304920" y="1447920"/>
          <a:ext cx="8457480" cy="4875840"/>
        </p:xfrm>
        <a:graphic>
          <a:graphicData uri="http://schemas.openxmlformats.org/drawingml/2006/table">
            <a:tbl>
              <a:tblPr/>
              <a:tblGrid>
                <a:gridCol w="4048920"/>
                <a:gridCol w="4408560"/>
              </a:tblGrid>
              <a:tr h="2437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Northwes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tal: 500 offic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idnight: 175 offic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y: 100 offic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vening: 225 offic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Northeas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tal: 200 offic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idnight: 70 offic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y: 40 offic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vening: 90 offic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3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outhwes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tal: 200 offic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idnight: 70 offic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y: 40 offic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vening: 90 offic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outheas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tal: 100 offic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idnight: 35 offic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y: 20 offic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vening: 45 offic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057CE59F-8A6E-459B-9DF5-288A21AC95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s from this Example</a:t>
            </a:r>
            <a:endParaRPr b="0" lang="en-US" sz="4400" spc="-1" strike="noStrike">
              <a:solidFill>
                <a:srgbClr val="000000"/>
              </a:solidFill>
              <a:latin typeface="Arial"/>
            </a:endParaRPr>
          </a:p>
        </p:txBody>
      </p:sp>
      <p:sp>
        <p:nvSpPr>
          <p:cNvPr id="86"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we ignored spatial and temporal patterns and deployed evenly, each shift in each precinct would have received about 83 offic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vening shift in Northwest would have had just over one-third of the officers it would get based on workloa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ree shifts in Southeast would have been significantly over-polic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F871156-BBF2-4EC9-815D-D3D6ADD48B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s from this Exampl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noring data on crime patterns over place and time results in significant costs in both efficiency and effectiven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xample is purposely simplistic and meant to illustrate the importance of tracking crime times and patterns; it ignores a number of factors, including what the police do once they are deploy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65A547B-37E2-47A0-BBD6-0D13A9B3C5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380880"/>
            <a:ext cx="861048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rriers to Implementation</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FDA810DE-D1AE-470F-97B2-C8A1742B7C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sons Why Problem-Solving Initiatives Can Fail</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was inaccurately identifi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was insufficiently or inadequately analyz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veloped responses were improperly or insufficiently implemen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was properly identified and analyzed and responses were implemented, but they did not have the desired effec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072F003-702A-4BA1-89C3-6B9DBE2B5D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2743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sons for Implementation Failures</a:t>
            </a:r>
            <a:endParaRPr b="0" lang="en-US" sz="3600" spc="-1" strike="noStrike">
              <a:solidFill>
                <a:srgbClr val="000000"/>
              </a:solidFill>
              <a:latin typeface="Arial"/>
            </a:endParaRPr>
          </a:p>
        </p:txBody>
      </p:sp>
      <p:sp>
        <p:nvSpPr>
          <p:cNvPr id="93" name="PlaceHolder 2"/>
          <p:cNvSpPr>
            <a:spLocks noGrp="1"/>
          </p:cNvSpPr>
          <p:nvPr>
            <p:ph/>
          </p:nvPr>
        </p:nvSpPr>
        <p:spPr>
          <a:xfrm>
            <a:off x="380880" y="1371600"/>
            <a:ext cx="822960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stics, skills and actions of project manage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cooperation external to the poli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 of implement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36B314D-F70D-4266-A14D-95AE93D9C4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racteristics, Skills and Actions of Project Managers</a:t>
            </a:r>
            <a:endParaRPr b="0" lang="en-US" sz="4000" spc="-1" strike="noStrike">
              <a:solidFill>
                <a:srgbClr val="000000"/>
              </a:solidFill>
              <a:latin typeface="Arial"/>
            </a:endParaRPr>
          </a:p>
        </p:txBody>
      </p:sp>
      <p:sp>
        <p:nvSpPr>
          <p:cNvPr id="95" name="PlaceHolder 2"/>
          <p:cNvSpPr>
            <a:spLocks noGrp="1"/>
          </p:cNvSpPr>
          <p:nvPr>
            <p:ph/>
          </p:nvPr>
        </p:nvSpPr>
        <p:spPr>
          <a:xfrm>
            <a:off x="304560" y="1599840"/>
            <a:ext cx="8381880" cy="4876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dership at or near the level of the principal project agent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 support and involvement of high-ranking police executive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inuity of project leadership and management</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ship of the initiativ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ive communication of policy objectives and directives to those responsible for implementation</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ional capabilities of key individual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93136BC-DF4E-4B1C-A852-D43202BF28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ources</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iciency of legal and organizational author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and flexibility of sufficient resour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553A87A-F6EE-48A4-B520-DEACAE6176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pport and Cooperation External to the Police Agency</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ss roots community suppor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ive media coverag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ence of organizations with the capacity and mandate to implement respons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uitous tim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uence of perspectives and objectiv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CE21F7C-435C-4960-8E73-AC3BAB00E8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 14 Topics</a:t>
            </a:r>
            <a:endParaRPr b="0" lang="en-US" sz="4400" spc="-1" strike="noStrike">
              <a:solidFill>
                <a:srgbClr val="000000"/>
              </a:solidFill>
              <a:latin typeface="Arial"/>
            </a:endParaRPr>
          </a:p>
        </p:txBody>
      </p:sp>
      <p:sp>
        <p:nvSpPr>
          <p:cNvPr id="52"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ime - The 4</a:t>
            </a:r>
            <a:r>
              <a:rPr b="0" lang="en-US" sz="2900" spc="-1" strike="noStrike" baseline="30000">
                <a:solidFill>
                  <a:srgbClr val="000000"/>
                </a:solidFill>
                <a:latin typeface="Arial"/>
              </a:rPr>
              <a:t>th</a:t>
            </a:r>
            <a:r>
              <a:rPr b="0" lang="en-US" sz="2900" spc="-1" strike="noStrike">
                <a:solidFill>
                  <a:srgbClr val="000000"/>
                </a:solidFill>
                <a:latin typeface="Arial"/>
              </a:rPr>
              <a:t> (Missing) Dimension of the Problem Analysis Triangle</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rriers to Implementation</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hifting and Sharing Responsibility for Public Safety Problem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ome Major Impediments to Further POP Implementation and Progress</a:t>
            </a: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3"/>
          </p:nvPr>
        </p:nvSpPr>
        <p:spPr/>
        <p:txBody>
          <a:bodyPr/>
          <a:p>
            <a:fld id="{24E155D5-0973-4825-ADE3-A93FF1F0B6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idence</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quacy of hard data support a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communication of the evidence to key decision mak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3B1336D-F9C3-4392-A59F-0F422412D5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Complexity of Implementation</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e of implem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ence of delay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2AE07EC-0783-4499-AD7A-091D9F0C45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80880"/>
            <a:ext cx="861048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ifting and Sharing Responsibility for</a:t>
            </a:r>
            <a:br>
              <a:rPr sz="4000"/>
            </a:br>
            <a:r>
              <a:rPr b="1" lang="en-US" sz="4000" spc="-1" strike="noStrike">
                <a:solidFill>
                  <a:srgbClr val="000000"/>
                </a:solidFill>
                <a:latin typeface="Arial"/>
              </a:rPr>
              <a:t> Public Safety Problem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50FB7F86-3EFD-41FE-8C16-C0AC6B13BF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1600200"/>
            <a:ext cx="838188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ng Victims and Offend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a Straightforward Informal Reque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a Targeted Confrontational Reque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ing Another Existing Service Agenc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ing for the Creation of a New Organization</a:t>
            </a:r>
            <a:endParaRPr b="0" lang="en-US" sz="2800" spc="-1" strike="noStrike">
              <a:solidFill>
                <a:srgbClr val="000000"/>
              </a:solidFill>
              <a:latin typeface="Arial"/>
            </a:endParaRPr>
          </a:p>
        </p:txBody>
      </p:sp>
      <p:sp>
        <p:nvSpPr>
          <p:cNvPr id="106" name="PlaceHolder 2"/>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hods for Shifting  </a:t>
            </a:r>
            <a:br>
              <a:rPr sz="3200"/>
            </a:br>
            <a:r>
              <a:rPr b="1" lang="en-US" sz="3200" spc="-1" strike="noStrike">
                <a:solidFill>
                  <a:srgbClr val="000000"/>
                </a:solidFill>
                <a:latin typeface="Arial"/>
              </a:rPr>
              <a:t>and Sharing Responsibilit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BE0EA28-AE3E-4D55-965A-61DDEB03DE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ming Delinquent Par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drawing Police Serv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ing Fees for Police Serv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ing for Legisl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ing Civil Action</a:t>
            </a:r>
            <a:endParaRPr b="0" lang="en-US" sz="2800" spc="-1" strike="noStrike">
              <a:solidFill>
                <a:srgbClr val="000000"/>
              </a:solidFill>
              <a:latin typeface="Arial"/>
            </a:endParaRPr>
          </a:p>
        </p:txBody>
      </p:sp>
      <p:sp>
        <p:nvSpPr>
          <p:cNvPr id="108" name="PlaceHolder 2"/>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hods for Shifting and</a:t>
            </a:r>
            <a:br>
              <a:rPr sz="3200"/>
            </a:br>
            <a:r>
              <a:rPr b="1" lang="en-US" sz="3200" spc="-1" strike="noStrike">
                <a:solidFill>
                  <a:srgbClr val="000000"/>
                </a:solidFill>
                <a:latin typeface="Arial"/>
              </a:rPr>
              <a:t> Sharing Responsibilit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46E45D2-9E19-460C-A541-284766E59E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ing the Effectiveness of New Respons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the Appropriate Degree of Pressure to Shift Responsibility </a:t>
            </a:r>
            <a:endParaRPr b="0" lang="en-US" sz="3200" spc="-1" strike="noStrike">
              <a:solidFill>
                <a:srgbClr val="000000"/>
              </a:solidFill>
              <a:latin typeface="Arial"/>
            </a:endParaRPr>
          </a:p>
        </p:txBody>
      </p:sp>
      <p:sp>
        <p:nvSpPr>
          <p:cNvPr id="110" name="PlaceHolder 2"/>
          <p:cNvSpPr>
            <a:spLocks noGrp="1"/>
          </p:cNvSpPr>
          <p:nvPr>
            <p:ph type="title"/>
          </p:nvPr>
        </p:nvSpPr>
        <p:spPr>
          <a:xfrm>
            <a:off x="-360" y="274320"/>
            <a:ext cx="89154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siderations for Shifting</a:t>
            </a:r>
            <a:br>
              <a:rPr sz="4000"/>
            </a:br>
            <a:r>
              <a:rPr b="1" lang="en-US" sz="4000" spc="-1" strike="noStrike">
                <a:solidFill>
                  <a:srgbClr val="000000"/>
                </a:solidFill>
                <a:latin typeface="Arial"/>
              </a:rPr>
              <a:t> and Sharing Responsibility</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E7D92F4F-7CC0-41D1-B758-528E37168D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ustification for the pressure in the first instance, including the cost to the police and to the community of maintaining the status qu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ableness of police requests, including the standards of proof police must carry to establish such reasonablen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ability that a new set of responses to the problem will have long-term preventive value; </a:t>
            </a:r>
            <a:endParaRPr b="0" lang="en-US" sz="28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termining Appropriate Pressur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28DDEDF1-BDA2-419A-B678-2CD9E3F0FE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kelihood that key constituents will endorse or accept the new proposals, which is influenced by the complexity of the issue at han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ure, degree, and consequences of resisting police attempts to share or shift responsibility, including the potential risks and costs to the police organization and its officials for pressing controversial proposals. </a:t>
            </a:r>
            <a:endParaRPr b="0" lang="en-US" sz="2800" spc="-1" strike="noStrike">
              <a:solidFill>
                <a:srgbClr val="000000"/>
              </a:solidFill>
              <a:latin typeface="Arial"/>
            </a:endParaRPr>
          </a:p>
        </p:txBody>
      </p:sp>
      <p:sp>
        <p:nvSpPr>
          <p:cNvPr id="11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termining Appropriate Pressur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1B606A02-8E0A-4BC9-9450-C53FFABF90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80880"/>
            <a:ext cx="861048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rriers to POP Implementation</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7BD0C06E-0B84-420F-B809-CA486B469A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ve Main Obstacles to</a:t>
            </a:r>
            <a:br>
              <a:rPr sz="4000"/>
            </a:br>
            <a:r>
              <a:rPr b="1" lang="en-US" sz="4000" spc="-1" strike="noStrike">
                <a:solidFill>
                  <a:srgbClr val="000000"/>
                </a:solidFill>
                <a:latin typeface="Arial"/>
              </a:rPr>
              <a:t> Response Implementation</a:t>
            </a:r>
            <a:endParaRPr b="0" lang="en-US" sz="4000" spc="-1" strike="noStrike">
              <a:solidFill>
                <a:srgbClr val="000000"/>
              </a:solidFill>
              <a:latin typeface="Arial"/>
            </a:endParaRPr>
          </a:p>
        </p:txBody>
      </p:sp>
      <p:sp>
        <p:nvSpPr>
          <p:cNvPr id="117" name="PlaceHolder 2"/>
          <p:cNvSpPr>
            <a:spLocks noGrp="1"/>
          </p:cNvSpPr>
          <p:nvPr>
            <p:ph/>
          </p:nvPr>
        </p:nvSpPr>
        <p:spPr>
          <a:xfrm>
            <a:off x="304560" y="1752120"/>
            <a:ext cx="8381880" cy="48006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nticipated technical difficulties</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dequate supervision of implementation</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to coordinate action among different agencies</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ng priorities</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nticipated Cos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14EC0C0-9937-4268-A421-9AB6C1B2E2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80880"/>
            <a:ext cx="861048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ime:</a:t>
            </a:r>
            <a:br>
              <a:rPr sz="4000"/>
            </a:br>
            <a:r>
              <a:rPr b="1" lang="en-US" sz="4000" spc="-1" strike="noStrike">
                <a:solidFill>
                  <a:srgbClr val="000000"/>
                </a:solidFill>
                <a:latin typeface="Arial"/>
              </a:rPr>
              <a:t>The 4</a:t>
            </a:r>
            <a:r>
              <a:rPr b="1" lang="en-US" sz="4000" spc="-1" strike="noStrike" baseline="30000">
                <a:solidFill>
                  <a:srgbClr val="000000"/>
                </a:solidFill>
                <a:latin typeface="Arial"/>
              </a:rPr>
              <a:t>th</a:t>
            </a:r>
            <a:r>
              <a:rPr b="1" lang="en-US" sz="4000" spc="-1" strike="noStrike">
                <a:solidFill>
                  <a:srgbClr val="000000"/>
                </a:solidFill>
                <a:latin typeface="Arial"/>
              </a:rPr>
              <a:t> (missing) Dimension</a:t>
            </a:r>
            <a:br>
              <a:rPr sz="4000"/>
            </a:br>
            <a:r>
              <a:rPr b="1" lang="en-US" sz="4000" spc="-1" strike="noStrike">
                <a:solidFill>
                  <a:srgbClr val="000000"/>
                </a:solidFill>
                <a:latin typeface="Arial"/>
              </a:rPr>
              <a:t> of the Problem Analysis Triangle</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D7ED226A-81E2-4153-AC8E-A71CCB316B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me Final Major Impediments to Further Development of PO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9"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bsence of a long-term commitment on the part of police leaders to strengthening policing and the police as an institution.</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ck of skills within a police agency that are required to analyze problems and to evaluate strategies for dealing with those problem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ck of a clear academic connection.</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C932AA2-4639-411A-AE5E-E241739D3F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me Final Major Impediments to Further Development of POP</a:t>
            </a:r>
            <a:endParaRPr b="0" lang="en-US" sz="4000" spc="-1" strike="noStrike">
              <a:solidFill>
                <a:srgbClr val="000000"/>
              </a:solidFill>
              <a:latin typeface="Arial"/>
            </a:endParaRPr>
          </a:p>
        </p:txBody>
      </p:sp>
      <p:sp>
        <p:nvSpPr>
          <p:cNvPr id="121" name="PlaceHolder 2"/>
          <p:cNvSpPr>
            <a:spLocks noGrp="1"/>
          </p:cNvSpPr>
          <p:nvPr>
            <p:ph/>
          </p:nvPr>
        </p:nvSpPr>
        <p:spPr>
          <a:xfrm>
            <a:off x="228600" y="1752480"/>
            <a:ext cx="86868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of informed outside pressure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ck of financial support</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adequate infrastructure</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ed inertia or competing demand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training, rewards, and/or supervision.</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41C677C-107F-49CC-A79B-8B5383F56985}"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alyzing Crime Patterns</a:t>
            </a:r>
            <a:endParaRPr b="0" lang="en-US" sz="4000" spc="-1" strike="noStrike">
              <a:solidFill>
                <a:srgbClr val="000000"/>
              </a:solidFill>
              <a:latin typeface="Arial"/>
            </a:endParaRPr>
          </a:p>
        </p:txBody>
      </p:sp>
      <p:sp>
        <p:nvSpPr>
          <p:cNvPr id="55"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e is not distributed randomly over place/ti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and efficient deployment requires data on the distribution of police worklo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ximize effectiveness and efficiency, police data systems need to capture data that enable them to recognize concentrations in cri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concentrations can include offenders, victims, places and tim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AB31D49-E9CF-4AF2-8BDD-44AA64C051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peat Times</a:t>
            </a:r>
            <a:endParaRPr b="0" lang="en-US" sz="4400" spc="-1" strike="noStrike">
              <a:solidFill>
                <a:srgbClr val="000000"/>
              </a:solidFill>
              <a:latin typeface="Arial"/>
            </a:endParaRPr>
          </a:p>
        </p:txBody>
      </p:sp>
      <p:sp>
        <p:nvSpPr>
          <p:cNvPr id="57" name="PlaceHolder 2"/>
          <p:cNvSpPr>
            <a:spLocks noGrp="1"/>
          </p:cNvSpPr>
          <p:nvPr>
            <p:ph/>
          </p:nvPr>
        </p:nvSpPr>
        <p:spPr>
          <a:xfrm>
            <a:off x="228600" y="1295280"/>
            <a:ext cx="8610480" cy="518184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any offense types have a temporal signature.</a:t>
            </a:r>
            <a:endParaRPr b="0" lang="en-US" sz="3500" spc="-1" strike="noStrike">
              <a:solidFill>
                <a:srgbClr val="000000"/>
              </a:solidFill>
              <a:latin typeface="Arial"/>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Violent crime increases when kids are in school, but property crime decreases.</a:t>
            </a:r>
            <a:endParaRPr b="0" lang="en-US" sz="3500" spc="-1" strike="noStrike">
              <a:solidFill>
                <a:srgbClr val="000000"/>
              </a:solidFill>
              <a:latin typeface="Arial"/>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Residential burglars ply their trade when the legitimate workforce leaves their homes to go to work.</a:t>
            </a:r>
            <a:endParaRPr b="0" lang="en-US" sz="3500" spc="-1" strike="noStrike">
              <a:solidFill>
                <a:srgbClr val="000000"/>
              </a:solidFill>
              <a:latin typeface="Arial"/>
            </a:endParaRPr>
          </a:p>
        </p:txBody>
      </p:sp>
      <p:sp>
        <p:nvSpPr>
          <p:cNvPr id="4" name="PlaceHolder 3"/>
          <p:cNvSpPr>
            <a:spLocks noGrp="1"/>
          </p:cNvSpPr>
          <p:nvPr>
            <p:ph type="sldNum" idx="3"/>
          </p:nvPr>
        </p:nvSpPr>
        <p:spPr/>
        <p:txBody>
          <a:bodyPr/>
          <a:p>
            <a:fld id="{D422DE16-4582-4E5E-88CF-F9775BBFBA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peat Times</a:t>
            </a:r>
            <a:endParaRPr b="0" lang="en-US" sz="4400" spc="-1" strike="noStrike">
              <a:solidFill>
                <a:srgbClr val="000000"/>
              </a:solidFill>
              <a:latin typeface="Arial"/>
            </a:endParaRPr>
          </a:p>
        </p:txBody>
      </p:sp>
      <p:sp>
        <p:nvSpPr>
          <p:cNvPr id="59" name="PlaceHolder 2"/>
          <p:cNvSpPr>
            <a:spLocks noGrp="1"/>
          </p:cNvSpPr>
          <p:nvPr>
            <p:ph/>
          </p:nvPr>
        </p:nvSpPr>
        <p:spPr>
          <a:xfrm>
            <a:off x="380880" y="1371240"/>
            <a:ext cx="8229600" cy="4876920"/>
          </a:xfrm>
          <a:prstGeom prst="rect">
            <a:avLst/>
          </a:prstGeom>
          <a:noFill/>
          <a:ln w="0">
            <a:noFill/>
          </a:ln>
        </p:spPr>
        <p:txBody>
          <a:bodyPr lIns="90000" rIns="90000" tIns="46800" bIns="46800" anchor="t">
            <a:normAutofit fontScale="94000"/>
          </a:bodyPr>
          <a:p>
            <a:pPr marL="322200" indent="-32220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se temporal signatures can occur by the hour, day, week, month, or year.</a:t>
            </a:r>
            <a:endParaRPr b="0" lang="en-US" sz="3100" spc="-1" strike="noStrike">
              <a:solidFill>
                <a:srgbClr val="000000"/>
              </a:solidFill>
              <a:latin typeface="Arial"/>
            </a:endParaRPr>
          </a:p>
          <a:p>
            <a:pPr marL="32220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22200" indent="-32220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way to detect outbreaks of violence is to put in place early detection systems that track sudden increases above the “normal” amount of crime.</a:t>
            </a:r>
            <a:endParaRPr b="0" lang="en-US" sz="3100" spc="-1" strike="noStrike">
              <a:solidFill>
                <a:srgbClr val="000000"/>
              </a:solidFill>
              <a:latin typeface="Arial"/>
            </a:endParaRPr>
          </a:p>
          <a:p>
            <a:pPr marL="32220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22200" indent="-32220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ffective analysis of crime patterns means understanding the “rhythm” of the offense over time.</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1810D9A0-9751-4208-BFE2-AD7FF474F7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228600"/>
            <a:ext cx="883908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othetical Community with </a:t>
            </a:r>
            <a:br>
              <a:rPr sz="3200"/>
            </a:br>
            <a:r>
              <a:rPr b="1" lang="en-US" sz="3200" spc="-1" strike="noStrike">
                <a:solidFill>
                  <a:srgbClr val="000000"/>
                </a:solidFill>
                <a:latin typeface="Arial"/>
              </a:rPr>
              <a:t>Four Police Precincts</a:t>
            </a:r>
            <a:endParaRPr b="0" lang="en-US" sz="3200" spc="-1" strike="noStrike">
              <a:solidFill>
                <a:srgbClr val="000000"/>
              </a:solidFill>
              <a:latin typeface="Arial"/>
            </a:endParaRPr>
          </a:p>
        </p:txBody>
      </p:sp>
      <p:sp>
        <p:nvSpPr>
          <p:cNvPr id="61" name="PlaceHolder 2"/>
          <p:cNvSpPr>
            <a:spLocks noGrp="1"/>
          </p:cNvSpPr>
          <p:nvPr>
            <p:ph type="subTitle"/>
          </p:nvPr>
        </p:nvSpPr>
        <p:spPr>
          <a:xfrm>
            <a:off x="914400" y="1294920"/>
            <a:ext cx="7772400" cy="685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ercent of Violent Crime in Each Precinct</a:t>
            </a:r>
            <a:endParaRPr b="0" lang="en-US" sz="2400" spc="-1" strike="noStrike">
              <a:solidFill>
                <a:srgbClr val="000000"/>
              </a:solidFill>
              <a:latin typeface="Arial"/>
            </a:endParaRPr>
          </a:p>
        </p:txBody>
      </p:sp>
      <p:grpSp>
        <p:nvGrpSpPr>
          <p:cNvPr id="62" name=""/>
          <p:cNvGrpSpPr/>
          <p:nvPr/>
        </p:nvGrpSpPr>
        <p:grpSpPr>
          <a:xfrm>
            <a:off x="2061000" y="2211480"/>
            <a:ext cx="5554800" cy="3394080"/>
            <a:chOff x="2061000" y="2211480"/>
            <a:chExt cx="5554800" cy="3394080"/>
          </a:xfrm>
        </p:grpSpPr>
        <p:sp>
          <p:nvSpPr>
            <p:cNvPr id="63" name=""/>
            <p:cNvSpPr/>
            <p:nvPr/>
          </p:nvSpPr>
          <p:spPr>
            <a:xfrm>
              <a:off x="2061000" y="2211480"/>
              <a:ext cx="5554800" cy="3394080"/>
            </a:xfrm>
            <a:custGeom>
              <a:avLst/>
              <a:gdLst/>
              <a:ahLst/>
              <a:rect l="l" t="t" r="r" b="b"/>
              <a:pathLst>
                <a:path w="6480" h="3960">
                  <a:moveTo>
                    <a:pt x="1260" y="180"/>
                  </a:moveTo>
                  <a:lnTo>
                    <a:pt x="360" y="720"/>
                  </a:lnTo>
                  <a:lnTo>
                    <a:pt x="0" y="1980"/>
                  </a:lnTo>
                  <a:lnTo>
                    <a:pt x="1800" y="3240"/>
                  </a:lnTo>
                  <a:lnTo>
                    <a:pt x="3960" y="3960"/>
                  </a:lnTo>
                  <a:lnTo>
                    <a:pt x="5760" y="3240"/>
                  </a:lnTo>
                  <a:lnTo>
                    <a:pt x="6480" y="2160"/>
                  </a:lnTo>
                  <a:lnTo>
                    <a:pt x="5580" y="1260"/>
                  </a:lnTo>
                  <a:lnTo>
                    <a:pt x="5760" y="540"/>
                  </a:lnTo>
                  <a:lnTo>
                    <a:pt x="4680" y="0"/>
                  </a:lnTo>
                  <a:lnTo>
                    <a:pt x="1260" y="18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684320" y="2279880"/>
              <a:ext cx="720" cy="30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061000" y="3909240"/>
              <a:ext cx="54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141000" y="2674440"/>
              <a:ext cx="1234440" cy="10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4992840" y="2674440"/>
              <a:ext cx="1234440" cy="10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992840" y="4063680"/>
              <a:ext cx="1234440" cy="10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3449880" y="4063680"/>
              <a:ext cx="12344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Arial"/>
              </a:endParaRPr>
            </a:p>
          </p:txBody>
        </p:sp>
      </p:grpSp>
      <p:sp>
        <p:nvSpPr>
          <p:cNvPr id="70" name=""/>
          <p:cNvSpPr/>
          <p:nvPr/>
        </p:nvSpPr>
        <p:spPr>
          <a:xfrm>
            <a:off x="1676520" y="2133720"/>
            <a:ext cx="6324480" cy="373356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075120" y="274320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Northwe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0%</a:t>
            </a:r>
            <a:endParaRPr b="0" lang="en-US" sz="1800" spc="-1" strike="noStrike">
              <a:solidFill>
                <a:srgbClr val="000000"/>
              </a:solidFill>
              <a:latin typeface="Arial"/>
            </a:endParaRPr>
          </a:p>
        </p:txBody>
      </p:sp>
      <p:sp>
        <p:nvSpPr>
          <p:cNvPr id="72" name=""/>
          <p:cNvSpPr/>
          <p:nvPr/>
        </p:nvSpPr>
        <p:spPr>
          <a:xfrm>
            <a:off x="5057640" y="2819520"/>
            <a:ext cx="1261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Northea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a:t>
            </a:r>
            <a:endParaRPr b="0" lang="en-US" sz="1800" spc="-1" strike="noStrike">
              <a:solidFill>
                <a:srgbClr val="000000"/>
              </a:solidFill>
              <a:latin typeface="Arial"/>
            </a:endParaRPr>
          </a:p>
        </p:txBody>
      </p:sp>
      <p:sp>
        <p:nvSpPr>
          <p:cNvPr id="73" name=""/>
          <p:cNvSpPr/>
          <p:nvPr/>
        </p:nvSpPr>
        <p:spPr>
          <a:xfrm>
            <a:off x="3237840" y="4191120"/>
            <a:ext cx="1311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Southwe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a:t>
            </a:r>
            <a:endParaRPr b="0" lang="en-US" sz="1800" spc="-1" strike="noStrike">
              <a:solidFill>
                <a:srgbClr val="000000"/>
              </a:solidFill>
              <a:latin typeface="Arial"/>
            </a:endParaRPr>
          </a:p>
        </p:txBody>
      </p:sp>
      <p:sp>
        <p:nvSpPr>
          <p:cNvPr id="74" name=""/>
          <p:cNvSpPr/>
          <p:nvPr/>
        </p:nvSpPr>
        <p:spPr>
          <a:xfrm>
            <a:off x="5067720" y="4191120"/>
            <a:ext cx="1259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Southea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AE3D9FC-045E-42C2-8A3A-BDAF8C1ADA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8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Temporal Signature” of Crime</a:t>
            </a:r>
            <a:endParaRPr b="0" lang="en-US" sz="4000" spc="-1" strike="noStrike">
              <a:solidFill>
                <a:srgbClr val="000000"/>
              </a:solidFill>
              <a:latin typeface="Arial"/>
            </a:endParaRPr>
          </a:p>
        </p:txBody>
      </p:sp>
      <p:pic>
        <p:nvPicPr>
          <p:cNvPr id="76" name="" descr=""/>
          <p:cNvPicPr/>
          <p:nvPr/>
        </p:nvPicPr>
        <p:blipFill>
          <a:blip r:embed="rId1"/>
          <a:stretch/>
        </p:blipFill>
        <p:spPr>
          <a:xfrm>
            <a:off x="0" y="1155600"/>
            <a:ext cx="9144000" cy="5334120"/>
          </a:xfrm>
          <a:prstGeom prst="rect">
            <a:avLst/>
          </a:prstGeom>
          <a:ln w="0">
            <a:noFill/>
          </a:ln>
        </p:spPr>
      </p:pic>
      <p:sp>
        <p:nvSpPr>
          <p:cNvPr id="3" name="PlaceHolder 2"/>
          <p:cNvSpPr>
            <a:spLocks noGrp="1"/>
          </p:cNvSpPr>
          <p:nvPr>
            <p:ph type="sldNum" idx="3"/>
          </p:nvPr>
        </p:nvSpPr>
        <p:spPr/>
        <p:txBody>
          <a:bodyPr/>
          <a:p>
            <a:fld id="{F6AE7AAB-2AEF-4E55-8CB9-6D42E629E5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king Deployment Decisions</a:t>
            </a:r>
            <a:endParaRPr b="0" lang="en-US" sz="4000" spc="-1" strike="noStrike">
              <a:solidFill>
                <a:srgbClr val="000000"/>
              </a:solidFill>
              <a:latin typeface="Arial"/>
            </a:endParaRPr>
          </a:p>
        </p:txBody>
      </p:sp>
      <p:sp>
        <p:nvSpPr>
          <p:cNvPr id="78"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rthwest precinct has 50% of the violent crime, so it gets 500 officers (1,000 x 50%).</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rtheast and Southwest precincts each have 20% of the violent crime, so they should each get 200 offic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utheast precinct has 10% of the violent crime, so it should get 100 offic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1396800" y="1371600"/>
            <a:ext cx="638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Based on 1,000 officers and three shif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E16B29D-8864-4EF2-B88F-3C5E5B8FB6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16:11:17Z</dcterms:created>
  <dc:creator>Joe Kuhns</dc:creator>
  <dc:description/>
  <dc:language>en-US</dc:language>
  <cp:lastModifiedBy>Joe Kuhns</cp:lastModifiedBy>
  <dcterms:modified xsi:type="dcterms:W3CDTF">2006-12-19T17:13:12Z</dcterms:modified>
  <cp:revision>229</cp:revision>
  <dc:subject/>
  <dc:title>Slide 1</dc:title>
</cp:coreProperties>
</file>