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83FB-7881-4132-8BCE-84F9F271E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also:</a:t>
            </a:r>
            <a:r>
              <a:rPr b="0" lang="en-US" sz="1200" spc="-1" strike="noStrike">
                <a:solidFill>
                  <a:srgbClr val="000000"/>
                </a:solidFill>
                <a:latin typeface="Arial"/>
              </a:rPr>
              <a:t>  Clarke R.V. and Eck, J.E. (2005). Crime Analysis for Problem-Solvers in 60 Small Steps.  Washington, DC. Office of Community Oriented Policing Services. (Steps 1,4,7,24,37,38,46,54,55,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444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line is an example from an imaginary problem solving project about bank robbery in which the response was focused on training the tellers about how to deal with robbers.  The timeline is important when evaluating the project to use measures before and after the implementation of the training and may not include the five months when the training was being conduc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F656-5A19-4F42-BF69-9F6D52732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1"/>
          <p:cNvSpPr>
            <a:spLocks noGrp="1"/>
          </p:cNvSpPr>
          <p:nvPr>
            <p:ph type="sldImg"/>
          </p:nvPr>
        </p:nvSpPr>
        <p:spPr>
          <a:xfrm>
            <a:off x="114444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P project focused on a deadly rural stretch of roadway that connected two interstate highways near San Luis Obispo. What would happen is people would use the connector road to transfer highways, but would drive at highway speeds on this road, which just wasn’t designed for that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P wanted to really get a sense of whether certain environmental factors were exacerbating the problem on this roadway, so they had a 31-member task force board a bus and then spent five hours inspecting the road. The bus stopped every mile so task force members could get out and assess the things that could make the road less safe at that juncture. The kinds of things they looked at included signage, shoulder problems, curves, glare, and f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tour of the roadway, they adopted a 24-hour headlights on policy, because it was difficult to see oncoming cars in certain parts. </a:t>
            </a:r>
            <a:r>
              <a:rPr b="0" lang="en-US" sz="900" spc="-1" strike="noStrike">
                <a:solidFill>
                  <a:srgbClr val="000000"/>
                </a:solidFill>
                <a:latin typeface="Arial"/>
              </a:rPr>
              <a:t>Traffic fatalities decreased by 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the class whether the policy worked? Answer: Don’t know</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needs to be measured to know whether this response might have impacted that accid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ther people used their headlights before the response (if they did, there is no way to say the response worked).  If they didn’t use their headlights before, DID THEY ACTUALLY TURN ON THEIR HEADLIGHTS because of the new policy?  Only if headlight use is measured and actually conducted, can you say that it MIGHT have impacted the accidents on that stretch of road.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rman Goldstein Awards, 2001</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evaluations require measures of the problem before and after the response. You should start deciding how to measure the problem during the scanning stage, and have made final decisions about measures by the time you have completed the analysis. This will allow you to use information collected during the analysis to describe the problem before the response. During the assessment stage, you take measures of the problem after implementing the response. You use the same measures before and after the response. Clearly, you must plan the evaluation well in advance of the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Quantitativ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ntitative measures involve numbers. The number of burglaries in an apartment complex is a quantitative measure. You can </a:t>
            </a:r>
            <a:r>
              <a:rPr b="0" lang="en-US" sz="1200" spc="-1" strike="noStrike">
                <a:solidFill>
                  <a:srgbClr val="000000"/>
                </a:solidFill>
                <a:latin typeface="Arial"/>
              </a:rPr>
              <a:t>	</a:t>
            </a:r>
            <a:r>
              <a:rPr b="0" lang="en-US" sz="1200" spc="-1" strike="noStrike">
                <a:solidFill>
                  <a:srgbClr val="000000"/>
                </a:solidFill>
                <a:latin typeface="Arial"/>
              </a:rPr>
              <a:t>count such measures before and after the response, and note the difference. Quantitative measures allow you to use math to </a:t>
            </a:r>
            <a:r>
              <a:rPr b="0" lang="en-US" sz="1200" spc="-1" strike="noStrike">
                <a:solidFill>
                  <a:srgbClr val="000000"/>
                </a:solidFill>
                <a:latin typeface="Arial"/>
              </a:rPr>
              <a:t>	</a:t>
            </a:r>
            <a:r>
              <a:rPr b="0" lang="en-US" sz="1200" spc="-1" strike="noStrike">
                <a:solidFill>
                  <a:srgbClr val="000000"/>
                </a:solidFill>
                <a:latin typeface="Arial"/>
              </a:rPr>
              <a:t>estimate the response's impact. For example, burglary rates drop 10 percent from before the response to after th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Qualitativ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ative measures allow comparisons, but you cannot apply math to them. Though most evaluations use quantitative measures, </a:t>
            </a:r>
            <a:r>
              <a:rPr b="0" lang="en-US" sz="1200" spc="-1" strike="noStrike">
                <a:solidFill>
                  <a:srgbClr val="000000"/>
                </a:solidFill>
                <a:latin typeface="Arial"/>
              </a:rPr>
              <a:t>	</a:t>
            </a:r>
            <a:r>
              <a:rPr b="0" lang="en-US" sz="1200" spc="-1" strike="noStrike">
                <a:solidFill>
                  <a:srgbClr val="000000"/>
                </a:solidFill>
                <a:latin typeface="Arial"/>
              </a:rPr>
              <a:t>qualitative measures can be extremely useful. Here is an example. Suppose you are trying to address a problem of gang-related </a:t>
            </a:r>
            <a:r>
              <a:rPr b="0" lang="en-US" sz="1200" spc="-1" strike="noStrike">
                <a:solidFill>
                  <a:srgbClr val="000000"/>
                </a:solidFill>
                <a:latin typeface="Arial"/>
              </a:rPr>
              <a:t>	</a:t>
            </a:r>
            <a:r>
              <a:rPr b="0" lang="en-US" sz="1200" spc="-1" strike="noStrike">
                <a:solidFill>
                  <a:srgbClr val="000000"/>
                </a:solidFill>
                <a:latin typeface="Arial"/>
              </a:rPr>
              <a:t>violence in a neighborhood. From your analysis, you know that much of this violence stems from escalating turf disputes, and that </a:t>
            </a:r>
            <a:r>
              <a:rPr b="0" lang="en-US" sz="1200" spc="-1" strike="noStrike">
                <a:solidFill>
                  <a:srgbClr val="000000"/>
                </a:solidFill>
                <a:latin typeface="Arial"/>
              </a:rPr>
              <a:t>	</a:t>
            </a:r>
            <a:r>
              <a:rPr b="0" lang="en-US" sz="1200" spc="-1" strike="noStrike">
                <a:solidFill>
                  <a:srgbClr val="000000"/>
                </a:solidFill>
                <a:latin typeface="Arial"/>
              </a:rPr>
              <a:t>graffiti is a useful indicator of inter-gang tension that can lead to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nt the number of reported gunshots, gun injuries and gun fatalities in the year before and the year after the response. These are examples of quantitativ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take monthly photos of known graffiti hot spots both before and after the response. By comparing the photos, you note that before the response, gang graffiti was quite common, and non-gang graffiti was rare.  Further, many of the markings suggested that rival gangs were overwriting each other's graffiti. After the response, you find there is little gang graffiti, but non-gang graffiti has increased. Further, there is no evidence of overwriting in the little gang graffiti that you do find. This qualitative information reinforces the quantitative information by indicating that the response may have reduced gang tensions, or that the gangs have decl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can provide another qualitative measure. They are very useful for showing crime and disorder patterns. Though the number of crimes is a quantitative measure, the size and shape of the crime patterns are largely qualitative. You can use changes in these patterns to assess the effectiveness of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Val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make sure that quantitative and qualitative measures record the problem, and not something else. For example, counts of drug arrests are often better measures of police activity than of changes in a drug problem. You should use arrest data as a measure of the problem only if you are sure that police enforcement efforts and techniques have remained constant. Similarly, systematic covert surveillance of a drug dealing hot spot before and after a response could be a valid measure if the surveillance has remained unchanged and undetected by drug dea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are seldom definitively valid or invalid; rather, they are more or less valid than alternative measures. The more indirect the measure, the less valid. Surveillance entails direct observation. Arrest statistics are indirect. They involve the activities of the drug dealers and customers (the aspects of the problem you may be most interested in), but they also involve citizen decisions to bring the problem to police attention, and police decisions about whether (and how) to intervene. These citizen and police decisions may not always reflect the underlying reality of the problem. For example, changes in police overtime policies or the presence of special anti-drug squads can change the number of arrests, even if the drug problem remains constant. For this reason, the number of drug dealer arrests is a less direct–and often poor–measure of a drug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you want to make sure that any difference noted in the problem is due to changes in the problem, and not to changes in the way you measured it. One way of thinking about this is to compare it with physical evidence-gathering at a crime scene. The reason there are strict protocols for gathering and handling evidence is that we do not want to mistake the evidence gatherers' activities for those of the offender. The same holds true in eval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ing Valid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elect specific measures for your problem? There is no simple answer to this question that can be applied to any problem-solving effort. The guides in this series suggest measures for specific problems. If you are working on a problem not covered in a guide, then the simplest approach is to use one or more of the indicators you used to identify and analyze the problem. It is important, however, to think carefully about problem definition. As we saw in the prostitution example, seemingly minor changes in how we define the problem can have significant implications for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you need to think about evaluation measures as soon as you begin the problem-solving process. If you wait until after you have implemented the response, then you might miss the chance to get valid "befor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iteria for Claiming Ca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two goals for a problem-solving assessment. The first is to determine if the problem has changed. We are particularly interested in whether it has declined. Only after establishing whether the problem has changed does the second goal–determining if the response </a:t>
            </a:r>
            <a:r>
              <a:rPr b="0" i="1" lang="en-US" sz="800" spc="-1" strike="noStrike">
                <a:solidFill>
                  <a:srgbClr val="000000"/>
                </a:solidFill>
                <a:latin typeface="Arial"/>
              </a:rPr>
              <a:t>caused</a:t>
            </a:r>
            <a:r>
              <a:rPr b="0" lang="en-US" sz="800" spc="-1" strike="noStrike">
                <a:solidFill>
                  <a:srgbClr val="000000"/>
                </a:solidFill>
                <a:latin typeface="Arial"/>
              </a:rPr>
              <a:t> the change–make sen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problem has not changed, and if you do not intend to use a similar response to address other problems, then you don't need to worry about cause, and the evaluation is relatively simple. If, however, the problem has changed, and if you will likely use the response again, then it is important to determine if the response in fact caused the change. If the problem declined for reasons other than the response, then using the response to address similar problems is unlikely to reduce them. If the problem got worse for reasons other than the response, then the response might still be a useful way to address other problems. Consequently, it is important to understand what criteria we require to claim a response caused a change in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cept of cause may seem pretty straightforward, but it is not. To be able to confidently proclaim that a response caused a problem to decline, you need to meet four criteria. The first three criteria are relatively straightforward and can often be met. The fourth criterion cannot be met with absolute certai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There Is a Plausible Explanation of How the Response Reduces the Problem - mechanis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first criterion for claiming cause is that you have a plausible explanation of how the response reduces the problem. You should base this explanation on a detailed problem analysis, preferably augmented by prior research and theory. The fact that others used a similar response and reduced their problem is not an explanation. Such information is useful, but you still need to explain how the problem reduction occurred. Absent a convincing explanation, you do not know whether the response was successful by accident, whether the response was successful due to the particular situation in which it was first applied (and thus will not work on your problem), or whether the response is generally use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lausible explanation does not guarantee that the response will work; many plausible ideas do not work when tested. But it does make the response a more likely candidate for a successful solution. The explanation has added credibility in that previous research describes the relationship between prostitution and circular driving patterns, and also indicates that reducing the ease of neighborhood traffic movement sometimes reduces crime. Further, it is consistent with the theory of situational crime prevention, particularly the strategy of increasing offenders' eff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ummary, the first step in claiming cause is to have a plausible explanation of (1) how the problem occurs, and 2) how the response reduces it.  This explanation should also cover when, where and why the response works. If prepared at the time you are crafting the response, the explanation can help guide planning and implementation. The more specific the explanation, the better the response and the more informative the assessment. Ideally, the explanation will also describe the circumstances in which the response is unlikely to work. This can aid in both the process and the impact evalu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The Response and the Level of the Problem Are Related – Correlation or Associ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cond criterion for claiming cause is that there be a relationship between the presence of the response and a decline in the problem (and between the absence of the response and an increase in the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the second hurdle to jump in claiming causation is to demonstrate that the problem is bigger in the absence of the response than when the response is in place. Though it is tempting to declare victory at this stage, we must surmount two other hurdles before we can be confident that the response caused the decline in the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The Response Occurs Before the Problem Declines – temporal or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criterion for claiming cause simply requires that the response precede the decline in the problem. Since it is impossible for a response to have an effect before it is implemented, this criterion makes a lot of sense. There's one major caveat here: in defining "response," we include publicity about the response–intentional or accidental. A widespread media campaign may precede a drunken driving intervention, so that even before the intervention, potential drunken drivers may alter their behavior. In this case, the media campaign is part of the response. A decline in drunken driving before the media campaign would be evidence that something other than the response caused the decline. But a decline after the media campaign, but before the intervention, could be credited to the respon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pite the obvious simplicity of this criterion, it is surprisingly common to see violations of it. Throughout the 1990s, homicides declined in large U.S. cities. In the middle of the decade, a few years into the downward trend, several cities implemented crime reduction strategies and gained substantial publicity. As homicides continued to decline in these cities, proponents claimed that the reductions were due to the new strategies. However, homicides had been declining before the changes, so it is difficult to attribute the decline to them. In short, the purported cause of the decline followed the decline. If, on the other hand, the cities had implemented the changes in 1990, the claim that the changes caused the drop in homicides would be more plau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re is another reason to be skeptical that the changes in policing caused the decline in homic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icides declined in other large cities that had not implemented the same changes.  For a more detailed examination of the police contribution to the homicide decline in the 1990s, see Eck and Maguire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monstrate that the response preceded the problem's decline, you must know when the response began (including publicity about it), and have measures of the problem before and after the response. This is a before-after (or pre-post) evaluation design. We saw this design in the prostitution example, when we described ways of demonstrating a relationship. We used a number of examples of pre-post designs in the section on measurement. Pre-post is the most common evaluation design, but it is not particularly strong; that is, a simple pre-post design can show a decline, but it is insufficient for establishing what caused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pite its simplicity, this criterion can be difficult to meet. But even if you can show that the decline in the problem followed the response, you need to meet one more criterion before you can definitively claim that the response caused the dec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There Are No Plausible Alternative Explanations  - non-spurious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purious relationship is a hypothesized relationship between two or more variables that is false or misleading.  So, you are hoping for a non-spurious res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slide diagrams the notion of an alternative explanation. The upper half shows what you believe: the response caused the decline in the problem (as indicated by the arrow). This belief may come from a variety of valid sources. Nevertheless, something else caused the response, and something else caused the decline (lower half of the figure). Here, more "something else" led to more response and, at the same time, a reduction in the problem. The absence of an arrow between the response and the decline in the problem shows that the response was irrelevant to the decline. An outsider, observing more response and less of the problem, might conclude that the response caused the decline. In situations like this, the observed relationship between the response and the decline is misleading. The possibility of a misleading relationship is a threat to an evaluation's valid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a related concern that should also be mentioned. The "something else" might not have prompted your problem solving effort; rather, it might have occurred by coincidence at about the same time as your response. Practically speaking, it might not matter if the "something else" occurred at the same time as your response, or if the "something else" caused both the response and the decline. In neither case did the response cause the drop in the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monstrate a causal connection between the response and the decline, you need to provide sound evidence that there is no "something else." To do so, you need to show that there are no reasonable explanations for the decline, other than the response. You do this by carefully examining the most obvious counterclaims and assessing evidence for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uling out alternative explanations is very difficult.</a:t>
            </a:r>
            <a:r>
              <a:rPr b="0" lang="en-US" sz="800" spc="-1" strike="noStrike">
                <a:solidFill>
                  <a:srgbClr val="000000"/>
                </a:solidFill>
                <a:latin typeface="Arial"/>
              </a:rPr>
              <a:t> You can never do so definitively because there are many possible causes of problem fluctuations. All you can do is rule out the most obvious alternative explanations for the decline. In many respects, it is similar to demonstrating that a suspect committed a crime. The standards of evidence vary, depending on the decision being made. Stronger evidence is required to establish guilt in criminal court than to secure a warrant for an arrest. But in neither case is absolute evidence of guilt required. We can never prove that a response caused a decline in a problem because we cannot rule out all possible alternative explanations. We can make better or worse cases for such claims, however. And this is where the evaluation design comes in. Some designs allow for stronger statements of causality than others, just as some prosecutions are more plausible to a jury than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ive Explanation Diagram - Spur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aluation design is a systematic strategy, coordinated with the response, for organizing when and where data collection will occur. If you develop the evaluation design along with the response, the evaluation is more likely to produce useful information. Waiting until after you have implemented the response to decide how you will evaluate it makes it more difficult to determine whether it wa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types of evaluation designs (see the "Recommended Readings" section). We will discuss two common, practical designs: the pre-post and the interrupted time series. Appendix B describes designs using control groups: the pre-post with a control group, and the multiple time series. The next slide summarizes the relationships among these four desig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st pre-post design involves a single measurement of the problem both before and after the response. You then compare the measures. As we will see, this design is sometimes adequate for determining if the problem declined, but is insufficient for determining if the response caused the dec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evaluation research, a statistical significance test is used to determine if the difference between the pre- and post-response measures is likely due to chance. In other words, one alternative explanation is that normal random fluctuations in the problem level caused the difference between the before and after measures. A statistical significance test is most useful when the difference is small but nevertheless meaningful, and the number of problem events before the response was small. In such circumstances, normal random fluctuations are a potential cause for the change in the problem. Because of the highly technical nature of significance testing, this guide does not cover it. Readers interested in significance testing can learn more from most introductory statistics texts, the documentation accompanying statistical software, or statisticians and social scientists at local univer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results of a pre-post design. The first bar shows the level of the problem before the response, and the second bar shows the level after. The difference between the heights of the bars represents the change in the problem. Though this example shows a decline, there is no guarantee; there could be an increase or no change in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ost design can establish a relationship by demonstrating that there was less of a problem with the response than without it. It also helps to demonstrate that the response preceded the decline, because the response occurred between the two measures. However, if the problem level normally fluctuates, then what you see as a decline may simply be a normal low before a return to a higher level. Variations on this simple design include taking measures at the same time of the year, to account for seasonal fluctuations, and taking two or three pre-measures and two or three post-measures, to account for other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this design is weak at ruling out alternative explanations for a decline in a problem. This is because something else may have caused the response and/or the decline. Consider two examples in which a pre-post design can give mislead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example, suppose that, overall, the problem was declining, and this decline started before the pre-response measurement. If you knew this, then you would conclude that the decline would have occurred even if you had done nothing about the problem. Absent information about the downward trend, you would have false confidence in the response (Appendix A illustrates this in greate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example, the pre-post results show no change in the problem (or even a slight increase in it). Based on these results, you might believe the response was ineffective. However, if you knew that the long-term trend was for the problem to get much worse, then you might realize that the response might have averted much of that decline. In this case, the pre-post design gives the false impression that the response wa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xamining pre-post results, you should also consider when the response is implemented. Many problems fester for long periods, with many ups and downs. Even without any intervention, such problems fluctuate, though the fluctuations are around a constant average. Problem-solving efforts are more likely to be launched when problems are at their peak, and due to decline anyway. Thus, a decline may be due to this automatic process rather than to the response. Next, we will examine designs that can rule out this particular alternativ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rovement on the pre-post design is the addition of a control group. The control group does not receive the response, even though it has a problem similar to the response group's. As noted above</a:t>
            </a:r>
            <a:r>
              <a:rPr b="0" i="1" lang="en-US" sz="1200" spc="-1" strike="noStrike">
                <a:solidFill>
                  <a:srgbClr val="000000"/>
                </a:solidFill>
                <a:latin typeface="Arial"/>
              </a:rPr>
              <a:t>, the purpose of the control group is to demonstrate what would have occurred, absent the response.</a:t>
            </a:r>
            <a:r>
              <a:rPr b="0" lang="en-US" sz="1200" spc="-1" strike="noStrike">
                <a:solidFill>
                  <a:srgbClr val="000000"/>
                </a:solidFill>
                <a:latin typeface="Arial"/>
              </a:rPr>
              <a:t> Knowing this can help you rule out some alternative explanations for the decline in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ay you are concerned that a burglary decline in an apartment complex where you implemented a response may simply reflect an overall, citywide decline in residential burglary. To rule out this alternative explanation, you measure burglaries in apartment complexes similar to the one receiving the response. If the target complex had a greater reduction than the control group, you can rule out the citywide trend as a possible cause of the decline. Your confidence in your findings is directly proportional to the similarity between the response and contro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n example of a pre-post design with a control group. It indicates that the response was ineffective, because the control group's problem declined more than the response group's. In other words, the control group's decline suggests that, absent a response, the problem would have declined more than it did with the response. In this example, the response made things wo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tential weakness of the pre-post design with a control group is the possibility that the differences between the response and control groups, and not the response, caused the change in the problem. In other words, the control group does not provide a valid measure of what would have happened in the response group, absent the response. For example, say you want to evaluate a response to thefts from autos parked at a shopping mall. Instead of using another mall, with a similar problem, as the control, you use the downtown central business district (CBD). Though the mall and CBD may have superficially similar problems, the parking patterns (lots vs. streets), shopping patterns (evenings and weekends vs. weekdays), street patterns (suburban vs. urban), etc., might make the CBD too different from the mall for it to be a valid control group. A better control group would be one that shares many characteristics that could contribute to thefts from autos (similar parking lots with similar security, similar shopping patter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rol group should share as many characteristics as possible with the response group. Ideally, they would be the same, but this is usually impossible in operational settings. Since control and response groups will be similar in some ways but not in others, in which ways should they be most similar? Obviously, the answer depends on the problem being addressed. The best control group is one that has the same type of problem and in which the response would be a plausible intervention. In other words, the explanation for how the response works (the first criterion needed to establish causality) would apply equally well to both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under these conditions, this design may not rule out some alternative explanations. Consider the concern that automatic processes cause a decline. If the response group has an abnormally high problem level, and the control group has an abnormally low problem level, then the response group will automatically improve, and the control group will automatically get worse, regardless of the response. To rule out this alternative explanation, you need evidence that the response group did not have an abnormally high problem level, and that the control group did not have an abnormally low problem level. Another way to rule out this alternative explanation is to use a time series design. In the body of the text, we examined a simple time series. You can improve this design by adding a control time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d time series design is far superior to the pre-post design because it can address many of the issues discussed above. With this design, you take many measures of the problem before the response. This lets you look at the pre-response trend in the problem. You then take many measures of the problem after the response. Comparing the before trend with the after trend provides an indicator of effectiveness. This is feasible using reported crime data or other information routinely gathered by public and private organizations. It is more difficult if you have to initiate a special data collection effort, such as a public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pproach is to use repeated measures of the problem before the response to forecast the likely problem level after the response. If the difference between the forecast and the measures taken after the response is significant and negative, this indicates that the response wa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sign provides strong evidence that the response preceded the problem's decline, because you can identify preexisting trends. If the procedures for measuring the problem have not changed, this design rules out most alternative explanations for the decline, including the automatic-process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note that it is the number of measurement periods that matter, not the length of time. So, for example, annual data for the three years before and after the response are far less helpful than measurements for the 30 months before and after the response, even though less time has elap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be tempted to take this to the extreme. If monthly data are better than annual data, why not collect weekly, daily or even hourly data? The answer is that, for most crimes, as the time interval becomes shorter, the number of crimes per interval becomes too small to derive meaningful conclusions. If the number of events is extremely large (as is sometimes the case when using calls-for-service data for large areas), then very short intervals might be useful. But if the number of events is very small (as with homicide or stranger-stranger rape), then you might have to use larg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lide, the points on the graph represent measures of the problem taken at different times. The horizontal lines represent the trend (in this case, the average or mean) for the before and after periods. There is much variation around the mean values for both periods, and this variation can sometimes obscure respons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trend is flat, the forecast is a horizontal-line projection based on the average number of incidents per time period. A comparison of the average problem level before and after the response shows a decline. If the problem had been trending up, then you would use an upward sloping projection and would have to calculate the slope (Appendix A provides an example). The more time periods you examine before the response, the more confident you can be that you know the problem's trajectory. The more time periods you examine after the response, the more confident you can be that the trajectory has changed. The calculations involved in analyzing an interrupted time series design can become quite involved, so if you have a lot riding on the evaluation's outcome, it may be worthwhile to seek expert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only difference between the time periods before and the time periods after the response is the presence of the response. If this is the case, then conclusions based on this design have a high degree of val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ajor weakness</a:t>
            </a:r>
            <a:r>
              <a:rPr b="0" lang="en-US" sz="1200" spc="-1" strike="noStrike">
                <a:solidFill>
                  <a:srgbClr val="000000"/>
                </a:solidFill>
                <a:latin typeface="Arial"/>
              </a:rPr>
              <a:t> of the interrupted time series design is the </a:t>
            </a:r>
            <a:r>
              <a:rPr b="1" lang="en-US" sz="1200" spc="-1" strike="noStrike">
                <a:solidFill>
                  <a:srgbClr val="000000"/>
                </a:solidFill>
                <a:latin typeface="Arial"/>
              </a:rPr>
              <a:t>possibility that something else that occurred at the same time the response began caused the observed change in the problem</a:t>
            </a:r>
            <a:r>
              <a:rPr b="0" lang="en-US" sz="1200" spc="-1" strike="noStrike">
                <a:solidFill>
                  <a:srgbClr val="000000"/>
                </a:solidFill>
                <a:latin typeface="Arial"/>
              </a:rPr>
              <a:t>. To rule out this alternative explanation, you can add a second time series for a contro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are interested in determining only whether the problem declined (and have little interest in establishing what caused the decline), an interrupted time series design is still superior to a pre-post design. This is because an interrupted time series design can show whether the problem went down and stayed down. As noted above, problems can fluctuate, so it is desirable to determine the decline's stability. The longer the time series after the decline, the greater your confidence that the problem has been eliminated or is stable at a much reduced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wo or more time series, you are using a multiple time series design. This design can rule out most alternative explanations for a change in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a multiple time series. The fluctuating solid line represents the problem levels for the response group before and after the response. The flat solid lines represent the average pre- and post-response problem levels for that group. Though difficult to see, there is a definite decline in the average problem level after the respons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shed lines represent the trends for the control group. The problem has slightly worsened for this group after the response. This suggests that, absent a response, the problem would not have changed, and may have gotten wo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interrupted time series designs are superior to pre-post designs, they are not always practical.  These are five common reasons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se conditions, a pre-post design might be the most practical altern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 have examined pre-post and interrupted time series designs separately, in many cases, you can use two or more designs to test a response's effectiveness. This is particularly useful if you have several measures of the problem (for example, reported crime data and citizen survey information) for different periods. Using a combination of designs selected to rule out particularly troublesome alternative explanations can be far more useful than strictly adhering to a single design.</a:t>
            </a:r>
            <a:br>
              <a:rPr sz="1200"/>
            </a:br>
            <a:br>
              <a:rPr sz="1200"/>
            </a:br>
            <a:r>
              <a:rPr b="0" lang="en-US" sz="1200" spc="-1" strike="noStrike">
                <a:solidFill>
                  <a:srgbClr val="000000"/>
                </a:solidFill>
                <a:latin typeface="Arial"/>
              </a:rPr>
              <a:t>In considering what type of design or combination of designs to use, you should bear in mind that you cannot rule out all alternative explanations for a problem's decline. Based on your available resources, you should select the simplest design that can rule out the most obvious alternative explanations. In other words, you should anticipate such explanations before you select the design. Once again, your analysis of the problem should give you some ins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ddressing spatial displacement of crime and disorder, and spatial diffusion of crime prevention benefits, we need to recall that there are two possible evaluation goals. The first is to demonstrate that the problem declined. The second is to have sufficient evidence to legitimately claim that the response caused the decline. The second goal is important only if you are going to use the response again. If so, you will need evidence that the response is effective–that it causes problems to decline. If you do not intend to use the response again (or to recommend it to others), then there is no real need to gather sufficient evidence to demonstrate that it caused the decline. In this case, you can say that there was a problem, you implemented a response, and the problem declined, but you do not know if the decline was due to the response or to other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concern about problem-solving responses is that they will result in </a:t>
            </a:r>
            <a:r>
              <a:rPr b="1" lang="en-US" sz="1200" spc="-1" strike="noStrike">
                <a:solidFill>
                  <a:srgbClr val="000000"/>
                </a:solidFill>
                <a:latin typeface="Arial"/>
              </a:rPr>
              <a:t>spatial displacement</a:t>
            </a:r>
            <a:r>
              <a:rPr b="0" lang="en-US" sz="1200" spc="-1" strike="noStrike">
                <a:solidFill>
                  <a:srgbClr val="000000"/>
                </a:solidFill>
                <a:latin typeface="Arial"/>
              </a:rPr>
              <a:t> of crime or disorder– the shifting of crime or disorder from the target area to nearby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increasing evidence that some responses have positive effects that spread beyond the target area. This is called </a:t>
            </a:r>
            <a:r>
              <a:rPr b="1" lang="en-US" sz="1200" spc="-1" strike="noStrike">
                <a:solidFill>
                  <a:srgbClr val="000000"/>
                </a:solidFill>
                <a:latin typeface="Arial"/>
              </a:rPr>
              <a:t>spatial diffusion</a:t>
            </a:r>
            <a:r>
              <a:rPr b="0" lang="en-US" sz="1200" spc="-1" strike="noStrike">
                <a:solidFill>
                  <a:srgbClr val="000000"/>
                </a:solidFill>
                <a:latin typeface="Arial"/>
              </a:rPr>
              <a:t> of crime prevention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should consider the following questions during the scanning, analysis and response sta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at will the evaluation help you decide?</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uld you continue the problem-solving effort? If this is the </a:t>
            </a:r>
            <a:r>
              <a:rPr b="0" i="1" lang="en-US" sz="800" spc="-1" strike="noStrike">
                <a:solidFill>
                  <a:srgbClr val="000000"/>
                </a:solidFill>
                <a:latin typeface="Arial"/>
              </a:rPr>
              <a:t>only</a:t>
            </a:r>
            <a:r>
              <a:rPr b="0" lang="en-US" sz="800" spc="-1" strike="noStrike">
                <a:solidFill>
                  <a:srgbClr val="000000"/>
                </a:solidFill>
                <a:latin typeface="Arial"/>
              </a:rPr>
              <a:t> decision the evaluation will help you make, then a simple evaluation design will be sufficient (see question III.A).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uld either your agency or other agencies use the response for similar problems? If so, then you should consider using a control group in the evaluation design (see question III.A).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no decision to make. If no decision is required, then an evaluation will not be helpful.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Do you know the problem?</a:t>
            </a:r>
            <a:r>
              <a:rPr b="0" lang="en-US" sz="800" spc="-1" strike="noStrike">
                <a:solidFill>
                  <a:srgbClr val="000000"/>
                </a:solidFill>
                <a:latin typeface="Arial"/>
              </a:rPr>
              <a:t> (You need to answer these questions with some precision to develop and evaluate a costeffective response. If you cannot answer them with some precision, then you should do more to analyze the proble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m does the problem harm? Whom does it not harm?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can you measure the harm?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does the problem occur? Where does it not occur?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does the problem occur? When does it not occur?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causes the problem? What prevents or reduces it?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Do you know how the response works?</a:t>
            </a:r>
            <a:r>
              <a:rPr b="0" lang="en-US" sz="800" spc="-1" strike="noStrike">
                <a:solidFill>
                  <a:srgbClr val="000000"/>
                </a:solidFill>
                <a:latin typeface="Arial"/>
              </a:rPr>
              <a:t> (You need to answer these questions to determine if the response is likely to be effective, and to ensure accountability during implementation. If you cannot answer them, then your response plans are inadequate, and you need to focus more on the response sta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does the response affect the causes of the problem?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is responsible for implementing the respons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is the response supposed to be implement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is the response supposed to be implement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long does the response take to have a noticeable effect on the problem?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has the legal authority to implement the respons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re the likely barriers to implementing the respon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evaluation begins toward the end of the response stage, and continues well into the assessment stag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d you implement the response?</a:t>
            </a:r>
            <a:r>
              <a:rPr b="0" lang="en-US" sz="1000" spc="-1" strike="noStrike">
                <a:solidFill>
                  <a:srgbClr val="000000"/>
                </a:solidFill>
                <a:latin typeface="Arial"/>
              </a:rPr>
              <a:t> (The closer the actual implementation is to the planned response, the greater confidence you have that the response caused the problem change documented in the impact evaluation. The more variation between what you intended and what occurred, the greater the likelihood that factors other than the response caused changes in the problem.)</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implement the response when you were supposed to?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implement the response where you were supposed to?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implement the response for the appropriate group?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otherwise implement the response as planned?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Did you implement enough of the response?</a:t>
            </a:r>
            <a:r>
              <a:rPr b="0" lang="en-US" sz="1000" spc="-1" strike="noStrike">
                <a:solidFill>
                  <a:srgbClr val="000000"/>
                </a:solidFill>
                <a:latin typeface="Arial"/>
              </a:rPr>
              <a:t> (You may have implemented the response, but without the resources, duration or intensity needed to make it effectiv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have sufficient resources to fully implement the response?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implement the response long enough to have an effect?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 you implement the response with sufficient intensity?</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of the decisions you need to make to conduct an impact evaluation should be considered in the analysis and response stages. This is particularly true of measurement deci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 you need a control group?</a:t>
            </a:r>
            <a:r>
              <a:rPr b="0" lang="en-US" sz="800" spc="-1" strike="noStrike">
                <a:solidFill>
                  <a:srgbClr val="000000"/>
                </a:solidFill>
                <a:latin typeface="Arial"/>
              </a:rPr>
              <a:t> (Answering these questions helps you decide on the complexity of the evaluation desig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d you check question I.A.1? If so, then you do not need a control gro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d you check question I.A.2? If so, then you should use a control group.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How often can you measure the problem?</a:t>
            </a:r>
            <a:r>
              <a:rPr b="0" lang="en-US" sz="800" spc="-1" strike="noStrike">
                <a:solidFill>
                  <a:srgbClr val="000000"/>
                </a:solidFill>
                <a:latin typeface="Arial"/>
              </a:rPr>
              <a:t> (Answering these questions helps you to decide whether a time series design is possib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you measure the problem consistently for many time periods before and after the response? If so, then a time series design is feasibl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you measure the problem only a few times before and after the response? If so, then a time series design is not feasible, and you need to use a pre-post design.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you take some measures of the problem for many time periods before and after the response, and other measures for only a few time periods before and after the response? If so, then you can use both a time series and a pre-post desig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What type of evaluation design should you use?</a:t>
            </a:r>
            <a:r>
              <a:rPr b="0" lang="en-US" sz="800" spc="-1" strike="noStrike">
                <a:solidFill>
                  <a:srgbClr val="000000"/>
                </a:solidFill>
                <a:latin typeface="Arial"/>
              </a:rPr>
              <a:t> (Your answers to the questions in sections A and B, immediately above, provide some basic guidance for answering this question, as shown in Table E.1. Obviously, precise answers depend on the particular circumstances of each problem solving effor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What type of control group do you need? </a:t>
            </a:r>
            <a:r>
              <a:rPr b="0" lang="en-US" sz="800" spc="-1" strike="noStrike">
                <a:solidFill>
                  <a:srgbClr val="000000"/>
                </a:solidFill>
                <a:latin typeface="Arial"/>
              </a:rPr>
              <a:t>(This question applies only if you chose one of the options from column 2 under "A. Question Checked" above. If you chose an option from column 1, then skip this section and go to part IV.)</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you apply the response to an identifiable geographic area (place, neighborhood, etc.)? If so, then the control group should be a very similar geographic area–with a similar problem–preferably located some distance from the response area.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you apply the response to a group of identifiable potential victims (young males, elderly women, commuters, etc.)? If so, then the control group should be a very similar group of potential victim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you apply the response to a group of identifiable potential offenders? If so, then the control group should be a very similar group of potential offender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you apply the response to some other identifiable group of people or things? If so, then the control group should be a very similar group of people or thing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you unable to identify a control group for this evaluation? If so, then go back to Table E.1 and pick the appropriate option from column 1 under "A. Question Checked." Then go to part IV.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checked one of the first four questions above, then systematically compare the response group's characteristics with the control group's characteristics, and list the major differences. In part V, you will consider whether other factors might have caused the change in the problem. Your list of differences is a list of potential "other factor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questions fall within the assessment stage and are applicable once you have documented your evaluation results. These questions are designed to help you draw conclusions consistent with your process and impact evaluation results and your evaluation design. You will have to ask more questions than listed here to fully interpret your particular evaluation resul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What are your findings from the process evalu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did not implement the respons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implemented the response in a radically different manner than plann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implemented the response with insufficient resources, for too short a time, or without the required intensity.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implemented the response almost as planned, and with sufficient resources, for the necessary time, and with the required intensity.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What are your findings from the impact evaluation? </a:t>
            </a:r>
            <a:r>
              <a:rPr b="0" lang="en-US" sz="800" spc="-1" strike="noStrike">
                <a:solidFill>
                  <a:srgbClr val="000000"/>
                </a:solidFill>
                <a:latin typeface="Arial"/>
              </a:rPr>
              <a:t>(Select the design you used–pre-post, pre-post with a control group, time series, or multiple time series. If you used a combination of designs, then interpret your evaluation for each design separate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e-post design</a:t>
            </a:r>
            <a:r>
              <a:rPr b="0" lang="en-US" sz="800" spc="-1" strike="noStrike">
                <a:solidFill>
                  <a:srgbClr val="000000"/>
                </a:solidFill>
                <a:latin typeface="Arial"/>
              </a:rPr>
              <a: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got worse after the respons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did not change after the respons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declined after the response.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e-post design with a control group</a:t>
            </a:r>
            <a:r>
              <a:rPr b="0" lang="en-US" sz="800" spc="-1" strike="noStrike">
                <a:solidFill>
                  <a:srgbClr val="000000"/>
                </a:solidFill>
                <a:latin typeface="Arial"/>
              </a:rPr>
              <a: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ponse group's problem got worse, relative to the control group'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ponse group's problem did not change, relative to the control group'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ponse group's problem declined, relative to the control group'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ime series desig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got worse after the respons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did not change after the respons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declined after the respons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ultiple time series design</a:t>
            </a:r>
            <a:r>
              <a:rPr b="0" lang="en-US" sz="800" spc="-1" strike="noStrike">
                <a:solidFill>
                  <a:srgbClr val="000000"/>
                </a:solidFill>
                <a:latin typeface="Arial"/>
              </a:rPr>
              <a: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ponse group's problem got worse, relative to the control group'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ponse group's problem did not change, relative to the control group'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ponse group's problem declined, relative to the control group'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s to the following questions are judgment calls and reflect your degree of confidence in the findings, rather than a totally objective assessment of what occurred. Other people, examining the same evidence, could come to different conclusions. For this reason, you should answer these questions (and the question that follows) after several people with different perspectives have examined the assessment inform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 problem decline after the respons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blem did decline, did it do so at a faster rate after the response than before the respons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blem did decline, can you rule out all other plausible explanations for the decline, other than the response? Use your list of differences between the response and control groups to help answer this ques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your answers to the preceding questions, are you reasonably confident that the response caused the decline (if any) in the problem?</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ssessing a problem-solving effort is to help you make better decisions by answering two specific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id the problem decline? Answering this question helps you decide whether to end the problem-solving effort and focus resources on othe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f the problem </a:t>
            </a:r>
            <a:r>
              <a:rPr b="0" i="1" lang="en-US" sz="1200" spc="-1" strike="noStrike">
                <a:solidFill>
                  <a:srgbClr val="000000"/>
                </a:solidFill>
                <a:latin typeface="Arial"/>
              </a:rPr>
              <a:t>did</a:t>
            </a:r>
            <a:r>
              <a:rPr b="0" lang="en-US" sz="1200" spc="-1" strike="noStrike">
                <a:solidFill>
                  <a:srgbClr val="000000"/>
                </a:solidFill>
                <a:latin typeface="Arial"/>
              </a:rPr>
              <a:t> decline, did the response </a:t>
            </a:r>
            <a:r>
              <a:rPr b="0" i="1" lang="en-US" sz="1200" spc="-1" strike="noStrike">
                <a:solidFill>
                  <a:srgbClr val="000000"/>
                </a:solidFill>
                <a:latin typeface="Arial"/>
              </a:rPr>
              <a:t>cause</a:t>
            </a:r>
            <a:r>
              <a:rPr b="0" lang="en-US" sz="1200" spc="-1" strike="noStrike">
                <a:solidFill>
                  <a:srgbClr val="000000"/>
                </a:solidFill>
                <a:latin typeface="Arial"/>
              </a:rPr>
              <a:t> the decline? Answering this question helps you decide whether to apply the response to simila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 </a:t>
            </a:r>
            <a:r>
              <a:rPr b="0" lang="en-US" sz="1200" spc="-1" strike="noStrike">
                <a:solidFill>
                  <a:srgbClr val="000000"/>
                </a:solidFill>
                <a:latin typeface="Arial"/>
              </a:rPr>
              <a:t>The next five slides are a very basic overview of some issues and challenges with conducting community surveys.  Most of this information is usually covered in a basic research methods course.  As such, if your students have completed that type of course, this should be relatively easy for them.  If not, this section might take some additiona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included because community surveys are a common tool for measuring perceptions of police effectiveness in dealing with crime and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ureau of Justice Assistance (1993, October).  A Police Guide to Surveying Citizens and Their Environment.  NCJ143711. - http://www.popcenter.org/Library/RecommendedReadings/Surveying%20Citize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el, D. (1999).  Conducting Community Surveys: A Practical Guide for Law Enforcement Agencies.  Bureau of Justice Statistics (NJC 178246), U.S. Department of Justice - http://www.popcenter.org/Library/RecommendedReadings/Conducting%20Survey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s: - </a:t>
            </a:r>
            <a:r>
              <a:rPr b="0" lang="en-US" sz="1200" spc="-1" strike="noStrike">
                <a:solidFill>
                  <a:srgbClr val="000000"/>
                </a:solidFill>
                <a:latin typeface="Arial"/>
              </a:rPr>
              <a:t>Michael Maxfield and Earl Babbie (2004).  </a:t>
            </a:r>
            <a:r>
              <a:rPr b="0" i="1" lang="en-US" sz="1200" spc="-1" strike="noStrike">
                <a:solidFill>
                  <a:srgbClr val="000000"/>
                </a:solidFill>
                <a:latin typeface="Arial"/>
              </a:rPr>
              <a:t>Research Methods for Criminal Justice and Criminology</a:t>
            </a:r>
            <a:r>
              <a:rPr b="0" lang="en-US" sz="1200" spc="-1" strike="noStrike">
                <a:solidFill>
                  <a:srgbClr val="000000"/>
                </a:solidFill>
                <a:latin typeface="Arial"/>
              </a:rPr>
              <a:t>, 4th Edition.  Wadsw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ureau of Justice Assistance (1993, October).  A Police Guide to Surveying Citizens and Their Environment.  NCJ143711. - http://www.popcenter.org/Library/RecommendedReadings/Surveying%20Citize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el, D. (1999).  Conducting Community Surveys: A Practical Guide for Law Enforcement Agencies.  Bureau of Justice Statistics (NJC 178246), U.S. Department of Justice - http://www.popcenter.org/Library/RecommendedReadings/Conducting%20Survey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 - </a:t>
            </a:r>
            <a:r>
              <a:rPr b="0" lang="en-US" sz="1200" spc="-1" strike="noStrike">
                <a:solidFill>
                  <a:srgbClr val="000000"/>
                </a:solidFill>
                <a:latin typeface="Arial"/>
              </a:rPr>
              <a:t>Michael Maxfield and Earl Babbie (2004).  </a:t>
            </a:r>
            <a:r>
              <a:rPr b="0" i="1" lang="en-US" sz="1200" spc="-1" strike="noStrike">
                <a:solidFill>
                  <a:srgbClr val="000000"/>
                </a:solidFill>
                <a:latin typeface="Arial"/>
              </a:rPr>
              <a:t>Research Methods for Criminal Justice and Criminology</a:t>
            </a:r>
            <a:r>
              <a:rPr b="0" lang="en-US" sz="1200" spc="-1" strike="noStrike">
                <a:solidFill>
                  <a:srgbClr val="000000"/>
                </a:solidFill>
                <a:latin typeface="Arial"/>
              </a:rPr>
              <a:t>, 4th Edition.  Wadsw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ureau of Justice Assistance (1993, October).  A Police Guide to Surveying Citizens and Their Environment.  NCJ143711. - http://www.popcenter.org/Library/RecommendedReadings/Surveying%20Citize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el, D. (1999).  Conducting Community Surveys: A Practical Guide for Law Enforcement Agencies.  Bureau of Justice Statistics (NJC 178246), U.S. Department of Justice - http://www.popcenter.org/Library/RecommendedReadings/Conducting%20Survey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 - </a:t>
            </a:r>
            <a:r>
              <a:rPr b="0" lang="en-US" sz="1200" spc="-1" strike="noStrike">
                <a:solidFill>
                  <a:srgbClr val="000000"/>
                </a:solidFill>
                <a:latin typeface="Arial"/>
              </a:rPr>
              <a:t>Michael Maxfield and Earl Babbie (2004).  </a:t>
            </a:r>
            <a:r>
              <a:rPr b="0" i="1" lang="en-US" sz="1200" spc="-1" strike="noStrike">
                <a:solidFill>
                  <a:srgbClr val="000000"/>
                </a:solidFill>
                <a:latin typeface="Arial"/>
              </a:rPr>
              <a:t>Research Methods for Criminal Justice and Criminology</a:t>
            </a:r>
            <a:r>
              <a:rPr b="0" lang="en-US" sz="1200" spc="-1" strike="noStrike">
                <a:solidFill>
                  <a:srgbClr val="000000"/>
                </a:solidFill>
                <a:latin typeface="Arial"/>
              </a:rPr>
              <a:t>, 4th Edition.  Wadsw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ureau of Justice Assistance (1993, October).  A Police Guide to Surveying Citizens and Their Environment.  NCJ143711. - http://www.popcenter.org/Library/RecommendedReadings/Surveying%20Citize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el, D. (1999).  Conducting Community Surveys: A Practical Guide for Law Enforcement Agencies.  Bureau of Justice Statistics (NJC 178246), U.S. Department of Justice - http://www.popcenter.org/Library/RecommendedReadings/Conducting%20Survey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 - </a:t>
            </a:r>
            <a:r>
              <a:rPr b="0" lang="en-US" sz="1200" spc="-1" strike="noStrike">
                <a:solidFill>
                  <a:srgbClr val="000000"/>
                </a:solidFill>
                <a:latin typeface="Arial"/>
              </a:rPr>
              <a:t>Michael Maxfield and Earl Babbie (2004).  </a:t>
            </a:r>
            <a:r>
              <a:rPr b="0" i="1" lang="en-US" sz="1200" spc="-1" strike="noStrike">
                <a:solidFill>
                  <a:srgbClr val="000000"/>
                </a:solidFill>
                <a:latin typeface="Arial"/>
              </a:rPr>
              <a:t>Research Methods for Criminal Justice and Criminology</a:t>
            </a:r>
            <a:r>
              <a:rPr b="0" lang="en-US" sz="1200" spc="-1" strike="noStrike">
                <a:solidFill>
                  <a:srgbClr val="000000"/>
                </a:solidFill>
                <a:latin typeface="Arial"/>
              </a:rPr>
              <a:t>, 4th Edition.  Wadsw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ureau of Justice Assistance (1993, October).  A Police Guide to Surveying Citizens and Their Environment.  NCJ143711. - http://www.popcenter.org/Library/RecommendedReadings/Surveying%20Citize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el, D. (1999).  Conducting Community Surveys: A Practical Guide for Law Enforcement Agencies.  Bureau of Justice Statistics (NJC 178246), U.S. Department of Justice - http://www.popcenter.org/Library/RecommendedReadings/Conducting%20Survey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 - </a:t>
            </a:r>
            <a:r>
              <a:rPr b="0" lang="en-US" sz="1200" spc="-1" strike="noStrike">
                <a:solidFill>
                  <a:srgbClr val="000000"/>
                </a:solidFill>
                <a:latin typeface="Arial"/>
              </a:rPr>
              <a:t>Michael Maxfield and Earl Babbie (2004).  </a:t>
            </a:r>
            <a:r>
              <a:rPr b="0" i="1" lang="en-US" sz="1200" spc="-1" strike="noStrike">
                <a:solidFill>
                  <a:srgbClr val="000000"/>
                </a:solidFill>
                <a:latin typeface="Arial"/>
              </a:rPr>
              <a:t>Research Methods for Criminal Justice and Criminology</a:t>
            </a:r>
            <a:r>
              <a:rPr b="0" lang="en-US" sz="1200" spc="-1" strike="noStrike">
                <a:solidFill>
                  <a:srgbClr val="000000"/>
                </a:solidFill>
                <a:latin typeface="Arial"/>
              </a:rPr>
              <a:t>, 4th Edition.  Wadsw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ureau of Justice Assistance (1993, October).  A Police Guide to Surveying Citizens and Their Environment.  NCJ143711. - http://www.popcenter.org/Library/RecommendedReadings/Surveying%20Citizen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sel, D. (1999).  Conducting Community Surveys: A Practical Guide for Law Enforcement Agencies.  Bureau of Justice Statistics (NJC 178246), U.S. Department of Justice - http://www.popcenter.org/Library/RecommendedReadings/Conducting%20Survey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Reading: - </a:t>
            </a:r>
            <a:r>
              <a:rPr b="0" lang="en-US" sz="1200" spc="-1" strike="noStrike">
                <a:solidFill>
                  <a:srgbClr val="000000"/>
                </a:solidFill>
                <a:latin typeface="Arial"/>
              </a:rPr>
              <a:t>Michael Maxfield and Earl Babbie (2004).  </a:t>
            </a:r>
            <a:r>
              <a:rPr b="0" i="1" lang="en-US" sz="1200" spc="-1" strike="noStrike">
                <a:solidFill>
                  <a:srgbClr val="000000"/>
                </a:solidFill>
                <a:latin typeface="Arial"/>
              </a:rPr>
              <a:t>Research Methods for Criminal Justice and Criminology</a:t>
            </a:r>
            <a:r>
              <a:rPr b="0" lang="en-US" sz="1200" spc="-1" strike="noStrike">
                <a:solidFill>
                  <a:srgbClr val="000000"/>
                </a:solidFill>
                <a:latin typeface="Arial"/>
              </a:rPr>
              <a:t>, 4th Edition.  Wadsw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ifferent perspectives from different population groups within the community can help law enforcement respond effectively to various needs/concerns.  This chart illustrates an example of how responses vary across different demographic populatio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nother example of reporting results from three survey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of a line graph presenting results of a series of surveys over ti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ey decisions to make regarding any problem-solving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d the problem decline enough for you to end the effort and apply resources elsewhere? If the problem did not decline substantially, then the job is not done. In such a case, the most appropriate decision may be to reanalyze the problem and develop a new respo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f the problem did decline substantially, then it might be worthwhile to apply the response to simila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blem declined substantially, and if the response at least partly caused the decline, then you might consider using the response with other problems. But if the problem did not decline, or if it got worse, and this was due to an ineffective response, then future problem-solvers should be alerted so they can develop better responses to similar problems. Future decisions about whether to use the response depend in part on assessment information. In this regard, assessment is an essential part of police organizational learning. Without assessments, problem solvers are constantly reinventing the wheel, and run the risk of repeating the same mistakes. Nevertheless, obtaining valid information to aid in decision-making increases the complexity of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either decision requires a detailed understanding of the problem, of how the response is supposed to reduce the problem, and of the context in which the response has been implemented.  For this reason, the evaluation process begins after it is identified in the scanning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basic reminder of the role of assessment in the SAR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onald V. and Eck, John E (2005). </a:t>
            </a:r>
            <a:r>
              <a:rPr b="0" i="1" lang="en-US" sz="1200" spc="-1" strike="noStrike">
                <a:solidFill>
                  <a:srgbClr val="000000"/>
                </a:solidFill>
                <a:latin typeface="Arial"/>
              </a:rPr>
              <a:t>Crime Analysis for Problem-Solvers:  In 60 Small Steps, </a:t>
            </a:r>
            <a:r>
              <a:rPr b="0" lang="en-US" sz="1200" spc="-1" strike="noStrike">
                <a:solidFill>
                  <a:srgbClr val="000000"/>
                </a:solidFill>
                <a:latin typeface="Arial"/>
              </a:rPr>
              <a:t>U.S. Department of Justice, Office of Community Oriented Policing Services, Washington, 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Library/RecommendedReadings/60Step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r>
              <a:rPr b="0" lang="en-US" sz="1200" spc="-1" strike="noStrike">
                <a:solidFill>
                  <a:srgbClr val="000000"/>
                </a:solidFill>
                <a:latin typeface="Arial"/>
              </a:rPr>
              <a:t> is a scientific process for determining if a problem declined and if the solution caused the decline. As we will see, it begins at the moment the problem-solving process begins and continues through the completion of the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a:t>
            </a:r>
            <a:r>
              <a:rPr b="0" lang="en-US" sz="1200" spc="-1" strike="noStrike">
                <a:solidFill>
                  <a:srgbClr val="000000"/>
                </a:solidFill>
                <a:latin typeface="Arial"/>
              </a:rPr>
              <a:t> occurs at the final stage in the SARA problem-solving process. It is the culmination of the evaluation process, the time when you draw conclusions about the problem and its solu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assessment is the final stage of both evaluation and problem solving, critical decisions about the evaluation are made throughout the process. The left side of the slide shows the standard SARA process and some of the most basic questions asked at each stage.  It also draws attention to the fact that the assessment may produce information requiring the problem-solver to go back to earlier stages to make modifications. This is particularly the case if the response was not as successful as expec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side lists critical questions to address to conduct an evaluation. During the scanning stage, you must define the problem with sufficient precision to measure it. You will collect baseline data on the nature and scope of the problem during the analysis phase. Virtually every important question to be addressed during analysis will be important during assessment. This is because, during assessment, you want to know if the problem has changed. So data uncovered during analysis become vital baseline information (or "pre-response measures") during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esponse stage, while developing a strategy to reduce the problem, you should also develop an accountability mechanism to be sure the various participants in the response do what they should be doing. As we will see later, one type of evaluation–process evaluation–is closely tied to accountability. Thus, while developing a response, it is important to determine how to assess accountability. Also, the type of response has a major influence on how you design the other type of evaluation–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assessment, you answer the following ques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 response occur as planne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 problem declin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o, are there good reasons to believe the decline resulted from the respon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you begin planning for an evaluation when you take on a problem.  The evaluation builds throughout the SARA process, culminates during the assessment, and provides findings that help you determine if you should revisit earlier stages to improve the respon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Evaluations </a:t>
            </a:r>
            <a:r>
              <a:rPr b="0" lang="en-US" sz="1200" spc="-1" strike="noStrike">
                <a:solidFill>
                  <a:srgbClr val="000000"/>
                </a:solidFill>
                <a:latin typeface="Arial"/>
              </a:rPr>
              <a:t>ask the following ques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 response occur as plann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all the response components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tated more bluntly, Did you do what you said you would do?  This is a question of </a:t>
            </a:r>
            <a:r>
              <a:rPr b="1" lang="en-US" sz="1200" spc="-1" strike="noStrike">
                <a:solidFill>
                  <a:srgbClr val="000000"/>
                </a:solidFill>
                <a:latin typeface="Arial"/>
              </a:rPr>
              <a:t>accountability</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tical example. A problem-solving team, after a careful analysis, determines that, to curb a street prostitution problem, they will ask the city's traffic engineering department to make a major thoroughfare one way, and to create several dead-end streets to thwart cruising by "johns." This will be done immediately after a comprehensive crackdown on the prostitutes in the target area. Convicted prostitutes will be given probation under the condition that they do not enter the target area for a year. Finally, a nonprofit organization will help prostitutes who want to leave their line of work gain the necessary skills for legitimate employment. The vice squad, district patrol officers, prosecutor, local judges, probation office, sheriff's department, traffic engineering department, and nonprofit organization all agree to this pl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rocess evaluation will determi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the crackdown occurred and, if so, how many arrests police mad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he traffic engineering department altered street patterns as plann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how many prostitutes asked for job skills assistance and found legitimate employ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evaluation will also examine whether everything occurred in the planned sequence. If you find that the crackdown occurred after the street alterations, that the police arrested only a fraction of the prostitutes, and that none of the prostitutes sought job skills, then you will suspect that the plan was not fully carried out, nor was it carried out in the specified sequence. You might conclude that the response was a colossal failure. However, the evidence provided gives us no indication of success or failure, because a process evaluation does not answer the question, What happened to the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Evalu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what happened to the problem, you need an impact evaluation.  An impact evaluation asks the following ques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the problem decli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 did the response cause the dec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with our prostitution example, let's look at how it might work. During the analysis stage of the problem-solving process, patrol officers and vice detectives conduct a census of prostitutes operating in the target area. They also ask the traffic engineering department to install traffic counters on the major thoroughfare and critical side streets to measure traffic flow. This is done to determine how customers move through the area. The vice squad makes covert video recordings of the target area to document how prostitutes interact with potential customers. All of this is done before the problem-solving team selects a response, and the information gained helps the team to do 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sponse is implemented (though not the planned response, as we have seen), the team decides to repeat these measures to see if the problem has declined. They discover that instead of the 23 prostitutes counted in the first census, only 10 can be found. They also find that there has been a slight decline in traffic on the major thoroughfare on Friday and Saturday nights, but not at other times. However, there has been a substantial decline in side street traffic on Friday and Saturday nights. New covert video recordings show that prostitutes in the area have changed how they approach vehicles, and are acting more cautiously. In short, the team has evidence that the problem has declined after response implem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has caused the problem to decline? You may be tempted to jump right into trying to answer this question, because it will help you determine if you can attribute the decline to the response. However, this question may not be as important as it first appears. After all, if the goal is to reduce or eliminate the problem, and this occurs, what difference does it make what the cause is? The answer is that it does not matter in the least, </a:t>
            </a:r>
            <a:r>
              <a:rPr b="0" i="1" lang="en-US" sz="1200" spc="-1" strike="noStrike">
                <a:solidFill>
                  <a:srgbClr val="000000"/>
                </a:solidFill>
                <a:latin typeface="Arial"/>
              </a:rPr>
              <a:t>unless</a:t>
            </a:r>
            <a:r>
              <a:rPr b="0" lang="en-US" sz="1200" spc="-1" strike="noStrike">
                <a:solidFill>
                  <a:srgbClr val="000000"/>
                </a:solidFill>
                <a:latin typeface="Arial"/>
              </a:rPr>
              <a:t> you are interested in using the same response for similar problems. If you have no interest in using the response again, then all that matters is that you have achieved the goal. You can then use the resources devoted to addressing the problem on some more pressing concern. But if you believe you can use the response again, it is very important to determine if the response caused the decline in the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the prostitution problem-solving team believes the response might be useful for addressing similar problems. The response, though not implemented according to plan, might have caused the decline, but it is also possible that something else caused the dec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reasons the team takes this second possibility seriously. First, the actual response was somewhat haphazard, unlike the planned response. If the planned response had been implemented, the team would have a plausible explanation for the decline. But the jury-rigged nature of the actual response makes it a far less plausible explanation for the decline. Second, the impact evaluation is not particularly strong. Later, we will discuss why this is a weak evaluation, and what can be done to strengthen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Clarke R.V. and Eck, J.E. (2005). Crime Analysis for Problem-Solvers in 60 Small Steps.  Washington, DC. Office of Community Oriented Policing Services. (Step 46).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and impact evaluations answer different questions, so their combined results are often highly informative. The slide summarizes the information you can glean from both evaluations.  For the moment, we will assume that the evaluation design can show whether the response caused the problem to dec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response is implemented as planned (or nearly so), the conclusions are much easier to interpret (cells A and 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response is not implemented as planned, we have more difficulty determining what happened, and what to do next (cells C and 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 D is particularly troublesome because all you really know is that "we did not do it, and it did not work." Should you try to implement your original plan, or should you start over from scratch?</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comes that fall into cell C merit further discussion. The decline in the problem means that you could end the problem-solving process and go on to something else. If the problem has declined considerably, this might be satisfactory. If, however, the problem is still too big, then you do not know whether to continue or increase the response (on the assumption that it is working, but more is need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you could seek a different response (on the assumption that the response is not working, and something else is needed). In addition, you do not know if the response will be useful for similar problems. In short, it is difficult to replicate successes when you do not know why you were successful. The basic lesson is that all assessments should contain both a process and an impact evalu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rocess evaluation involves comparing the planned response with what actually occurred. Much of this information becomes apparent while managing a problem solving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short, a process evaluation tells what happened, when and to whom.</a:t>
            </a:r>
            <a:r>
              <a:rPr b="0" lang="en-US" sz="800" spc="-1" strike="noStrike">
                <a:solidFill>
                  <a:srgbClr val="000000"/>
                </a:solidFill>
                <a:latin typeface="Arial"/>
              </a:rPr>
              <a:t> Though it does not tell whether the response affected the problem, it is very useful for determining how to interpret impact evaluation resul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Eck, John (2002).  Assessing Responses to Problems: An Introductory Guide for Police Problem-Solvers. Problem-Oriented Guides for Police, Problem-Solving Tools Guide No. 1. Washington, DC.  Office of Community Oriented Policing Services, U.S. Department of Just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444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nterviews, focus groups, and surveys focus on individuals perceptions of the implementation and success of the response.   It is important to keep a running log of response/project activity for the timeline.  The main point here is that you never know what will be important until you begin to evaluate, so document everyth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2D3CF-9B11-41BF-9799-86B6C9E5F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A7474-23CF-49EB-95B3-E1D992C0F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819FB-5EA6-4A94-9583-9D0A62C5C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7FF59-E1B1-413F-874A-0B323884B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1F7AC-3639-4110-B34D-ADA74A39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63E1-D71E-4380-B81E-5B585BD44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0D340-E531-4AB9-AC88-03D9E8728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E6B38-5720-450D-B162-9B1E2223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0E789-2F0F-4C84-91A9-DA8ED64B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E1856-6EDC-4980-A37C-8598C12E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885E-DFA7-4C92-97FD-B2CD7D40C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093C-5602-402B-A51E-69213144F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BE97-FFEE-46CA-82CD-06E2B02BB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3</a:t>
            </a:r>
            <a:endParaRPr b="0" lang="en-US" sz="4000" spc="-1" strike="noStrike">
              <a:solidFill>
                <a:srgbClr val="000000"/>
              </a:solidFill>
              <a:latin typeface="Arial"/>
            </a:endParaRPr>
          </a:p>
        </p:txBody>
      </p:sp>
      <p:sp>
        <p:nvSpPr>
          <p:cNvPr id="49" name=""/>
          <p:cNvSpPr/>
          <p:nvPr/>
        </p:nvSpPr>
        <p:spPr>
          <a:xfrm>
            <a:off x="1295280" y="44197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ing and Evaluating Responses</a:t>
            </a:r>
            <a:endParaRPr b="0" lang="en-US" sz="28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E8EDA806-897C-4010-BC45-44C81461B1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ducting Process Evaluation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ecisions and progress in meeting min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timeline of important achieve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every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DC65E8-085E-45A1-A0CB-DE5C219CE8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Evaluation Timeline</a:t>
            </a:r>
            <a:endParaRPr b="0" lang="en-US" sz="4400" spc="-1" strike="noStrike">
              <a:solidFill>
                <a:srgbClr val="000000"/>
              </a:solidFill>
              <a:latin typeface="Arial"/>
            </a:endParaRPr>
          </a:p>
        </p:txBody>
      </p:sp>
      <p:graphicFrame>
        <p:nvGraphicFramePr>
          <p:cNvPr id="71" name=""/>
          <p:cNvGraphicFramePr/>
          <p:nvPr/>
        </p:nvGraphicFramePr>
        <p:xfrm>
          <a:off x="372960" y="1744560"/>
          <a:ext cx="8415360" cy="3149640"/>
        </p:xfrm>
        <a:graphic>
          <a:graphicData uri="http://schemas.openxmlformats.org/presentationml/2006/ole">
            <p:oleObj progId="Excel.Sheet.12" r:id="rId1" spid="">
              <p:embed/>
              <p:pic>
                <p:nvPicPr>
                  <p:cNvPr id="72" name="" descr=""/>
                  <p:cNvPicPr/>
                  <p:nvPr/>
                </p:nvPicPr>
                <p:blipFill>
                  <a:blip r:embed="rId2"/>
                  <a:stretch/>
                </p:blipFill>
                <p:spPr>
                  <a:xfrm>
                    <a:off x="372960" y="1744560"/>
                    <a:ext cx="8415360" cy="3149640"/>
                  </a:xfrm>
                  <a:prstGeom prst="rect">
                    <a:avLst/>
                  </a:prstGeom>
                  <a:ln w="0">
                    <a:noFill/>
                  </a:ln>
                </p:spPr>
              </p:pic>
            </p:oleObj>
          </a:graphicData>
        </a:graphic>
      </p:graphicFrame>
      <p:sp>
        <p:nvSpPr>
          <p:cNvPr id="3" name="PlaceHolder 2"/>
          <p:cNvSpPr>
            <a:spLocks noGrp="1"/>
          </p:cNvSpPr>
          <p:nvPr>
            <p:ph type="sldNum" idx="3"/>
          </p:nvPr>
        </p:nvSpPr>
        <p:spPr/>
        <p:txBody>
          <a:bodyPr/>
          <a:p>
            <a:fld id="{76352ED1-EC2F-467C-B4CF-0F20FBE3C0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blem Solving Project - Process Evaluation</a:t>
            </a:r>
            <a:br>
              <a:rPr sz="3000"/>
            </a:br>
            <a:r>
              <a:rPr b="0" lang="en-US" sz="3000" spc="-1" strike="noStrike">
                <a:solidFill>
                  <a:srgbClr val="000000"/>
                </a:solidFill>
                <a:latin typeface="Arial"/>
              </a:rPr>
              <a:t>California Highway Patrol</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74" name="PlaceHolder 2"/>
          <p:cNvSpPr>
            <a:spLocks noGrp="1"/>
          </p:cNvSpPr>
          <p:nvPr>
            <p:ph/>
          </p:nvPr>
        </p:nvSpPr>
        <p:spPr>
          <a:xfrm>
            <a:off x="380880" y="1828440"/>
            <a:ext cx="8229600" cy="46846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 - Traffic Collisions</a:t>
            </a:r>
            <a:endParaRPr b="0" lang="en-US" sz="36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surveys</a:t>
            </a:r>
            <a:r>
              <a:rPr b="0" lang="en-US" sz="3200" spc="-1" strike="noStrike">
                <a:solidFill>
                  <a:srgbClr val="000000"/>
                </a:solidFill>
                <a:latin typeface="Arial"/>
              </a:rPr>
              <a:t> - Personal inspection of 20 miles of roadway.</a:t>
            </a:r>
            <a:endParaRPr b="0" lang="en-US" sz="32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recommendation - </a:t>
            </a:r>
            <a:r>
              <a:rPr b="0" lang="en-US" sz="3200" spc="-1" strike="noStrike">
                <a:solidFill>
                  <a:srgbClr val="000000"/>
                </a:solidFill>
                <a:latin typeface="Arial"/>
              </a:rPr>
              <a:t>24-hour headlights-on polic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6177D1-340E-422D-B76D-6B57B35022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ducting Impact Evaluatio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 Measur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Measur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Valid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Valid Measur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68F0D6-201D-4BC3-86E3-4B6A1ECFF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iteria for Claiming Causality</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Plausible Explanation of How the Response Reduces the Problem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onse and the Level of the Problem Are Related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ponse Occurs Before the Problem Decline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Plausible Alternative Explana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5972A1-A6F1-4519-925B-4483EAB99D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 y="-30240"/>
            <a:ext cx="8915400" cy="6856560"/>
          </a:xfrm>
          <a:prstGeom prst="rect">
            <a:avLst/>
          </a:prstGeom>
          <a:ln w="0">
            <a:noFill/>
          </a:ln>
        </p:spPr>
      </p:pic>
      <p:sp>
        <p:nvSpPr>
          <p:cNvPr id="2" name="PlaceHolder 1"/>
          <p:cNvSpPr>
            <a:spLocks noGrp="1"/>
          </p:cNvSpPr>
          <p:nvPr>
            <p:ph type="sldNum" idx="3"/>
          </p:nvPr>
        </p:nvSpPr>
        <p:spPr/>
        <p:txBody>
          <a:bodyPr/>
          <a:p>
            <a:fld id="{1A01D938-C770-4E9F-A5A9-9AD1B6DBC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aluation Designs </a:t>
            </a:r>
            <a:endParaRPr b="0" lang="en-US" sz="4400" spc="-1" strike="noStrike">
              <a:solidFill>
                <a:srgbClr val="000000"/>
              </a:solidFill>
              <a:latin typeface="Arial"/>
            </a:endParaRPr>
          </a:p>
        </p:txBody>
      </p:sp>
      <p:pic>
        <p:nvPicPr>
          <p:cNvPr id="81" name="" descr=""/>
          <p:cNvPicPr/>
          <p:nvPr/>
        </p:nvPicPr>
        <p:blipFill>
          <a:blip r:embed="rId1"/>
          <a:stretch/>
        </p:blipFill>
        <p:spPr>
          <a:xfrm>
            <a:off x="228600" y="2741760"/>
            <a:ext cx="8686800" cy="2130120"/>
          </a:xfrm>
          <a:prstGeom prst="rect">
            <a:avLst/>
          </a:prstGeom>
          <a:ln w="0">
            <a:noFill/>
          </a:ln>
        </p:spPr>
      </p:pic>
      <p:sp>
        <p:nvSpPr>
          <p:cNvPr id="3" name="PlaceHolder 2"/>
          <p:cNvSpPr>
            <a:spLocks noGrp="1"/>
          </p:cNvSpPr>
          <p:nvPr>
            <p:ph type="sldNum" idx="3"/>
          </p:nvPr>
        </p:nvSpPr>
        <p:spPr/>
        <p:txBody>
          <a:bodyPr/>
          <a:p>
            <a:fld id="{6BB29F62-109C-4E59-A87D-566ABC6A3F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ost Designs </a:t>
            </a:r>
            <a:endParaRPr b="0" lang="en-US" sz="4400" spc="-1" strike="noStrike">
              <a:solidFill>
                <a:srgbClr val="000000"/>
              </a:solidFill>
              <a:latin typeface="Arial"/>
            </a:endParaRPr>
          </a:p>
        </p:txBody>
      </p:sp>
      <p:graphicFrame>
        <p:nvGraphicFramePr>
          <p:cNvPr id="83" name=""/>
          <p:cNvGraphicFramePr/>
          <p:nvPr/>
        </p:nvGraphicFramePr>
        <p:xfrm>
          <a:off x="990720" y="1062000"/>
          <a:ext cx="7315200" cy="5719680"/>
        </p:xfrm>
        <a:graphic>
          <a:graphicData uri="http://schemas.openxmlformats.org/presentationml/2006/ole">
            <p:oleObj r:id="rId1" spid="">
              <p:embed/>
              <p:pic>
                <p:nvPicPr>
                  <p:cNvPr id="84" name="" descr=""/>
                  <p:cNvPicPr/>
                  <p:nvPr/>
                </p:nvPicPr>
                <p:blipFill>
                  <a:blip r:embed="rId2"/>
                  <a:stretch/>
                </p:blipFill>
                <p:spPr>
                  <a:xfrm>
                    <a:off x="990720" y="1062000"/>
                    <a:ext cx="7315200" cy="5719680"/>
                  </a:xfrm>
                  <a:prstGeom prst="rect">
                    <a:avLst/>
                  </a:prstGeom>
                  <a:ln w="0">
                    <a:noFill/>
                  </a:ln>
                </p:spPr>
              </p:pic>
            </p:oleObj>
          </a:graphicData>
        </a:graphic>
      </p:graphicFrame>
      <p:sp>
        <p:nvSpPr>
          <p:cNvPr id="3" name="PlaceHolder 2"/>
          <p:cNvSpPr>
            <a:spLocks noGrp="1"/>
          </p:cNvSpPr>
          <p:nvPr>
            <p:ph type="sldNum" idx="3"/>
          </p:nvPr>
        </p:nvSpPr>
        <p:spPr/>
        <p:txBody>
          <a:bodyPr/>
          <a:p>
            <a:fld id="{2F1175E1-CD37-41B8-85F8-B2EC2D4B3F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Post Design with a Control Group</a:t>
            </a:r>
            <a:endParaRPr b="0" lang="en-US" sz="3600" spc="-1" strike="noStrike">
              <a:solidFill>
                <a:srgbClr val="000000"/>
              </a:solidFill>
              <a:latin typeface="Arial"/>
            </a:endParaRPr>
          </a:p>
        </p:txBody>
      </p:sp>
      <p:pic>
        <p:nvPicPr>
          <p:cNvPr id="86" name="" descr=""/>
          <p:cNvPicPr/>
          <p:nvPr/>
        </p:nvPicPr>
        <p:blipFill>
          <a:blip r:embed="rId1"/>
          <a:stretch/>
        </p:blipFill>
        <p:spPr>
          <a:xfrm>
            <a:off x="762120" y="1442880"/>
            <a:ext cx="7924680" cy="5415120"/>
          </a:xfrm>
          <a:prstGeom prst="rect">
            <a:avLst/>
          </a:prstGeom>
          <a:ln w="0">
            <a:noFill/>
          </a:ln>
        </p:spPr>
      </p:pic>
      <p:sp>
        <p:nvSpPr>
          <p:cNvPr id="3" name="PlaceHolder 2"/>
          <p:cNvSpPr>
            <a:spLocks noGrp="1"/>
          </p:cNvSpPr>
          <p:nvPr>
            <p:ph type="sldNum" idx="3"/>
          </p:nvPr>
        </p:nvSpPr>
        <p:spPr/>
        <p:txBody>
          <a:bodyPr/>
          <a:p>
            <a:fld id="{F3D2F0F0-9B0A-4D90-9989-EC654570C9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ed Time Series Designs </a:t>
            </a:r>
            <a:endParaRPr b="0" lang="en-US" sz="4400" spc="-1" strike="noStrike">
              <a:solidFill>
                <a:srgbClr val="000000"/>
              </a:solidFill>
              <a:latin typeface="Arial"/>
            </a:endParaRPr>
          </a:p>
        </p:txBody>
      </p:sp>
      <p:pic>
        <p:nvPicPr>
          <p:cNvPr id="88" name="" descr=""/>
          <p:cNvPicPr/>
          <p:nvPr/>
        </p:nvPicPr>
        <p:blipFill>
          <a:blip r:embed="rId1"/>
          <a:srcRect l="27343" t="33337" r="29687" b="27086"/>
          <a:stretch/>
        </p:blipFill>
        <p:spPr>
          <a:xfrm>
            <a:off x="762120" y="1600200"/>
            <a:ext cx="7696080" cy="5054760"/>
          </a:xfrm>
          <a:prstGeom prst="rect">
            <a:avLst/>
          </a:prstGeom>
          <a:ln w="0">
            <a:noFill/>
          </a:ln>
        </p:spPr>
      </p:pic>
      <p:sp>
        <p:nvSpPr>
          <p:cNvPr id="3" name="PlaceHolder 2"/>
          <p:cNvSpPr>
            <a:spLocks noGrp="1"/>
          </p:cNvSpPr>
          <p:nvPr>
            <p:ph type="sldNum" idx="3"/>
          </p:nvPr>
        </p:nvSpPr>
        <p:spPr/>
        <p:txBody>
          <a:bodyPr/>
          <a:p>
            <a:fld id="{02924FDD-E0C6-4545-A7D2-2429031DB2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13 Component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and Evalu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Community Surv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1F0C19-1916-47C3-AF26-DC13DFF7C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Time Series Design </a:t>
            </a:r>
            <a:endParaRPr b="0" lang="en-US" sz="4000" spc="-1" strike="noStrike">
              <a:solidFill>
                <a:srgbClr val="000000"/>
              </a:solidFill>
              <a:latin typeface="Arial"/>
            </a:endParaRPr>
          </a:p>
        </p:txBody>
      </p:sp>
      <p:pic>
        <p:nvPicPr>
          <p:cNvPr id="90" name="" descr=""/>
          <p:cNvPicPr/>
          <p:nvPr/>
        </p:nvPicPr>
        <p:blipFill>
          <a:blip r:embed="rId1"/>
          <a:stretch/>
        </p:blipFill>
        <p:spPr>
          <a:xfrm>
            <a:off x="0" y="1081080"/>
            <a:ext cx="9144000" cy="5562720"/>
          </a:xfrm>
          <a:prstGeom prst="rect">
            <a:avLst/>
          </a:prstGeom>
          <a:ln w="0">
            <a:noFill/>
          </a:ln>
        </p:spPr>
      </p:pic>
      <p:sp>
        <p:nvSpPr>
          <p:cNvPr id="3" name="PlaceHolder 2"/>
          <p:cNvSpPr>
            <a:spLocks noGrp="1"/>
          </p:cNvSpPr>
          <p:nvPr>
            <p:ph type="sldNum" idx="3"/>
          </p:nvPr>
        </p:nvSpPr>
        <p:spPr/>
        <p:txBody>
          <a:bodyPr/>
          <a:p>
            <a:fld id="{5C0E701F-ADC2-4867-ABDE-15FBAF8DDC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al Limitations to Interrupted Time Series Desig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is expensive or difficul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unavailable for many periods before the respons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makers cannot wait for sufficient time to elapse after the respons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cording practices have changed, making inter-period comparisons invalid.</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events are rare for short time intervals, forcing you to use fewer, longer interval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FD9DF2F-8C66-49E9-BA2D-21A700E604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590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bining and Selecting Desig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1BB4E599-EC73-4430-BCB7-595B5EF16A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ial Displacement of Crime or Disorder, and Spatial Diffusion of Crime Prevention Benefit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5" name="" descr=""/>
          <p:cNvPicPr/>
          <p:nvPr/>
        </p:nvPicPr>
        <p:blipFill>
          <a:blip r:embed="rId1"/>
          <a:stretch/>
        </p:blipFill>
        <p:spPr>
          <a:xfrm>
            <a:off x="380880" y="1428840"/>
            <a:ext cx="8229600" cy="5429160"/>
          </a:xfrm>
          <a:prstGeom prst="rect">
            <a:avLst/>
          </a:prstGeom>
          <a:ln w="0">
            <a:noFill/>
          </a:ln>
        </p:spPr>
      </p:pic>
      <p:sp>
        <p:nvSpPr>
          <p:cNvPr id="3" name="PlaceHolder 2"/>
          <p:cNvSpPr>
            <a:spLocks noGrp="1"/>
          </p:cNvSpPr>
          <p:nvPr>
            <p:ph type="sldNum" idx="3"/>
          </p:nvPr>
        </p:nvSpPr>
        <p:spPr/>
        <p:txBody>
          <a:bodyPr/>
          <a:p>
            <a:fld id="{03EC2B2B-713F-4BD9-823A-3859C624B5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olving Evaluation Checklis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Considerations </a:t>
            </a:r>
            <a:endParaRPr b="0" lang="en-US" sz="3200" spc="-1" strike="noStrike">
              <a:solidFill>
                <a:srgbClr val="000000"/>
              </a:solidFill>
              <a:latin typeface="Arial"/>
            </a:endParaRPr>
          </a:p>
          <a:p>
            <a:pPr marL="812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Evaluation </a:t>
            </a:r>
            <a:endParaRPr b="0" lang="en-US" sz="3200" spc="-1" strike="noStrike">
              <a:solidFill>
                <a:srgbClr val="000000"/>
              </a:solidFill>
              <a:latin typeface="Arial"/>
            </a:endParaRPr>
          </a:p>
          <a:p>
            <a:pPr marL="812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Evaluation </a:t>
            </a:r>
            <a:endParaRPr b="0" lang="en-US" sz="3200" spc="-1" strike="noStrike">
              <a:solidFill>
                <a:srgbClr val="000000"/>
              </a:solidFill>
              <a:latin typeface="Arial"/>
            </a:endParaRPr>
          </a:p>
          <a:p>
            <a:pPr marL="812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Conclusions </a:t>
            </a:r>
            <a:endParaRPr b="0" lang="en-US" sz="3200" spc="-1" strike="noStrike">
              <a:solidFill>
                <a:srgbClr val="000000"/>
              </a:solidFill>
              <a:latin typeface="Arial"/>
            </a:endParaRPr>
          </a:p>
          <a:p>
            <a:pPr marL="812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Impact Evaluation Conclusion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B8C0482-1068-4A07-9705-7BF0A7D52E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 Early Consider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will the evaluation help you decid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 you know the problem?</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 you know how the response work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824AB0-8636-4D21-AD1C-2A699B8B2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Process Eval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implement the respons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implement enough of the respon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154F66-3668-4708-8B9D-7783AEACC9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I. Impact Eval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 need a control group?</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often can you measure the problem?</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type of evaluation design should you us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type of control group do you ne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7190FC-7446-4662-BF1F-7112EC005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V. Evaluation Conclus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your findings from the </a:t>
            </a:r>
            <a:r>
              <a:rPr b="1" lang="en-US" sz="3200" spc="-1" strike="noStrike" u="sng">
                <a:solidFill>
                  <a:srgbClr val="000000"/>
                </a:solidFill>
                <a:uFillTx/>
                <a:latin typeface="Arial"/>
              </a:rPr>
              <a:t>process</a:t>
            </a:r>
            <a:r>
              <a:rPr b="1" lang="en-US" sz="3200" spc="-1" strike="noStrike">
                <a:solidFill>
                  <a:srgbClr val="000000"/>
                </a:solidFill>
                <a:latin typeface="Arial"/>
              </a:rPr>
              <a:t> evaluatio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your findings from the </a:t>
            </a:r>
            <a:r>
              <a:rPr b="1" lang="en-US" sz="3200" spc="-1" strike="noStrike" u="sng">
                <a:solidFill>
                  <a:srgbClr val="000000"/>
                </a:solidFill>
                <a:uFillTx/>
                <a:latin typeface="Arial"/>
              </a:rPr>
              <a:t>impact</a:t>
            </a:r>
            <a:r>
              <a:rPr b="1" lang="en-US" sz="3200" spc="-1" strike="noStrike">
                <a:solidFill>
                  <a:srgbClr val="000000"/>
                </a:solidFill>
                <a:latin typeface="Arial"/>
              </a:rPr>
              <a:t> evalu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DDA912-30C9-4F8D-A22C-9B778AA30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 Overall Impact Evaluation Conclusio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the problem decline after the response?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oblem did decline, did it do so at a faster rate after the response than before the respons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oblem did decline, can you rule out all other plausible explanations for the decline, other than the response? Use your list of differences between the response and control groups to help answer this ques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2E6061-CFEA-47A6-916B-89187EBCE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ntroduction</a:t>
            </a:r>
            <a:endParaRPr b="0" lang="en-US" sz="4800" spc="-1" strike="noStrike">
              <a:solidFill>
                <a:srgbClr val="000000"/>
              </a:solidFill>
              <a:latin typeface="Arial"/>
            </a:endParaRPr>
          </a:p>
        </p:txBody>
      </p:sp>
      <p:sp>
        <p:nvSpPr>
          <p:cNvPr id="54" name="PlaceHolder 2"/>
          <p:cNvSpPr>
            <a:spLocks noGrp="1"/>
          </p:cNvSpPr>
          <p:nvPr>
            <p:ph/>
          </p:nvPr>
        </p:nvSpPr>
        <p:spPr>
          <a:xfrm>
            <a:off x="457200" y="3733560"/>
            <a:ext cx="8305920" cy="1981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e problem declin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o, did the response </a:t>
            </a:r>
            <a:r>
              <a:rPr b="0" i="1" lang="en-US" sz="3200" spc="-1" strike="noStrike">
                <a:solidFill>
                  <a:srgbClr val="000000"/>
                </a:solidFill>
                <a:latin typeface="Arial"/>
              </a:rPr>
              <a:t>cause</a:t>
            </a:r>
            <a:r>
              <a:rPr b="0" lang="en-US" sz="3200" spc="-1" strike="noStrike">
                <a:solidFill>
                  <a:srgbClr val="000000"/>
                </a:solidFill>
                <a:latin typeface="Arial"/>
              </a:rPr>
              <a:t> the decline?</a:t>
            </a:r>
            <a:endParaRPr b="0" lang="en-US" sz="3200" spc="-1" strike="noStrike">
              <a:solidFill>
                <a:srgbClr val="000000"/>
              </a:solidFill>
              <a:latin typeface="Arial"/>
            </a:endParaRPr>
          </a:p>
        </p:txBody>
      </p:sp>
      <p:sp>
        <p:nvSpPr>
          <p:cNvPr id="55" name=""/>
          <p:cNvSpPr/>
          <p:nvPr/>
        </p:nvSpPr>
        <p:spPr>
          <a:xfrm>
            <a:off x="457200" y="1600200"/>
            <a:ext cx="815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assessing a problem-solving effort is to help you make better decisions by answering two specific ques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3790001-6032-4CFE-9F2F-D48F56E6CF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808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ducting Community Surveys</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52DF2563-0FFA-4CEE-9E78-A0F3530EA9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Use of Surveys</a:t>
            </a:r>
            <a:endParaRPr b="0" lang="en-US" sz="4400" spc="-1" strike="noStrike">
              <a:solidFill>
                <a:srgbClr val="000000"/>
              </a:solidFill>
              <a:latin typeface="Arial"/>
            </a:endParaRPr>
          </a:p>
        </p:txBody>
      </p:sp>
      <p:sp>
        <p:nvSpPr>
          <p:cNvPr id="110" name=""/>
          <p:cNvSpPr/>
          <p:nvPr/>
        </p:nvSpPr>
        <p:spPr>
          <a:xfrm>
            <a:off x="304920" y="1447920"/>
            <a:ext cx="8839080" cy="49528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J Researchers </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understand crime and public fear of crime</a:t>
            </a:r>
            <a:endParaRPr b="0" lang="en-US" sz="2400" spc="-1" strike="noStrike">
              <a:solidFill>
                <a:srgbClr val="000000"/>
              </a:solidFill>
              <a:latin typeface="Arial"/>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Scientists and Political Pollster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earn about social relations and predict future event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ie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edict economic trends and how people react to polic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e</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easure public opinion and operational effectivenes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29E1A1B-EA12-4462-9B82-FB26D84B95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ecific Uses for </a:t>
            </a:r>
            <a:br>
              <a:rPr sz="4000"/>
            </a:br>
            <a:r>
              <a:rPr b="1" lang="en-US" sz="4000" spc="-1" strike="noStrike">
                <a:solidFill>
                  <a:srgbClr val="000000"/>
                </a:solidFill>
                <a:latin typeface="Arial"/>
              </a:rPr>
              <a:t>Community-based Surveys</a:t>
            </a:r>
            <a:endParaRPr b="0" lang="en-US" sz="4000" spc="-1" strike="noStrike">
              <a:solidFill>
                <a:srgbClr val="000000"/>
              </a:solidFill>
              <a:latin typeface="Arial"/>
            </a:endParaRPr>
          </a:p>
        </p:txBody>
      </p:sp>
      <p:sp>
        <p:nvSpPr>
          <p:cNvPr id="11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about public attitudes regarding police or cr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 and analyze problems in neighborho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problem solving efforts and other interventions by taking baseline meas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crime and fear of cr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CAC3B9-E38A-4298-BFF3-FD78135E2C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Sampling Desig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random sampling</a:t>
            </a:r>
            <a:r>
              <a:rPr b="0" lang="en-US" sz="2400" spc="-1" strike="noStrike">
                <a:solidFill>
                  <a:srgbClr val="000000"/>
                </a:solidFill>
                <a:latin typeface="Arial"/>
              </a:rPr>
              <a:t> – ensures that everyone in the population has a chance to be included in the sampling bia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random sampling</a:t>
            </a:r>
            <a:r>
              <a:rPr b="0" lang="en-US" sz="2400" spc="-1" strike="noStrike">
                <a:solidFill>
                  <a:srgbClr val="000000"/>
                </a:solidFill>
                <a:latin typeface="Arial"/>
              </a:rPr>
              <a:t> – sometimes is the best option available given the time and other limi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will be sampl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ample size, sampling error</a:t>
            </a:r>
            <a:endParaRPr b="0" lang="en-US" sz="2800" spc="-1" strike="noStrike">
              <a:solidFill>
                <a:srgbClr val="000000"/>
              </a:solidFill>
              <a:latin typeface="Arial"/>
            </a:endParaRPr>
          </a:p>
        </p:txBody>
      </p:sp>
      <p:sp>
        <p:nvSpPr>
          <p:cNvPr id="114" name="PlaceHolder 2"/>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rvey Process</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0C5FA67A-C6C1-4F7C-AFE5-8953CF7478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447560"/>
            <a:ext cx="8229600" cy="5181480"/>
          </a:xfrm>
          <a:prstGeom prst="rect">
            <a:avLst/>
          </a:prstGeom>
          <a:noFill/>
          <a:ln w="0">
            <a:noFill/>
          </a:ln>
        </p:spPr>
        <p:txBody>
          <a:bodyPr lIns="90000" rIns="90000" tIns="46800" bIns="46800" anchor="t">
            <a:normAutofit fontScale="98000"/>
          </a:bodyPr>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surveys</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 surveys</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erson interviews</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based surveys</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Deputy or volunteer delivery</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s are filled out at a designated location</a:t>
            </a:r>
            <a:endParaRPr b="0" lang="en-US" sz="2800" spc="-1" strike="noStrike">
              <a:solidFill>
                <a:srgbClr val="000000"/>
              </a:solidFill>
              <a:latin typeface="Arial"/>
            </a:endParaRPr>
          </a:p>
        </p:txBody>
      </p:sp>
      <p:sp>
        <p:nvSpPr>
          <p:cNvPr id="116" name="PlaceHolder 2"/>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for Contacting Respondent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B8A749D-5FFB-4012-8A89-0869E3470F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considera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sk ques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ended vs. close ended ques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the questionnaire</a:t>
            </a:r>
            <a:endParaRPr b="0" lang="en-US" sz="2800" spc="-1" strike="noStrike">
              <a:solidFill>
                <a:srgbClr val="000000"/>
              </a:solidFill>
              <a:latin typeface="Arial"/>
            </a:endParaRPr>
          </a:p>
        </p:txBody>
      </p:sp>
      <p:sp>
        <p:nvSpPr>
          <p:cNvPr id="11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king Questions</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16147AF2-858A-4B8F-8960-1632BE6944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of the sampl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ample represent the popul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inferences about the popul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ng relationship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ce testing</a:t>
            </a:r>
            <a:endParaRPr b="0" lang="en-US" sz="2800" spc="-1" strike="noStrike">
              <a:solidFill>
                <a:srgbClr val="000000"/>
              </a:solidFill>
              <a:latin typeface="Arial"/>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sis of the Data</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7FA74F1F-E0EA-4DEE-899C-566F830596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0" y="228600"/>
          <a:ext cx="8915400" cy="6627960"/>
        </p:xfrm>
        <a:graphic>
          <a:graphicData uri="http://schemas.openxmlformats.org/presentationml/2006/ole">
            <p:oleObj r:id="rId1" spid="">
              <p:embed/>
              <p:pic>
                <p:nvPicPr>
                  <p:cNvPr id="122" name="" descr=""/>
                  <p:cNvPicPr/>
                  <p:nvPr/>
                </p:nvPicPr>
                <p:blipFill>
                  <a:blip r:embed="rId2"/>
                  <a:stretch/>
                </p:blipFill>
                <p:spPr>
                  <a:xfrm>
                    <a:off x="0" y="228600"/>
                    <a:ext cx="8915400" cy="6627960"/>
                  </a:xfrm>
                  <a:prstGeom prst="rect">
                    <a:avLst/>
                  </a:prstGeom>
                  <a:ln w="0">
                    <a:noFill/>
                  </a:ln>
                </p:spPr>
              </p:pic>
            </p:oleObj>
          </a:graphicData>
        </a:graphic>
      </p:graphicFrame>
      <p:sp>
        <p:nvSpPr>
          <p:cNvPr id="2" name="PlaceHolder 1"/>
          <p:cNvSpPr>
            <a:spLocks noGrp="1"/>
          </p:cNvSpPr>
          <p:nvPr>
            <p:ph type="sldNum" idx="3"/>
          </p:nvPr>
        </p:nvSpPr>
        <p:spPr/>
        <p:txBody>
          <a:bodyPr/>
          <a:p>
            <a:fld id="{1BBB3CBD-9DE0-43E7-BB86-B40F7366AA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533520" y="0"/>
          <a:ext cx="7924680" cy="6808680"/>
        </p:xfrm>
        <a:graphic>
          <a:graphicData uri="http://schemas.openxmlformats.org/presentationml/2006/ole">
            <p:oleObj r:id="rId1" spid="">
              <p:embed/>
              <p:pic>
                <p:nvPicPr>
                  <p:cNvPr id="124" name="" descr=""/>
                  <p:cNvPicPr/>
                  <p:nvPr/>
                </p:nvPicPr>
                <p:blipFill>
                  <a:blip r:embed="rId2"/>
                  <a:stretch/>
                </p:blipFill>
                <p:spPr>
                  <a:xfrm>
                    <a:off x="533520" y="0"/>
                    <a:ext cx="7924680" cy="6808680"/>
                  </a:xfrm>
                  <a:prstGeom prst="rect">
                    <a:avLst/>
                  </a:prstGeom>
                  <a:ln w="0">
                    <a:noFill/>
                  </a:ln>
                </p:spPr>
              </p:pic>
            </p:oleObj>
          </a:graphicData>
        </a:graphic>
      </p:graphicFrame>
      <p:sp>
        <p:nvSpPr>
          <p:cNvPr id="2" name="PlaceHolder 1"/>
          <p:cNvSpPr>
            <a:spLocks noGrp="1"/>
          </p:cNvSpPr>
          <p:nvPr>
            <p:ph type="sldNum" idx="3"/>
          </p:nvPr>
        </p:nvSpPr>
        <p:spPr/>
        <p:txBody>
          <a:bodyPr/>
          <a:p>
            <a:fld id="{BD44539E-F94D-4C2B-8583-F069492B07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0" y="90360"/>
          <a:ext cx="8763120" cy="6761160"/>
        </p:xfrm>
        <a:graphic>
          <a:graphicData uri="http://schemas.openxmlformats.org/presentationml/2006/ole">
            <p:oleObj r:id="rId1" spid="">
              <p:embed/>
              <p:pic>
                <p:nvPicPr>
                  <p:cNvPr id="126" name="" descr=""/>
                  <p:cNvPicPr/>
                  <p:nvPr/>
                </p:nvPicPr>
                <p:blipFill>
                  <a:blip r:embed="rId2"/>
                  <a:stretch/>
                </p:blipFill>
                <p:spPr>
                  <a:xfrm>
                    <a:off x="0" y="90360"/>
                    <a:ext cx="8763120" cy="6761160"/>
                  </a:xfrm>
                  <a:prstGeom prst="rect">
                    <a:avLst/>
                  </a:prstGeom>
                  <a:ln w="0">
                    <a:noFill/>
                  </a:ln>
                </p:spPr>
              </p:pic>
            </p:oleObj>
          </a:graphicData>
        </a:graphic>
      </p:graphicFrame>
      <p:sp>
        <p:nvSpPr>
          <p:cNvPr id="2" name="PlaceHolder 1"/>
          <p:cNvSpPr>
            <a:spLocks noGrp="1"/>
          </p:cNvSpPr>
          <p:nvPr>
            <p:ph type="sldNum" idx="3"/>
          </p:nvPr>
        </p:nvSpPr>
        <p:spPr/>
        <p:txBody>
          <a:bodyPr/>
          <a:p>
            <a:fld id="{8FC8444B-2975-4870-B970-3CEB1C304B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ssessment and</a:t>
            </a:r>
            <a:br>
              <a:rPr sz="4800"/>
            </a:br>
            <a:r>
              <a:rPr b="1" lang="en-US" sz="4800" spc="-1" strike="noStrike">
                <a:solidFill>
                  <a:srgbClr val="000000"/>
                </a:solidFill>
                <a:latin typeface="Arial"/>
              </a:rPr>
              <a:t> Evalu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D63082F-3A02-423B-AA3A-952550B740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viewing the SARA Model</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a:t>
            </a:r>
            <a:r>
              <a:rPr b="0" lang="en-US" sz="4800" spc="-1" strike="noStrike">
                <a:solidFill>
                  <a:srgbClr val="000000"/>
                </a:solidFill>
                <a:latin typeface="Arial"/>
              </a:rPr>
              <a:t>CANNING</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a:t>
            </a:r>
            <a:r>
              <a:rPr b="0" lang="en-US" sz="4800" spc="-1" strike="noStrike">
                <a:solidFill>
                  <a:srgbClr val="000000"/>
                </a:solidFill>
                <a:latin typeface="Arial"/>
              </a:rPr>
              <a:t>NALYSI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a:t>
            </a:r>
            <a:r>
              <a:rPr b="0" lang="en-US" sz="4800" spc="-1" strike="noStrike">
                <a:solidFill>
                  <a:srgbClr val="000000"/>
                </a:solidFill>
                <a:latin typeface="Arial"/>
              </a:rPr>
              <a:t>ESPONSE</a:t>
            </a:r>
            <a:endParaRPr b="0" lang="en-US" sz="4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SSESSMENT</a:t>
            </a:r>
            <a:endParaRPr b="0" lang="en-US" sz="6000" spc="-1" strike="noStrike">
              <a:solidFill>
                <a:srgbClr val="000000"/>
              </a:solidFill>
              <a:latin typeface="Arial"/>
            </a:endParaRPr>
          </a:p>
        </p:txBody>
      </p:sp>
      <p:sp>
        <p:nvSpPr>
          <p:cNvPr id="4" name="PlaceHolder 3"/>
          <p:cNvSpPr>
            <a:spLocks noGrp="1"/>
          </p:cNvSpPr>
          <p:nvPr>
            <p:ph type="sldNum" idx="3"/>
          </p:nvPr>
        </p:nvSpPr>
        <p:spPr/>
        <p:txBody>
          <a:bodyPr/>
          <a:p>
            <a:fld id="{701B854A-7549-4FB0-8A5A-E9B5396741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960" y="11700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ole of Evaluation in Problem-Solving</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60" name="" descr=""/>
          <p:cNvPicPr/>
          <p:nvPr/>
        </p:nvPicPr>
        <p:blipFill>
          <a:blip r:embed="rId1"/>
          <a:srcRect l="16405" t="22917" r="18749" b="19791"/>
          <a:stretch/>
        </p:blipFill>
        <p:spPr>
          <a:xfrm>
            <a:off x="304920" y="1093680"/>
            <a:ext cx="8610480" cy="5707080"/>
          </a:xfrm>
          <a:prstGeom prst="rect">
            <a:avLst/>
          </a:prstGeom>
          <a:ln w="0">
            <a:noFill/>
          </a:ln>
        </p:spPr>
      </p:pic>
      <p:sp>
        <p:nvSpPr>
          <p:cNvPr id="3" name="PlaceHolder 2"/>
          <p:cNvSpPr>
            <a:spLocks noGrp="1"/>
          </p:cNvSpPr>
          <p:nvPr>
            <p:ph type="sldNum" idx="3"/>
          </p:nvPr>
        </p:nvSpPr>
        <p:spPr/>
        <p:txBody>
          <a:bodyPr/>
          <a:p>
            <a:fld id="{04FE3F93-DA79-44C7-8C7E-83E7718A77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Evalu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990360" y="1981080"/>
            <a:ext cx="7467480" cy="4191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ss Evaluation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act Evalua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E99393-EC23-4D52-9379-2A49F0219F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etation of Process and Impact Evaluations</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64" name=""/>
          <p:cNvGraphicFramePr/>
          <p:nvPr/>
        </p:nvGraphicFramePr>
        <p:xfrm>
          <a:off x="0" y="1577880"/>
          <a:ext cx="9144000" cy="4570560"/>
        </p:xfrm>
        <a:graphic>
          <a:graphicData uri="http://schemas.openxmlformats.org/presentationml/2006/ole">
            <p:oleObj r:id="rId1" spid="">
              <p:embed/>
              <p:pic>
                <p:nvPicPr>
                  <p:cNvPr id="65" name="" descr=""/>
                  <p:cNvPicPr/>
                  <p:nvPr/>
                </p:nvPicPr>
                <p:blipFill>
                  <a:blip r:embed="rId2"/>
                  <a:stretch/>
                </p:blipFill>
                <p:spPr>
                  <a:xfrm>
                    <a:off x="0" y="1577880"/>
                    <a:ext cx="9144000" cy="4570560"/>
                  </a:xfrm>
                  <a:prstGeom prst="rect">
                    <a:avLst/>
                  </a:prstGeom>
                  <a:ln w="0">
                    <a:noFill/>
                  </a:ln>
                </p:spPr>
              </p:pic>
            </p:oleObj>
          </a:graphicData>
        </a:graphic>
      </p:graphicFrame>
      <p:sp>
        <p:nvSpPr>
          <p:cNvPr id="3" name="PlaceHolder 2"/>
          <p:cNvSpPr>
            <a:spLocks noGrp="1"/>
          </p:cNvSpPr>
          <p:nvPr>
            <p:ph type="sldNum" idx="3"/>
          </p:nvPr>
        </p:nvSpPr>
        <p:spPr/>
        <p:txBody>
          <a:bodyPr/>
          <a:p>
            <a:fld id="{F005368F-0876-4DD4-AD20-85B0D6F4D5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ducting Process Evaluations</a:t>
            </a:r>
            <a:endParaRPr b="0" lang="en-US" sz="4000" spc="-1" strike="noStrike">
              <a:solidFill>
                <a:srgbClr val="000000"/>
              </a:solidFill>
              <a:latin typeface="Arial"/>
            </a:endParaRPr>
          </a:p>
        </p:txBody>
      </p:sp>
      <p:sp>
        <p:nvSpPr>
          <p:cNvPr id="67"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 response implem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relevant par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focus grou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survey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F4AAE0-86CC-43DC-A3EE-AF58357294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9T17:01:41Z</dcterms:modified>
  <cp:revision>216</cp:revision>
  <dc:subject/>
  <dc:title>Slide 1</dc:title>
</cp:coreProperties>
</file>