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B2B85-9A06-45DC-BE7A-0E0EAE4F7D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ltimate aim of problem-oriented policing is to continually make the police better at accomplishing the above objectives– to better prevent crime, to better assist victims, to make communities feel safer, and so for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Scott, Michael (2000).  </a:t>
            </a:r>
            <a:r>
              <a:rPr b="0" i="1" lang="en-US" sz="1200" spc="-1" strike="noStrike">
                <a:solidFill>
                  <a:srgbClr val="000000"/>
                </a:solidFill>
                <a:latin typeface="Arial"/>
              </a:rPr>
              <a:t>Problem-Oriented Policing:  Reflections on the First 20 Years</a:t>
            </a:r>
            <a:r>
              <a:rPr b="0" lang="en-US" sz="1200" spc="-1" strike="noStrike">
                <a:solidFill>
                  <a:srgbClr val="000000"/>
                </a:solidFill>
                <a:latin typeface="Arial"/>
              </a:rPr>
              <a:t>.  Washington, DC.  U.S. Department of Justice, Office of Community Oriented Policing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opcenter.org/Library/RecommendedReadings/Reflections.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rvice Delivery</a:t>
            </a:r>
            <a:r>
              <a:rPr b="0" lang="en-US" sz="1200" spc="-1" strike="noStrike">
                <a:solidFill>
                  <a:srgbClr val="000000"/>
                </a:solidFill>
                <a:latin typeface="Arial"/>
              </a:rPr>
              <a:t> – “Agency of last resort” for people in trouble; Police are 1) always available; 2) have the authority to take charge and solve most problems; 3) are only a phone call away (and it’s usually free!).  Duties include helping stranded motorists, giving directions, locating missing children or pets, checking residents for missing owners, first aid,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w Enforcement</a:t>
            </a:r>
            <a:r>
              <a:rPr b="0" lang="en-US" sz="1200" spc="-1" strike="noStrike">
                <a:solidFill>
                  <a:srgbClr val="000000"/>
                </a:solidFill>
                <a:latin typeface="Arial"/>
              </a:rPr>
              <a:t> - Police are expressly authorized and required to enforce the laws; crime control through law enforcement action is the manifest or stated purpose of police in America; Police are hired, training, and deployed to prevent crime and to detect and apprehend those who break laws; law enforcement takes place when there is little doubt that a crime has occurred and the police follow a fairly routine procedure to identify and arrest the offen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der Maintenance</a:t>
            </a:r>
            <a:r>
              <a:rPr b="0" lang="en-US" sz="1200" spc="-1" strike="noStrike">
                <a:solidFill>
                  <a:srgbClr val="000000"/>
                </a:solidFill>
                <a:latin typeface="Arial"/>
              </a:rPr>
              <a:t> - Peacekeeping; ensuring that everyone behaves in an orderly fashion; establish the balance between freedom and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e establish order in two ways including 1) preventing disorder; and 2) restoring order when it has been disrupted.  Because it often involves prevention action, order maintenance is perhaps the most troublesome and challenging police function.  Some suggest it is the most important because it is essentially social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1" lang="en-US" sz="1200" spc="-1" strike="noStrike">
                <a:solidFill>
                  <a:srgbClr val="000000"/>
                </a:solidFill>
                <a:latin typeface="Arial"/>
              </a:rPr>
              <a:t>	</a:t>
            </a:r>
            <a:r>
              <a:rPr b="0" lang="en-US" sz="1200" spc="-1" strike="noStrike">
                <a:solidFill>
                  <a:srgbClr val="000000"/>
                </a:solidFill>
                <a:latin typeface="Arial"/>
              </a:rPr>
              <a:t>Langworthy, R. &amp; Travis, L. (1999).  </a:t>
            </a:r>
            <a:r>
              <a:rPr b="0" i="1" lang="en-US" sz="1200" spc="-1" strike="noStrike">
                <a:solidFill>
                  <a:srgbClr val="000000"/>
                </a:solidFill>
                <a:latin typeface="Arial"/>
              </a:rPr>
              <a:t>Policing in America: A Balance of Forces</a:t>
            </a:r>
            <a:r>
              <a:rPr b="0" lang="en-US" sz="1200" spc="-1" strike="noStrike">
                <a:solidFill>
                  <a:srgbClr val="000000"/>
                </a:solidFill>
                <a:latin typeface="Arial"/>
              </a:rPr>
              <a:t>.  Prentice Hall: Up Saddle River, New Jers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cture of policing has a tendency to evolve over time and as law enforcement needs arise and exp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formal policing</a:t>
            </a:r>
            <a:r>
              <a:rPr b="0" lang="en-US" sz="1200" spc="-1" strike="noStrike">
                <a:solidFill>
                  <a:srgbClr val="000000"/>
                </a:solidFill>
                <a:latin typeface="Arial"/>
              </a:rPr>
              <a:t> - every member of the group shares responsibility for law enforcement; typically voluntary and short-lived (posse-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itional policing</a:t>
            </a:r>
            <a:r>
              <a:rPr b="0" lang="en-US" sz="1200" spc="-1" strike="noStrike">
                <a:solidFill>
                  <a:srgbClr val="000000"/>
                </a:solidFill>
                <a:latin typeface="Arial"/>
              </a:rPr>
              <a:t> - policing function is assumed by (or assigned to) group members on a voluntary and/or part-time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mal policing</a:t>
            </a:r>
            <a:r>
              <a:rPr b="0" lang="en-US" sz="1200" spc="-1" strike="noStrike">
                <a:solidFill>
                  <a:srgbClr val="000000"/>
                </a:solidFill>
                <a:latin typeface="Arial"/>
              </a:rPr>
              <a:t> - specific members are charged with the formal responsibility for law enforcement duties; members are typically pa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  </a:t>
            </a:r>
            <a:r>
              <a:rPr b="0" lang="en-US" sz="1200" spc="-1" strike="noStrike">
                <a:solidFill>
                  <a:srgbClr val="000000"/>
                </a:solidFill>
                <a:latin typeface="Arial"/>
              </a:rPr>
              <a:t>Langworthy, R. &amp; Travis, L. (1999).  </a:t>
            </a:r>
            <a:r>
              <a:rPr b="0" i="1" lang="en-US" sz="1200" spc="-1" strike="noStrike">
                <a:solidFill>
                  <a:srgbClr val="000000"/>
                </a:solidFill>
                <a:latin typeface="Arial"/>
              </a:rPr>
              <a:t>Policing in America: A Balance of Forces</a:t>
            </a:r>
            <a:r>
              <a:rPr b="0" lang="en-US" sz="1200" spc="-1" strike="noStrike">
                <a:solidFill>
                  <a:srgbClr val="000000"/>
                </a:solidFill>
                <a:latin typeface="Arial"/>
              </a:rPr>
              <a:t>.  Prentice Hall: Up Saddle River, New Jersey.</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olitical Era</a:t>
            </a:r>
            <a:r>
              <a:rPr b="0" lang="en-US" sz="800" spc="-1" strike="noStrike">
                <a:solidFill>
                  <a:srgbClr val="000000"/>
                </a:solidFill>
                <a:latin typeface="Arial"/>
              </a:rPr>
              <a:t> – Police departments were always political entities;  officers were selected from their neighborhoods and appointed by elected officials.  Most of the important decisions were made at the street or precinct level.  Decentralization served to fragment police services within cities.  American policing reflected the general style of local government, which was expected to meet the needs of citizens.  Police should reflect the interests and values of citizens as a result of officer selection.  Provision of service was more important during this period than was crime control.  Police not only served to mediate ethnic and class conflicts, but also to enforce the law in a way that reflected community standards of morality at that ti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he Professional/Reform Era - </a:t>
            </a:r>
            <a:r>
              <a:rPr b="0" lang="en-US" sz="800" spc="-1" strike="noStrike">
                <a:solidFill>
                  <a:srgbClr val="000000"/>
                </a:solidFill>
                <a:latin typeface="Arial"/>
              </a:rPr>
              <a:t>Ultimate goal of police reformers – removal of politics and a move toward professionalism; Primary proponents of reform were the elites and those within the ranks of police administrator.  The elites wanted to break the power of the political machine and the administrators sought independence (freedom from political influence and corruption and freedom to enforce the law).  Redefinition of the police role from public service and order maintenance to law enforcement and crime control helped clarify the police role.  The nature of urban politics, being decentralized constituent service, meant that these business leaders had little control over city government func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mmunity Policing Era - </a:t>
            </a:r>
            <a:r>
              <a:rPr b="0" lang="en-US" sz="800" spc="-1" strike="noStrike">
                <a:solidFill>
                  <a:srgbClr val="000000"/>
                </a:solidFill>
                <a:latin typeface="Arial"/>
              </a:rPr>
              <a:t>Police officials, researchers, and leaders recognized the concerns and limitations of professional police.  Most everyone recognized the need for a closer link between police and communities.  Community relations programs and officers surfaced.  Team policing and store-front decentralization became important police practi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ditional police responses did not appear to reduce crime significantly.  Recognition that fear of crime was equally important to citizens and police could perhaps better serve the public by reducing fear, as opposed to focusing just on actual cri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ime control was still important but quality of life became more important.  Emphasis was on crime prevention, improvement of living conditions, maintaining order, and keeping neighborhoods saf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community/problem-solving policing era is evolving today and it seems to be a return to the policing style of the political era, with the difference being that police are as responsive to citizens as they are to politicia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 </a:t>
            </a:r>
            <a:r>
              <a:rPr b="0" lang="en-US" sz="800" spc="-1" strike="noStrike">
                <a:solidFill>
                  <a:srgbClr val="000000"/>
                </a:solidFill>
                <a:latin typeface="Arial"/>
              </a:rPr>
              <a:t>Langworthy, R. &amp; Travis, L. (1999).  </a:t>
            </a:r>
            <a:r>
              <a:rPr b="0" i="1" lang="en-US" sz="800" spc="-1" strike="noStrike">
                <a:solidFill>
                  <a:srgbClr val="000000"/>
                </a:solidFill>
                <a:latin typeface="Arial"/>
              </a:rPr>
              <a:t>Policing in America: A Balance of Forces</a:t>
            </a:r>
            <a:r>
              <a:rPr b="0" lang="en-US" sz="800" spc="-1" strike="noStrike">
                <a:solidFill>
                  <a:srgbClr val="000000"/>
                </a:solidFill>
                <a:latin typeface="Arial"/>
              </a:rPr>
              <a:t>.  Prentice Hall: Up Saddle River, New Jerse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galistic Style</a:t>
            </a:r>
            <a:r>
              <a:rPr b="0" lang="en-US" sz="1200" spc="-1" strike="noStrike">
                <a:solidFill>
                  <a:srgbClr val="000000"/>
                </a:solidFill>
                <a:latin typeface="Arial"/>
              </a:rPr>
              <a:t> – Police intervene frequently and formally with citizens; rely on formal laws to define what activities merit their attention and in what manner they can and should respond; </a:t>
            </a:r>
            <a:r>
              <a:rPr b="1" lang="en-US" sz="1200" spc="-1" strike="noStrike">
                <a:solidFill>
                  <a:srgbClr val="000000"/>
                </a:solidFill>
                <a:latin typeface="Arial"/>
              </a:rPr>
              <a:t>emphasizes the law enforcement function of police</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rvice Style</a:t>
            </a:r>
            <a:r>
              <a:rPr b="0" lang="en-US" sz="1200" spc="-1" strike="noStrike">
                <a:solidFill>
                  <a:srgbClr val="000000"/>
                </a:solidFill>
                <a:latin typeface="Arial"/>
              </a:rPr>
              <a:t> – Police intervene frequently but informally with citizens; many contacts occur but few citations are issued or arrests made; police treat every citizen complaint as requiring police response; often issue warnings and advice;  </a:t>
            </a:r>
            <a:r>
              <a:rPr b="1" lang="en-US" sz="1200" spc="-1" strike="noStrike">
                <a:solidFill>
                  <a:srgbClr val="000000"/>
                </a:solidFill>
                <a:latin typeface="Arial"/>
              </a:rPr>
              <a:t>emphasizes the service delivery function of police</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tchman Style</a:t>
            </a:r>
            <a:r>
              <a:rPr b="0" lang="en-US" sz="1200" spc="-1" strike="noStrike">
                <a:solidFill>
                  <a:srgbClr val="000000"/>
                </a:solidFill>
                <a:latin typeface="Arial"/>
              </a:rPr>
              <a:t> – Police do not intervene frequently with citizens; characterized by fewer officer-initiated contacts; officers exercise discretion in defining whether a situation merits police attention; officers will assess the importance of a situation to determine if police interaction is warranted;  </a:t>
            </a:r>
            <a:r>
              <a:rPr b="1" lang="en-US" sz="1200" spc="-1" strike="noStrike">
                <a:solidFill>
                  <a:srgbClr val="000000"/>
                </a:solidFill>
                <a:latin typeface="Arial"/>
              </a:rPr>
              <a:t>emphasizes the peacekeeping function of policing</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Langworthy, R. &amp; Travis, L. (1999).  </a:t>
            </a:r>
            <a:r>
              <a:rPr b="0" i="1" lang="en-US" sz="1200" spc="-1" strike="noStrike">
                <a:solidFill>
                  <a:srgbClr val="000000"/>
                </a:solidFill>
                <a:latin typeface="Arial"/>
              </a:rPr>
              <a:t>Policing in America: A Balance of Forces</a:t>
            </a:r>
            <a:r>
              <a:rPr b="0" lang="en-US" sz="1200" spc="-1" strike="noStrike">
                <a:solidFill>
                  <a:srgbClr val="000000"/>
                </a:solidFill>
                <a:latin typeface="Arial"/>
              </a:rPr>
              <a:t>.  Prentice Hall: Up Saddle River, New Jerse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 </a:t>
            </a:r>
            <a:r>
              <a:rPr b="0" lang="en-US" sz="1200" spc="-1" strike="noStrike">
                <a:solidFill>
                  <a:srgbClr val="000000"/>
                </a:solidFill>
                <a:latin typeface="Arial"/>
              </a:rPr>
              <a:t>This slide might be useful as a handou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s Routine Patrol Effecti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ansas City Experiment</a:t>
            </a:r>
            <a:r>
              <a:rPr b="0" lang="en-US" sz="1000" spc="-1" strike="noStrike">
                <a:solidFill>
                  <a:srgbClr val="000000"/>
                </a:solidFill>
                <a:latin typeface="Arial"/>
              </a:rPr>
              <a:t> – Around 1971 agencies started to question the value of routine patrol.  Kansas City (MO) designed an experiment to assess the effects of different levels of patrol on public attitudes, reported crime, victimization, traffic accidents, response time,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Conclusion</a:t>
            </a:r>
            <a:r>
              <a:rPr b="0" lang="en-US" sz="1000" spc="-1" strike="noStrike">
                <a:solidFill>
                  <a:srgbClr val="000000"/>
                </a:solidFill>
                <a:latin typeface="Arial"/>
              </a:rPr>
              <a:t> – </a:t>
            </a:r>
            <a:r>
              <a:rPr b="0" i="1" lang="en-US" sz="1000" spc="-1" strike="noStrike">
                <a:solidFill>
                  <a:srgbClr val="000000"/>
                </a:solidFill>
                <a:latin typeface="Arial"/>
              </a:rPr>
              <a:t>Overwhelming evidence is that decreasing or increasing routine preventive patrol within the range tested had </a:t>
            </a:r>
            <a:r>
              <a:rPr b="1" i="1" lang="en-US" sz="1000" spc="-1" strike="noStrike">
                <a:solidFill>
                  <a:srgbClr val="000000"/>
                </a:solidFill>
                <a:latin typeface="Arial"/>
              </a:rPr>
              <a:t>no</a:t>
            </a:r>
            <a:r>
              <a:rPr b="0" i="1" lang="en-US" sz="1000" spc="-1" strike="noStrike">
                <a:solidFill>
                  <a:srgbClr val="000000"/>
                </a:solidFill>
                <a:latin typeface="Arial"/>
              </a:rPr>
              <a:t> effect on </a:t>
            </a:r>
            <a:r>
              <a:rPr b="0" i="1" lang="en-US" sz="1000" spc="-1" strike="noStrike">
                <a:solidFill>
                  <a:srgbClr val="000000"/>
                </a:solidFill>
                <a:latin typeface="Arial"/>
              </a:rPr>
              <a:t>	</a:t>
            </a:r>
            <a:r>
              <a:rPr b="0" i="1" lang="en-US" sz="1000" spc="-1" strike="noStrike">
                <a:solidFill>
                  <a:srgbClr val="000000"/>
                </a:solidFill>
                <a:latin typeface="Arial"/>
              </a:rPr>
              <a:t>crime, citizen fear, community attitudes toward police, response time, accid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rgeted Patrol - </a:t>
            </a:r>
            <a:r>
              <a:rPr b="0" lang="en-US" sz="1000" spc="-1" strike="noStrike">
                <a:solidFill>
                  <a:srgbClr val="000000"/>
                </a:solidFill>
                <a:latin typeface="Arial"/>
              </a:rPr>
              <a:t>Jurisdictions changed the way officers conducted patrols by replacing random patrol with specific goal-oriented patrol.  LEAA funded 70 agencies to experiment with patrol.  They also included support for crime units that would analyze crime patterns and develop patrol strategies.  These used a model of data collection, data collation, data analysis, product development, and feedback (early SARA model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ot Patrol - </a:t>
            </a:r>
            <a:r>
              <a:rPr b="0" lang="en-US" sz="1000" spc="-1" strike="noStrike">
                <a:solidFill>
                  <a:srgbClr val="000000"/>
                </a:solidFill>
                <a:latin typeface="Arial"/>
              </a:rPr>
              <a:t>Discovery lag meant that rapid response was not likely to result in greater rates of arrest, so patrol officers did not all need cars.  Foot patrol became increasingly interesting to leaders to save money, bring police and community into direct contact, and attempt to reduce crime and fear.  Flint, MI study did find reductions in calls for service in foot patrol neighborhoods and citizens felt safer where police walked on foot.</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ken Windows Theory also started to help police think more about their role as problem solvers versus crime fight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s of Disorder indicators</a:t>
            </a:r>
            <a:r>
              <a:rPr b="0" lang="en-US" sz="1200" spc="-1" strike="noStrike">
                <a:solidFill>
                  <a:srgbClr val="000000"/>
                </a:solidFill>
                <a:latin typeface="Arial"/>
              </a:rPr>
              <a:t> - </a:t>
            </a:r>
            <a:r>
              <a:rPr b="0" lang="en-US" sz="1200" spc="-1" strike="noStrike">
                <a:solidFill>
                  <a:srgbClr val="000000"/>
                </a:solidFill>
                <a:latin typeface="Arial"/>
              </a:rPr>
              <a:t>graffiti, panhandling, uncollected trash, dilapidated buildings, abandoned cars, et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Kelling, G and J. Q. Wilson.  (1982) Broken Windows.  The Atlantic Monthly. Vol. 249 (3): 29-38.</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typical reactive type of policing is the police crackdown (also sometimes known as zero tolerance, aggressive polic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ckdowns have three basic elements, not all of which are always fully operating during any particular crackdown. They are heightened police presence, increased severity or certainty of sanctions, and publi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Scott, Michael (2003).  The Benefits and Consequences of Police Crackdowns.  Problem-Oriented Policing Guides.  Response Guides Series No. 1.  Washington, DC:  Office of Community Oriented Policing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opcenter.org/Responses/response-crackdowns.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ther specific actions officers might take as part of a crackdown include…</a:t>
            </a: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specting licenses (liquor, business, driver'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specting property for code violations, and enforcing them;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establishing mobile police command posts/booking stations/neighborhood office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conducting “knock and talk” operations (to gain information from citizens who are hesitant to contact the police directly, let the community know what the police hope to achieve, locate offenders, conduct voluntary searches of private premises, look for evidence in plain view, etc.);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arching vehicles and interviewing drivers at roadblocks or checkpoints; and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eking enhanced penalties (for example, by filing cases typically prosecuted under state laws under federal laws).</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Scott, Michael (2003).  The Benefits and Consequences of Police Crackdowns.  Problem-Oriented Policing Guides.  Response Guides Series No. 1.  Washington, DC:  Office of Community Oriented Policing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opcenter.org/Responses/response-crackdowns.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ckdowns appear to be most effective when used with other responses that address the underlying conditions that contribute to the particular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quence in which police implement the various responses can sometimes be important.  Often, crackdowns help reduce problems to more manageable levels, which gives longer-term responses a better chance to take roo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Scott, Michael (2003).  The Benefits and Consequences of Police Crackdowns.  Problem-Oriented Policing Guides.  Response Guides Series No. 1.  Washington, DC:  Office of Community Oriented Policing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opcenter.org/Responses/response-crackdowns.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Scott, Michael (2003).  The Benefits and Consequences of Police Crackdowns.  Problem-Oriented Policing Guides.  Response Guides Series No. 1.  Washington, DC:  Office of Community Oriented Policing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opcenter.org/Responses/response-crackdowns.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Scott, Michael (2003).  The Benefits and Consequences of Police Crackdowns.  Problem-Oriented Policing Guides.  Response Guides Series No. 1.  Washington, DC:  Office of Community Oriented Policing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opcenter.org/Responses/response-crackdowns.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hort-term impact. </a:t>
            </a:r>
            <a:r>
              <a:rPr b="0" lang="en-US" sz="800" spc="-1" strike="noStrike">
                <a:solidFill>
                  <a:srgbClr val="000000"/>
                </a:solidFill>
                <a:latin typeface="Arial"/>
              </a:rPr>
              <a:t>Most crackdown studies have found that any positive impact they have in reducing crime and disorder tends to disappear (or decay) rather quickly, and occasionally even before the crackdown ends. The effect can wear off for various reasons, including the tendency for police implementation to become less rigorous over time and for offenders to adapt to the crackdown. Whatever short-term reductions in crime and disorder they might provide, crackdowns do not address any of the physical or social conditions that often contribute to crime and disorder, either in general or at particular locations. Broader situational crime prevention and problem-solving approaches are better suited to address these underlying conditions. This tendency for short-term impact does not necessarily make crackdowns inadvisable: for some problems and some areas, even short-term relief can justify the effort, particularly if that relief creates new opportunities to implement longer-term respons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otential for abuse of authority. </a:t>
            </a:r>
            <a:r>
              <a:rPr b="0" lang="en-US" sz="800" spc="-1" strike="noStrike">
                <a:solidFill>
                  <a:srgbClr val="000000"/>
                </a:solidFill>
                <a:latin typeface="Arial"/>
              </a:rPr>
              <a:t>Without proper planning and supervision, crackdowns hold the potential for abuse of police authority. If officers are excessively pressured to make arrests and seize contraband, some might be tempted to take shortcuts that can compromise due process. Overzealous and poorly managed crackdowns can violate citizens' rights. Where officers receive overtime pay for crackdowns, they risk being accused—however fairly or unfairly—of conducting them primarily to earn that pay. When officers conduct a crackdown in a target area they are not normally assigned to, there is a heightened risk that they will not be able to distinguish the truly suspicious from the ordinary as effectively as locally assigned offic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n be expensive. </a:t>
            </a:r>
            <a:r>
              <a:rPr b="0" lang="en-US" sz="800" spc="-1" strike="noStrike">
                <a:solidFill>
                  <a:srgbClr val="000000"/>
                </a:solidFill>
                <a:latin typeface="Arial"/>
              </a:rPr>
              <a:t>Crackdowns are usually expensive. Many crackdowns require overtime funds to provide the necessary staffing. In addition to officer wages, crackdowns generate higher costs for booking prisoners, processing arrest files, and processing cases through the legal system, and may incur new equipment and training costs. Substantial increases in police presence in an area are usually hard to sustain for long periods due to the costs. Whether or not crackdown-related expenses are justified depends on how sure you are that the crackdown prevented crime and disorder. A cost-effectiveness analysis is recommen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mpact on the rest of the criminal justice system. </a:t>
            </a:r>
            <a:r>
              <a:rPr b="0" lang="en-US" sz="800" spc="-1" strike="noStrike">
                <a:solidFill>
                  <a:srgbClr val="000000"/>
                </a:solidFill>
                <a:latin typeface="Arial"/>
              </a:rPr>
              <a:t>In addition to the financial costs crackdowns create for prosecutors, courts, and jails, they create pressure on those operations to adapt to the new workload by forcing other cases and prisoners out of the system.</a:t>
            </a:r>
            <a:r>
              <a:rPr b="1" lang="en-US" sz="800" spc="-1" strike="noStrike">
                <a:solidFill>
                  <a:srgbClr val="000000"/>
                </a:solidFill>
                <a:latin typeface="Arial"/>
              </a:rPr>
              <a:t>32</a:t>
            </a:r>
            <a:r>
              <a:rPr b="0" lang="en-US" sz="800" spc="-1" strike="noStrike">
                <a:solidFill>
                  <a:srgbClr val="000000"/>
                </a:solidFill>
                <a:latin typeface="Arial"/>
              </a:rPr>
              <a:t> Often, that means that offenders are offered lenient sentences in exchange for guilty pleas, which undercuts, to some extent, the crackdown's intended benefits. Or worse, prosecutors may choose not to prosecute the cases at all. At a minimum, police should coordinate crackdowns with other agencies the increased workload will affec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imits use of resources in other areas of policing. </a:t>
            </a:r>
            <a:r>
              <a:rPr b="0" lang="en-US" sz="800" spc="-1" strike="noStrike">
                <a:solidFill>
                  <a:srgbClr val="000000"/>
                </a:solidFill>
                <a:latin typeface="Arial"/>
              </a:rPr>
              <a:t>Obviously, for police to devote a larger share of resources to one particular area or problem, they must divert resources from other areas and problems. Thus, there is not only the cost of conducting the crackdown, but there is also the cost of not doing something else with the resources. You should not spread resources too widely just to avoid this criticism, lest you undermine the crackdown's potential to have a significant impac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isplacement. </a:t>
            </a:r>
            <a:r>
              <a:rPr b="0" lang="en-US" sz="800" spc="-1" strike="noStrike">
                <a:solidFill>
                  <a:srgbClr val="000000"/>
                </a:solidFill>
                <a:latin typeface="Arial"/>
              </a:rPr>
              <a:t>While crackdowns do not inevitably lead to displacement of crime and disorder, it does occur in some cases. The same rationality that police count on to deter some offenders causes others to adapt to police tactics and continue offending at the same rate. Depending on the extent and direction of displacement, police risk criticism for creating problems in areas previously unaffected. Once again, the potential for criticism does not necessarily make crackdowns inadvisable; sometimes, displacing a problem from an area that has suffered disproportionately, to other areas that haven't, can be justified as a more equitable distribution of suffering. Displacement, where and when it does occur, seldom occurs at 100 percent. That is, the problem usually decreases in some way, even as it shifts. The key is to be aware of the various possibilities for displacement, develop intelligence systems that inform you how the problem is shifting, and counteract it if possib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br>
              <a:rPr sz="800"/>
            </a:br>
            <a:r>
              <a:rPr b="1" lang="en-US" sz="800" spc="-1" strike="noStrike">
                <a:solidFill>
                  <a:srgbClr val="000000"/>
                </a:solidFill>
                <a:latin typeface="Arial"/>
              </a:rPr>
              <a:t>Impact on police/community relations. </a:t>
            </a:r>
            <a:r>
              <a:rPr b="0" lang="en-US" sz="800" spc="-1" strike="noStrike">
                <a:solidFill>
                  <a:srgbClr val="000000"/>
                </a:solidFill>
                <a:latin typeface="Arial"/>
              </a:rPr>
              <a:t>Combat uniforms and military-style gear and weaponry, designed to better protect officers as well as convey an image of seriousness, can also heighten fear among casual observers.  Improperly conducted, crackdowns can worsen police-community relations and thereby undermine police legitimacy. Indeed, many of the urban riots in U.S. cities in the 1960s were at least partly due to widespread crackdowns in minority neighborhoods. Particularly when crackdowns are aimed at street activity, they can be criticized for their disparate impact on the poor, who typically spend more time on the street than do the affluent. Moreover, when police use highly aggressive tactics in crackdowns—such as using military strategies, weapons, and attire for relatively routine enforcement and patrol activities—they risk heightening fear among offenders </a:t>
            </a:r>
            <a:r>
              <a:rPr b="0" i="1" lang="en-US" sz="800" spc="-1" strike="noStrike">
                <a:solidFill>
                  <a:srgbClr val="000000"/>
                </a:solidFill>
                <a:latin typeface="Arial"/>
              </a:rPr>
              <a:t>and </a:t>
            </a:r>
            <a:r>
              <a:rPr b="0" lang="en-US" sz="800" spc="-1" strike="noStrike">
                <a:solidFill>
                  <a:srgbClr val="000000"/>
                </a:solidFill>
                <a:latin typeface="Arial"/>
              </a:rPr>
              <a:t>casual observ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id police scholar Herman Goldstein: It's one thing to realize a quick dramatic decrease in some types of offenses, but if that's at the cost of creating great antagonism toward the police on the part of youth and future generations, then police departments are going to have to deal with the consequences of that hostil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ut loss of public support is not inevitable. Several studies have shown that when police explain the purpose and scope of crackdowns to the public ahead of time, as well as to the people they stop during crackdowns, they can gain public support, support that continues while the crackdown is in effec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 </a:t>
            </a:r>
            <a:r>
              <a:rPr b="0" lang="en-US" sz="800" spc="-1" strike="noStrike">
                <a:solidFill>
                  <a:srgbClr val="000000"/>
                </a:solidFill>
                <a:latin typeface="Arial"/>
              </a:rPr>
              <a:t>Scott, Michael (2003).  The Benefits and Consequences of Police Crackdowns.  Problem-Oriented Policing Guides.  Response Guides Series No. 1.  Washington, DC:  Office of Community Oriented Policing Servi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www.popcenter.org/Responses/response-crackdowns.ht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example of a widely used programs still implemented – routine patro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a:t>
            </a:r>
            <a:r>
              <a:rPr b="0" lang="en-US" sz="1200" spc="-1" strike="noStrike">
                <a:solidFill>
                  <a:srgbClr val="000000"/>
                </a:solidFill>
                <a:latin typeface="Arial"/>
              </a:rPr>
              <a:t> – This curriculum is designed for undergraduate education, but with some modifications it can be used for graduate-level education, pre-service police training, in-service police training, and community-based training.  However, we recommend that students (and others) take an Introduction to Policing course (or equivalent) as a prerequisite prior to enrolling in this cours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Scott, Michael (2000).  </a:t>
            </a:r>
            <a:r>
              <a:rPr b="0" i="1" lang="en-US" sz="1200" spc="-1" strike="noStrike">
                <a:solidFill>
                  <a:srgbClr val="000000"/>
                </a:solidFill>
                <a:latin typeface="Arial"/>
              </a:rPr>
              <a:t>Problem-Oriented Policing:  Reflections on the First 20 Years</a:t>
            </a:r>
            <a:r>
              <a:rPr b="0" lang="en-US" sz="1200" spc="-1" strike="noStrike">
                <a:solidFill>
                  <a:srgbClr val="000000"/>
                </a:solidFill>
                <a:latin typeface="Arial"/>
              </a:rPr>
              <a:t>.  Washington, DC.  U.S. Department of Justice, Office of Community Oriented Policing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opcenter.org/Library/RecommendedReadings/Reflections.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791A1C-1E06-4B38-8628-F70835B1F0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E066B6-A345-4EA2-968F-A599B49A9F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27B4D5-A20C-434A-9366-32315AA40C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3926DC-ED7B-40B6-84DE-E3E2AA979D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B7B224-7F95-493C-BD8C-95B2A662C3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EC6A56-F0F1-4576-A3E5-8BF7BDEB4F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06D3C9-6C04-46D6-961E-EDFBC5879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8F90E9-49D2-4B62-B0A9-A0B96A565C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913571-5013-408F-98B9-4BF02EE724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828CD-9101-4AB0-98AB-E1F01B062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C06BC-BF19-403F-B521-F6C3C3BB0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81CF7-B115-48EE-BE49-BA1D3B4064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496E9-C86F-4791-88A2-369AFA116C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52280" y="1905120"/>
            <a:ext cx="8839440" cy="1965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ODEL ACADEMIC CURRICULUM</a:t>
            </a:r>
            <a:br>
              <a:rPr sz="4000"/>
            </a:br>
            <a:br>
              <a:rPr sz="4000"/>
            </a:br>
            <a:r>
              <a:rPr b="1" lang="en-US" sz="4000" spc="-1" strike="noStrike">
                <a:solidFill>
                  <a:srgbClr val="000000"/>
                </a:solidFill>
                <a:latin typeface="Arial"/>
              </a:rPr>
              <a:t>COURSE OVERVIEW</a:t>
            </a:r>
            <a:endParaRPr b="0" lang="en-US" sz="4000" spc="-1" strike="noStrike">
              <a:solidFill>
                <a:srgbClr val="000000"/>
              </a:solidFill>
              <a:latin typeface="Arial"/>
            </a:endParaRPr>
          </a:p>
        </p:txBody>
      </p:sp>
      <p:sp>
        <p:nvSpPr>
          <p:cNvPr id="49" name=""/>
          <p:cNvSpPr/>
          <p:nvPr/>
        </p:nvSpPr>
        <p:spPr>
          <a:xfrm>
            <a:off x="1295280" y="4191120"/>
            <a:ext cx="64008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 descr=""/>
          <p:cNvPicPr/>
          <p:nvPr/>
        </p:nvPicPr>
        <p:blipFill>
          <a:blip r:embed="rId1"/>
          <a:stretch/>
        </p:blipFill>
        <p:spPr>
          <a:xfrm>
            <a:off x="1752480" y="838080"/>
            <a:ext cx="5486400" cy="1000080"/>
          </a:xfrm>
          <a:prstGeom prst="rect">
            <a:avLst/>
          </a:prstGeom>
          <a:ln w="0">
            <a:noFill/>
          </a:ln>
        </p:spPr>
      </p:pic>
      <p:sp>
        <p:nvSpPr>
          <p:cNvPr id="51" name=""/>
          <p:cNvSpPr/>
          <p:nvPr/>
        </p:nvSpPr>
        <p:spPr>
          <a:xfrm>
            <a:off x="685800" y="5257800"/>
            <a:ext cx="800100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ject was supported by cooperative agreement #2005CKWXK001 by the Office of Community Oriented Policing Services, U.S. Department of Justice.  The opinions contained herein are those of the authors and do not necessarily represent the official position of the U.S. Department of Justice.  References to specific companies, products, or services should not be considered an endorsement of the product by the author or the U.S. Department of Justice.  Rather, the references are illustrations to supplement discussion of the issues.</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01CAB403-6B0D-459D-921A-50129227BE8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undamental Objectives</a:t>
            </a:r>
            <a:br>
              <a:rPr sz="4000"/>
            </a:br>
            <a:r>
              <a:rPr b="1" lang="en-US" sz="4000" spc="-1" strike="noStrike">
                <a:solidFill>
                  <a:srgbClr val="000000"/>
                </a:solidFill>
                <a:latin typeface="Arial"/>
              </a:rPr>
              <a:t> of Policing</a:t>
            </a:r>
            <a:endParaRPr b="0" lang="en-US" sz="40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assist those who cannot care for themselves (e.g., intoxicated, mentally ill, elderly, young)</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resolve conflict between individuals, groups or between citizens and the government</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dentify problems that have the potential to become more serious</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create and maintain feelings of security in the community</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804BB6D-8F47-4EB2-B098-53D358225C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imary Police Functions</a:t>
            </a:r>
            <a:endParaRPr b="0" lang="en-US" sz="4400" spc="-1" strike="noStrike">
              <a:solidFill>
                <a:srgbClr val="000000"/>
              </a:solidFill>
              <a:latin typeface="Arial"/>
            </a:endParaRPr>
          </a:p>
        </p:txBody>
      </p:sp>
      <p:sp>
        <p:nvSpPr>
          <p:cNvPr id="72"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ice Deliver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w Enforce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der Maintenanc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523799F-8C5B-4A8C-8371-72A13373C8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3" name=""/>
          <p:cNvGraphicFramePr/>
          <p:nvPr/>
        </p:nvGraphicFramePr>
        <p:xfrm>
          <a:off x="0" y="0"/>
          <a:ext cx="9144000" cy="6858000"/>
        </p:xfrm>
        <a:graphic>
          <a:graphicData uri="http://schemas.openxmlformats.org/presentationml/2006/ole">
            <p:oleObj r:id="rId1" spid="">
              <p:embed/>
              <p:pic>
                <p:nvPicPr>
                  <p:cNvPr id="74" name="" descr=""/>
                  <p:cNvPicPr/>
                  <p:nvPr/>
                </p:nvPicPr>
                <p:blipFill>
                  <a:blip r:embed="rId2"/>
                  <a:stretch/>
                </p:blipFill>
                <p:spPr>
                  <a:xfrm>
                    <a:off x="0" y="0"/>
                    <a:ext cx="9144000" cy="6858000"/>
                  </a:xfrm>
                  <a:prstGeom prst="rect">
                    <a:avLst/>
                  </a:prstGeom>
                  <a:ln w="0">
                    <a:noFill/>
                  </a:ln>
                </p:spPr>
              </p:pic>
            </p:oleObj>
          </a:graphicData>
        </a:graphic>
      </p:graphicFrame>
      <p:sp>
        <p:nvSpPr>
          <p:cNvPr id="75" name=""/>
          <p:cNvSpPr/>
          <p:nvPr/>
        </p:nvSpPr>
        <p:spPr>
          <a:xfrm>
            <a:off x="1371600" y="685800"/>
            <a:ext cx="6553080" cy="685800"/>
          </a:xfrm>
          <a:prstGeom prst="rect">
            <a:avLst/>
          </a:prstGeom>
          <a:solidFill>
            <a:srgbClr val="74868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Evolution of Policing</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0E1BCDB1-30C5-4DFE-8CAE-91CDD63BFF0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2743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velopmental Stages of Policing</a:t>
            </a:r>
            <a:endParaRPr b="0" lang="en-US" sz="4000" spc="-1" strike="noStrike">
              <a:solidFill>
                <a:srgbClr val="000000"/>
              </a:solidFill>
              <a:latin typeface="Arial"/>
            </a:endParaRPr>
          </a:p>
        </p:txBody>
      </p:sp>
      <p:sp>
        <p:nvSpPr>
          <p:cNvPr id="77"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l Polic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itional Polic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l Polic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541178D-E4A9-4F18-B16C-F235D60E1CC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228240"/>
            <a:ext cx="86868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Historical Eras of </a:t>
            </a:r>
            <a:br>
              <a:rPr sz="4000"/>
            </a:br>
            <a:r>
              <a:rPr b="1" lang="en-US" sz="4000" spc="-1" strike="noStrike">
                <a:solidFill>
                  <a:srgbClr val="000000"/>
                </a:solidFill>
                <a:latin typeface="Arial"/>
              </a:rPr>
              <a:t>Policing in America</a:t>
            </a:r>
            <a:endParaRPr b="0" lang="en-US" sz="4000" spc="-1" strike="noStrike">
              <a:solidFill>
                <a:srgbClr val="000000"/>
              </a:solidFill>
              <a:latin typeface="Arial"/>
            </a:endParaRPr>
          </a:p>
        </p:txBody>
      </p:sp>
      <p:sp>
        <p:nvSpPr>
          <p:cNvPr id="79" name="PlaceHolder 2"/>
          <p:cNvSpPr>
            <a:spLocks noGrp="1"/>
          </p:cNvSpPr>
          <p:nvPr>
            <p:ph/>
          </p:nvPr>
        </p:nvSpPr>
        <p:spPr>
          <a:xfrm>
            <a:off x="457200" y="1676520"/>
            <a:ext cx="822960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itical Er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essional/Reform Er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ty Policing Er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we now in a Problem-Solving Era??</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CBFB042-A26A-41BB-AB21-AC962F0B86E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tyles of Policing</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galistic Style</a:t>
            </a:r>
            <a:r>
              <a:rPr b="0" lang="en-US" sz="3200" spc="-1" strike="noStrike">
                <a:solidFill>
                  <a:srgbClr val="000000"/>
                </a:solidFill>
                <a:latin typeface="Arial"/>
              </a:rPr>
              <a:t> – emphasis on law enforcement function of polic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rvice Style</a:t>
            </a:r>
            <a:r>
              <a:rPr b="0" lang="en-US" sz="3200" spc="-1" strike="noStrike">
                <a:solidFill>
                  <a:srgbClr val="000000"/>
                </a:solidFill>
                <a:latin typeface="Arial"/>
              </a:rPr>
              <a:t> – emphasis on delivering service to the communit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man Style</a:t>
            </a:r>
            <a:r>
              <a:rPr b="0" lang="en-US" sz="3200" spc="-1" strike="noStrike">
                <a:solidFill>
                  <a:srgbClr val="000000"/>
                </a:solidFill>
                <a:latin typeface="Arial"/>
              </a:rPr>
              <a:t> – emphasis on maintaining order in the community</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D42172E-5470-4270-80B0-3635D6FE159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8240" y="380880"/>
            <a:ext cx="8915400" cy="1308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active Policing vs. Proactive Policing</a:t>
            </a:r>
            <a:endParaRPr b="0" lang="en-US" sz="3600" spc="-1" strike="noStrike">
              <a:solidFill>
                <a:srgbClr val="000000"/>
              </a:solidFill>
              <a:latin typeface="Arial"/>
            </a:endParaRPr>
          </a:p>
        </p:txBody>
      </p:sp>
      <p:sp>
        <p:nvSpPr>
          <p:cNvPr id="8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ce respond to citizen calls for assistan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rol is routine and unstructu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11 calls drive police activ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atch section dictates police activ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solving crim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3"/>
          <p:cNvSpPr>
            <a:spLocks noGrp="1"/>
          </p:cNvSpPr>
          <p:nvPr>
            <p:ph/>
          </p:nvPr>
        </p:nvSpPr>
        <p:spPr>
          <a:xfrm>
            <a:off x="4952520" y="1523880"/>
            <a:ext cx="403884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ce seek crime solutions before the crimes occu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rol is targe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me patterns drive police activ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rds Management/Research dictates police activ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preventing crim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3"/>
          </p:nvPr>
        </p:nvSpPr>
        <p:spPr/>
        <p:txBody>
          <a:bodyPr/>
          <a:p>
            <a:fld id="{C5329A25-E9DB-46F5-962B-2238690FF73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Various Types of Police Patrol</a:t>
            </a:r>
            <a:endParaRPr b="0" lang="en-US" sz="4000" spc="-1" strike="noStrike">
              <a:solidFill>
                <a:srgbClr val="000000"/>
              </a:solidFill>
              <a:latin typeface="Arial"/>
            </a:endParaRPr>
          </a:p>
        </p:txBody>
      </p:sp>
      <p:sp>
        <p:nvSpPr>
          <p:cNvPr id="86"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e Patrol</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rgeted Patrol</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ed Patrol</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ender-focused Patrol</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focused Patrol</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ctim-focused Patrol</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ot Patrol</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s – Horse, bike, air, boat, snowmobile, etc.</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03B89B2-6D9C-4B29-9681-EDA9A6CB759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roken Windows Theory</a:t>
            </a:r>
            <a:br>
              <a:rPr sz="4400"/>
            </a:br>
            <a:r>
              <a:rPr b="0" lang="en-US" sz="2800" spc="-1" strike="noStrike">
                <a:solidFill>
                  <a:srgbClr val="000000"/>
                </a:solidFill>
                <a:latin typeface="Arial"/>
              </a:rPr>
              <a:t>James Wilson and George Kelling</a:t>
            </a:r>
            <a:endParaRPr b="0" lang="en-US" sz="2800" spc="-1" strike="noStrike">
              <a:solidFill>
                <a:srgbClr val="000000"/>
              </a:solidFill>
              <a:latin typeface="Arial"/>
            </a:endParaRPr>
          </a:p>
        </p:txBody>
      </p:sp>
      <p:sp>
        <p:nvSpPr>
          <p:cNvPr id="88" name="PlaceHolder 2"/>
          <p:cNvSpPr>
            <a:spLocks noGrp="1"/>
          </p:cNvSpPr>
          <p:nvPr>
            <p:ph/>
          </p:nvPr>
        </p:nvSpPr>
        <p:spPr>
          <a:xfrm>
            <a:off x="304560" y="1752120"/>
            <a:ext cx="8458200" cy="49532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leave a broken window unfixed, it’s an indicator of a lack of social concern and will lead to more significant social and neighborhood deca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ying attention to the details of a neighborhood or community can impact crime and fear of crim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est way to fight more serious crime is to fight the disorder that precedes i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2BFA7EC-9D42-4A07-B870-633D42A3A75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274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ne Traditional Police Response</a:t>
            </a:r>
            <a:br>
              <a:rPr sz="4000"/>
            </a:br>
            <a:r>
              <a:rPr b="1" lang="en-US" sz="4000" spc="-1" strike="noStrike">
                <a:solidFill>
                  <a:srgbClr val="000000"/>
                </a:solidFill>
                <a:latin typeface="Arial"/>
              </a:rPr>
              <a:t>Crackdowns</a:t>
            </a:r>
            <a:endParaRPr b="0" lang="en-US" sz="4000" spc="-1" strike="noStrike">
              <a:solidFill>
                <a:srgbClr val="000000"/>
              </a:solidFill>
              <a:latin typeface="Arial"/>
            </a:endParaRPr>
          </a:p>
        </p:txBody>
      </p:sp>
      <p:sp>
        <p:nvSpPr>
          <p:cNvPr id="90" name="PlaceHolder 2"/>
          <p:cNvSpPr>
            <a:spLocks noGrp="1"/>
          </p:cNvSpPr>
          <p:nvPr>
            <p:ph/>
          </p:nvPr>
        </p:nvSpPr>
        <p:spPr>
          <a:xfrm>
            <a:off x="304920" y="1828440"/>
            <a:ext cx="853416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Sudden and dramatic increases in police officer presence, sanctions, and threats of apprehension either for specific offenses or for all offenses in specific plac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ackdowns usually, but not necessarily, involve high police visibility and numerous arrest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ackdowns may use undercover officers working with uniformed police; may involve actions other than arrest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terms commonly used for crackdowns – Zero Tolerance; Sweeps; Aggressive Policing</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984DA22-034C-4326-BC36-4BF9FC1FA4D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BLEM-ORIENTED POLICING AND PROBLEM-SOLVING</a:t>
            </a:r>
            <a:endParaRPr b="0" lang="en-US" sz="4000" spc="-1" strike="noStrike">
              <a:solidFill>
                <a:srgbClr val="000000"/>
              </a:solidFill>
              <a:latin typeface="Arial"/>
            </a:endParaRPr>
          </a:p>
        </p:txBody>
      </p:sp>
      <p:sp>
        <p:nvSpPr>
          <p:cNvPr id="53" name="PlaceHolder 2"/>
          <p:cNvSpPr>
            <a:spLocks noGrp="1"/>
          </p:cNvSpPr>
          <p:nvPr>
            <p:ph/>
          </p:nvPr>
        </p:nvSpPr>
        <p:spPr>
          <a:xfrm>
            <a:off x="152280" y="1600200"/>
            <a:ext cx="8763120" cy="4983120"/>
          </a:xfrm>
          <a:prstGeom prst="rect">
            <a:avLst/>
          </a:prstGeom>
          <a:noFill/>
          <a:ln w="0">
            <a:noFill/>
          </a:ln>
        </p:spPr>
        <p:txBody>
          <a:bodyPr lIns="90000" rIns="90000" tIns="46800" bIns="46800" anchor="t">
            <a:normAutofit fontScale="99000"/>
          </a:bodyPr>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ule 1</a:t>
            </a:r>
            <a:r>
              <a:rPr b="0" lang="en-US" sz="2400" spc="-1" strike="noStrike">
                <a:solidFill>
                  <a:srgbClr val="000000"/>
                </a:solidFill>
                <a:latin typeface="Arial"/>
              </a:rPr>
              <a:t> </a:t>
            </a:r>
            <a:r>
              <a:rPr b="1" lang="en-US" sz="2400" spc="-1" strike="noStrike">
                <a:solidFill>
                  <a:srgbClr val="000000"/>
                </a:solidFill>
                <a:latin typeface="Arial"/>
              </a:rPr>
              <a:t>– The Evolution of Policing</a:t>
            </a:r>
            <a:endParaRPr b="0" lang="en-US" sz="2400" spc="-1" strike="noStrike">
              <a:solidFill>
                <a:srgbClr val="000000"/>
              </a:solidFill>
              <a:latin typeface="Arial"/>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ule 2 – Community Policing</a:t>
            </a:r>
            <a:endParaRPr b="0" lang="en-US" sz="2400" spc="-1" strike="noStrike">
              <a:solidFill>
                <a:srgbClr val="000000"/>
              </a:solidFill>
              <a:latin typeface="Arial"/>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ule 3 – Introduction to Problem Oriented Policing</a:t>
            </a:r>
            <a:endParaRPr b="0" lang="en-US" sz="2400" spc="-1" strike="noStrike">
              <a:solidFill>
                <a:srgbClr val="000000"/>
              </a:solidFill>
              <a:latin typeface="Arial"/>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ule 4 – The SARA Model</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E8FB63A-4310-4646-B325-588EB6D7CB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27432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pecific actions officers might take as part of a crackdown include…</a:t>
            </a:r>
            <a:endParaRPr b="0" lang="en-US" sz="4000" spc="-1" strike="noStrike">
              <a:solidFill>
                <a:srgbClr val="000000"/>
              </a:solidFill>
              <a:latin typeface="Arial"/>
            </a:endParaRPr>
          </a:p>
        </p:txBody>
      </p:sp>
      <p:sp>
        <p:nvSpPr>
          <p:cNvPr id="92"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resting offender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suing citation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ucting field interview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suing written or verbal warning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ing juvenile offenders into custody for status offenses (for example, for truancy or curfew violation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ucting highly visible patrol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ucting traffic stop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ng search warrant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ng arrest warra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B5A6B00-1D67-41AB-8713-A5B9DB0CF1D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enefits of Crackdowns</a:t>
            </a:r>
            <a:endParaRPr b="0" lang="en-US" sz="4400" spc="-1" strike="noStrike">
              <a:solidFill>
                <a:srgbClr val="000000"/>
              </a:solidFill>
              <a:latin typeface="Arial"/>
            </a:endParaRPr>
          </a:p>
        </p:txBody>
      </p:sp>
      <p:sp>
        <p:nvSpPr>
          <p:cNvPr id="94" name="PlaceHolder 2"/>
          <p:cNvSpPr>
            <a:spLocks noGrp="1"/>
          </p:cNvSpPr>
          <p:nvPr>
            <p:ph/>
          </p:nvPr>
        </p:nvSpPr>
        <p:spPr>
          <a:xfrm>
            <a:off x="228600" y="1447560"/>
            <a:ext cx="8763120" cy="51814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ackdowns hold substantial appeal for the public, police, and government official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offer the promise of firm, immediate action and quick, decisive result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ackdowns appeal to demands that order be restored.</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FF66097-B340-4715-972D-87148392DBE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enefits of Crackdowns</a:t>
            </a:r>
            <a:endParaRPr b="0" lang="en-US" sz="4400" spc="-1" strike="noStrike">
              <a:solidFill>
                <a:srgbClr val="000000"/>
              </a:solidFill>
              <a:latin typeface="Arial"/>
            </a:endParaRPr>
          </a:p>
        </p:txBody>
      </p:sp>
      <p:sp>
        <p:nvSpPr>
          <p:cNvPr id="96" name="PlaceHolder 2"/>
          <p:cNvSpPr>
            <a:spLocks noGrp="1"/>
          </p:cNvSpPr>
          <p:nvPr>
            <p:ph/>
          </p:nvPr>
        </p:nvSpPr>
        <p:spPr>
          <a:xfrm>
            <a:off x="457200" y="1371240"/>
            <a:ext cx="822960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ackdowns can be effective—at least in the short term—at reducing crime and disorde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ositive effects of crackdowns sometimes continue after the crackdowns end (sometimes referred to as </a:t>
            </a:r>
            <a:r>
              <a:rPr b="0" i="1" lang="en-US" sz="2800" spc="-1" strike="noStrike">
                <a:solidFill>
                  <a:srgbClr val="000000"/>
                </a:solidFill>
                <a:latin typeface="Arial"/>
              </a:rPr>
              <a:t>residual deterrence effect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ackdowns can reduce crime and disorder outside the target area or reduce other offenses, a phenomenon known as a </a:t>
            </a:r>
            <a:r>
              <a:rPr b="0" i="1" lang="en-US" sz="2800" spc="-1" strike="noStrike">
                <a:solidFill>
                  <a:srgbClr val="000000"/>
                </a:solidFill>
                <a:latin typeface="Arial"/>
              </a:rPr>
              <a:t>diffusion of benefit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6D01017-85DB-47D6-BF87-2A95DB13B81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rackdowns</a:t>
            </a:r>
            <a:endParaRPr b="0" lang="en-US" sz="4400" spc="-1" strike="noStrike">
              <a:solidFill>
                <a:srgbClr val="000000"/>
              </a:solidFill>
              <a:latin typeface="Arial"/>
            </a:endParaRPr>
          </a:p>
        </p:txBody>
      </p:sp>
      <p:sp>
        <p:nvSpPr>
          <p:cNvPr id="98" name="PlaceHolder 2"/>
          <p:cNvSpPr>
            <a:spLocks noGrp="1"/>
          </p:cNvSpPr>
          <p:nvPr>
            <p:ph/>
          </p:nvPr>
        </p:nvSpPr>
        <p:spPr>
          <a:xfrm>
            <a:off x="457200" y="1447920"/>
            <a:ext cx="8229600" cy="495288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ce often use crackdowns in combination with other responses to reduce crime and respond to criminals.</a:t>
            </a: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geting repeat offenders</a:t>
            </a:r>
            <a:endParaRPr b="0" lang="en-US" sz="2400" spc="-1" strike="noStrike">
              <a:solidFill>
                <a:srgbClr val="000000"/>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ucting sting operations</a:t>
            </a:r>
            <a:endParaRPr b="0" lang="en-US" sz="2400" spc="-1" strike="noStrike">
              <a:solidFill>
                <a:srgbClr val="000000"/>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ing and warning citizens </a:t>
            </a:r>
            <a:endParaRPr b="0" lang="en-US" sz="2400" spc="-1" strike="noStrike">
              <a:solidFill>
                <a:srgbClr val="000000"/>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ing place managemen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EE4D5B1-8005-4BF9-862B-56EC2926C3D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1920" y="274320"/>
            <a:ext cx="8991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riticisms and Concerns</a:t>
            </a:r>
            <a:endParaRPr b="0" lang="en-US" sz="4000" spc="-1" strike="noStrike">
              <a:solidFill>
                <a:srgbClr val="000000"/>
              </a:solidFill>
              <a:latin typeface="Arial"/>
            </a:endParaRPr>
          </a:p>
        </p:txBody>
      </p:sp>
      <p:sp>
        <p:nvSpPr>
          <p:cNvPr id="100" name="PlaceHolder 2"/>
          <p:cNvSpPr>
            <a:spLocks noGrp="1"/>
          </p:cNvSpPr>
          <p:nvPr>
            <p:ph/>
          </p:nvPr>
        </p:nvSpPr>
        <p:spPr>
          <a:xfrm>
            <a:off x="304920" y="1600200"/>
            <a:ext cx="8534160" cy="495288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ten just a short-term impact</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tential for abuse of authority</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rather expensive</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ificant impact on the CJ system</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mits use of resources in other areas</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rns with displacement</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have an impact on police/community relationships</a:t>
            </a:r>
            <a:endParaRPr b="0" lang="en-US" sz="2400" spc="-1" strike="noStrike">
              <a:solidFill>
                <a:srgbClr val="000000"/>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8CE1D784-01FA-4F3F-8D73-B146D46B281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ffective Policing Strategies…</a:t>
            </a:r>
            <a:endParaRPr b="0" lang="en-US" sz="4000" spc="-1" strike="noStrike">
              <a:solidFill>
                <a:srgbClr val="000000"/>
              </a:solidFill>
              <a:latin typeface="Arial"/>
            </a:endParaRPr>
          </a:p>
        </p:txBody>
      </p:sp>
      <p:sp>
        <p:nvSpPr>
          <p:cNvPr id="102" name="PlaceHolder 2"/>
          <p:cNvSpPr>
            <a:spLocks noGrp="1"/>
          </p:cNvSpPr>
          <p:nvPr>
            <p:ph/>
          </p:nvPr>
        </p:nvSpPr>
        <p:spPr>
          <a:xfrm>
            <a:off x="457200" y="1371600"/>
            <a:ext cx="868680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focused on statistical concentrations - places, times, offenders, and victim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 suite of interventions; some delivered by the police and some delivered by othe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based on the idea of leverage…working smarter, not hard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8EF7BCB-C9D6-4A19-A56D-204BB2276EE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y Should we Pay Attention to Scientific Evidence?</a:t>
            </a:r>
            <a:endParaRPr b="0" lang="en-US" sz="4000" spc="-1" strike="noStrike">
              <a:solidFill>
                <a:srgbClr val="000000"/>
              </a:solidFill>
              <a:latin typeface="Arial"/>
            </a:endParaRPr>
          </a:p>
        </p:txBody>
      </p:sp>
      <p:sp>
        <p:nvSpPr>
          <p:cNvPr id="104"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instincts, our knee-jerk reactions, and our gut impressions are often wro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evaluations of crime prevention programs find that the programs have no effect in reducing crime or recidivis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programs that research has demonstrated to be ineffective are still widely used in policing.</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5CFC289-744B-4D31-9B52-E87DFA2CE6D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n Even Better Reason to Pay Attention to Scientific Evidence</a:t>
            </a:r>
            <a:endParaRPr b="0" lang="en-US" sz="4000" spc="-1" strike="noStrike">
              <a:solidFill>
                <a:srgbClr val="000000"/>
              </a:solidFill>
              <a:latin typeface="Arial"/>
            </a:endParaRPr>
          </a:p>
        </p:txBody>
      </p:sp>
      <p:sp>
        <p:nvSpPr>
          <p:cNvPr id="106"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crime prevention programs fail to work and they can actually INCREASE crime or recidivism.</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well-documented example is “Scared Straight.”  Another set of programs that often produce such “boomerang effects” are those that bring juvenile delinquents together in camps, detention facilities, or recreational program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haps the best reason to pay attention to the scientific evidence comes from the field of medical ethics: “Primum Non Nocere” or “Above all, do no harm</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B83DF15-830D-45EA-B7C8-99300FD04097}" type="slidenum">
              <a:t>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28600" y="274680"/>
            <a:ext cx="84582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RIME THEORIES &amp; SITUATIONAL CRIME PREVENTION</a:t>
            </a:r>
            <a:endParaRPr b="0" lang="en-US" sz="3600" spc="-1" strike="noStrike">
              <a:solidFill>
                <a:srgbClr val="000000"/>
              </a:solidFill>
              <a:latin typeface="Arial"/>
            </a:endParaRPr>
          </a:p>
        </p:txBody>
      </p:sp>
      <p:sp>
        <p:nvSpPr>
          <p:cNvPr id="55" name=""/>
          <p:cNvSpPr/>
          <p:nvPr/>
        </p:nvSpPr>
        <p:spPr>
          <a:xfrm>
            <a:off x="152280" y="1600200"/>
            <a:ext cx="8763120" cy="498312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ule 5</a:t>
            </a:r>
            <a:r>
              <a:rPr b="0" lang="en-US" sz="2400" spc="-1" strike="noStrike">
                <a:solidFill>
                  <a:srgbClr val="000000"/>
                </a:solidFill>
                <a:latin typeface="Arial"/>
              </a:rPr>
              <a:t> </a:t>
            </a:r>
            <a:r>
              <a:rPr b="1" lang="en-US" sz="2400" spc="-1" strike="noStrike">
                <a:solidFill>
                  <a:srgbClr val="000000"/>
                </a:solidFill>
                <a:latin typeface="Arial"/>
              </a:rPr>
              <a:t>– Crime Theories and Crime Opportunity</a:t>
            </a:r>
            <a:endParaRPr b="0" lang="en-US" sz="2400" spc="-1" strike="noStrike">
              <a:solidFill>
                <a:srgbClr val="000000"/>
              </a:solidFill>
              <a:latin typeface="Arial"/>
            </a:endParaRPr>
          </a:p>
          <a:p>
            <a:pPr lvl="1" marL="7430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ule 6 – Situational Crime Prevention</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E862240A-ABB3-4DC2-9076-013A576A052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SEARCHING/SCANNING AND ANALYZING PROBLEMS</a:t>
            </a:r>
            <a:endParaRPr b="0" lang="en-US" sz="4000" spc="-1" strike="noStrike">
              <a:solidFill>
                <a:srgbClr val="000000"/>
              </a:solidFill>
              <a:latin typeface="Arial"/>
            </a:endParaRPr>
          </a:p>
        </p:txBody>
      </p:sp>
      <p:sp>
        <p:nvSpPr>
          <p:cNvPr id="57" name=""/>
          <p:cNvSpPr/>
          <p:nvPr/>
        </p:nvSpPr>
        <p:spPr>
          <a:xfrm>
            <a:off x="152280" y="1600200"/>
            <a:ext cx="8763120" cy="4983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ule 7</a:t>
            </a:r>
            <a:r>
              <a:rPr b="0" lang="en-US" sz="2400" spc="-1" strike="noStrike">
                <a:solidFill>
                  <a:srgbClr val="000000"/>
                </a:solidFill>
                <a:latin typeface="Arial"/>
              </a:rPr>
              <a:t> </a:t>
            </a:r>
            <a:r>
              <a:rPr b="1" lang="en-US" sz="2400" spc="-1" strike="noStrike">
                <a:solidFill>
                  <a:srgbClr val="000000"/>
                </a:solidFill>
                <a:latin typeface="Arial"/>
              </a:rPr>
              <a:t>– Identifying and Researching Problems</a:t>
            </a:r>
            <a:endParaRPr b="0" lang="en-US" sz="2400" spc="-1" strike="noStrike">
              <a:solidFill>
                <a:srgbClr val="000000"/>
              </a:solidFill>
              <a:latin typeface="Arial"/>
            </a:endParaRPr>
          </a:p>
          <a:p>
            <a:pPr lvl="1" marL="7430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ule 8 – Problem Solving Resources</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ule 9 – Crime Analysis for Problem Solvers in 60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Small Steps</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3E247CF5-CB23-40F8-ABFD-2EE6523CD7A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TURNING TO THE CRIME TRIANGLE</a:t>
            </a:r>
            <a:endParaRPr b="0" lang="en-US" sz="4000" spc="-1" strike="noStrike">
              <a:solidFill>
                <a:srgbClr val="000000"/>
              </a:solidFill>
              <a:latin typeface="Arial"/>
            </a:endParaRPr>
          </a:p>
        </p:txBody>
      </p:sp>
      <p:sp>
        <p:nvSpPr>
          <p:cNvPr id="59" name=""/>
          <p:cNvSpPr/>
          <p:nvPr/>
        </p:nvSpPr>
        <p:spPr>
          <a:xfrm>
            <a:off x="152280" y="1600200"/>
            <a:ext cx="8763120" cy="4983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ule 10</a:t>
            </a:r>
            <a:r>
              <a:rPr b="0" lang="en-US" sz="2400" spc="-1" strike="noStrike">
                <a:solidFill>
                  <a:srgbClr val="000000"/>
                </a:solidFill>
                <a:latin typeface="Arial"/>
              </a:rPr>
              <a:t> </a:t>
            </a:r>
            <a:r>
              <a:rPr b="1" lang="en-US" sz="2400" spc="-1" strike="noStrike">
                <a:solidFill>
                  <a:srgbClr val="000000"/>
                </a:solidFill>
                <a:latin typeface="Arial"/>
              </a:rPr>
              <a:t>– Responding to Crime Places</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ule 11 – Responding to Offenders</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ule 12 – Responding to Targets/Victims</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33F1BB5E-F623-4D22-9A15-B8AEBA07BB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457200" y="274680"/>
            <a:ext cx="8229600" cy="1477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ING YOUR PROBLEM SOLVING STRATEGY AND OTHER CHALLENGES TO IMPLEMENTING POP PROJECTS</a:t>
            </a:r>
            <a:endParaRPr b="0" lang="en-US" sz="3200" spc="-1" strike="noStrike">
              <a:solidFill>
                <a:srgbClr val="000000"/>
              </a:solidFill>
              <a:latin typeface="Arial"/>
            </a:endParaRPr>
          </a:p>
        </p:txBody>
      </p:sp>
      <p:sp>
        <p:nvSpPr>
          <p:cNvPr id="61" name=""/>
          <p:cNvSpPr/>
          <p:nvPr/>
        </p:nvSpPr>
        <p:spPr>
          <a:xfrm>
            <a:off x="152280" y="1600200"/>
            <a:ext cx="8763120" cy="4983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ule 13</a:t>
            </a:r>
            <a:r>
              <a:rPr b="0" lang="en-US" sz="2400" spc="-1" strike="noStrike">
                <a:solidFill>
                  <a:srgbClr val="000000"/>
                </a:solidFill>
                <a:latin typeface="Arial"/>
              </a:rPr>
              <a:t> </a:t>
            </a:r>
            <a:r>
              <a:rPr b="1" lang="en-US" sz="2400" spc="-1" strike="noStrike">
                <a:solidFill>
                  <a:srgbClr val="000000"/>
                </a:solidFill>
                <a:latin typeface="Arial"/>
              </a:rPr>
              <a:t>– Assessing and Evaluating Responses</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ule 14 – Challenges and Future Considerations for Implementing Successful POP Projects</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60B42DEA-7243-46FE-8398-A5EFDED4FA1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1904760"/>
            <a:ext cx="8839440" cy="1965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ODEL ACADEMIC CURRICULUM</a:t>
            </a:r>
            <a:br>
              <a:rPr sz="4000"/>
            </a:br>
            <a:br>
              <a:rPr sz="4000"/>
            </a:br>
            <a:r>
              <a:rPr b="1" lang="en-US" sz="4000" spc="-1" strike="noStrike">
                <a:solidFill>
                  <a:srgbClr val="000000"/>
                </a:solidFill>
                <a:latin typeface="Arial"/>
              </a:rPr>
              <a:t>MODULE 1</a:t>
            </a:r>
            <a:endParaRPr b="0" lang="en-US" sz="4000" spc="-1" strike="noStrike">
              <a:solidFill>
                <a:srgbClr val="000000"/>
              </a:solidFill>
              <a:latin typeface="Arial"/>
            </a:endParaRPr>
          </a:p>
        </p:txBody>
      </p:sp>
      <p:sp>
        <p:nvSpPr>
          <p:cNvPr id="63" name="PlaceHolder 2"/>
          <p:cNvSpPr>
            <a:spLocks noGrp="1"/>
          </p:cNvSpPr>
          <p:nvPr>
            <p:ph type="subTitle"/>
          </p:nvPr>
        </p:nvSpPr>
        <p:spPr>
          <a:xfrm>
            <a:off x="1295280" y="41911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volution of Policing</a:t>
            </a:r>
            <a:endParaRPr b="0" lang="en-US" sz="3200" spc="-1" strike="noStrike">
              <a:solidFill>
                <a:srgbClr val="000000"/>
              </a:solidFill>
              <a:latin typeface="Arial"/>
            </a:endParaRPr>
          </a:p>
        </p:txBody>
      </p:sp>
      <p:pic>
        <p:nvPicPr>
          <p:cNvPr id="64" name="" descr=""/>
          <p:cNvPicPr/>
          <p:nvPr/>
        </p:nvPicPr>
        <p:blipFill>
          <a:blip r:embed="rId1"/>
          <a:stretch/>
        </p:blipFill>
        <p:spPr>
          <a:xfrm>
            <a:off x="1752480" y="838080"/>
            <a:ext cx="5486400" cy="1000080"/>
          </a:xfrm>
          <a:prstGeom prst="rect">
            <a:avLst/>
          </a:prstGeom>
          <a:ln w="0">
            <a:noFill/>
          </a:ln>
        </p:spPr>
      </p:pic>
      <p:sp>
        <p:nvSpPr>
          <p:cNvPr id="4" name="PlaceHolder 3"/>
          <p:cNvSpPr>
            <a:spLocks noGrp="1"/>
          </p:cNvSpPr>
          <p:nvPr>
            <p:ph type="sldNum" idx="3"/>
          </p:nvPr>
        </p:nvSpPr>
        <p:spPr/>
        <p:txBody>
          <a:bodyPr/>
          <a:p>
            <a:fld id="{D90391C8-4DC1-4316-8D2A-F2AC87B932B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e 1 Topics</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damental Objectives of Policing and the Primary Police Function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Brief History of Policing</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cing Styles and Strategi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Patro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ken Windows Theor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ackdown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ime Scienc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FA6DDF8-D74D-4CF6-BDF0-D715AD6E045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274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undamental Objectives</a:t>
            </a:r>
            <a:br>
              <a:rPr sz="4000"/>
            </a:br>
            <a:r>
              <a:rPr b="1" lang="en-US" sz="4000" spc="-1" strike="noStrike">
                <a:solidFill>
                  <a:srgbClr val="000000"/>
                </a:solidFill>
                <a:latin typeface="Arial"/>
              </a:rPr>
              <a:t> of Policing</a:t>
            </a: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prevent and control conduct threatening to life and property</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aid crime victims and protect people in danger of physical harm</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protect constitutional guarantees such as the right to free speech and assembly</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facilitate the movement of people and vehicl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2146D6D-F210-4EDB-82CF-024D790665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Kuhns</cp:lastModifiedBy>
  <dcterms:modified xsi:type="dcterms:W3CDTF">2006-12-20T15:06:48Z</dcterms:modified>
  <cp:revision>7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