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AF3B-79F6-47A8-A718-0B076FF53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ly analyzing a problem is critical to the success of a problem-solving effort.  Effective, tailor-made responses cannot be developed unless you what is causing you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lide: http://www.popcenter.org/about-SAR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lide: http://www.popcenter.org/about-SARA.ht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age of the SARA model focuses on developing and implementing effective responses to the problem.  Before entering this stage, an agency much be sure it has thoroughly analyzed the problem.  The temptation to implement a response and “start doing something” before analysis is complete is very strong.  But quick fixes are rarely effective in the long-term. Problems will likely persist if solutions are not tailored to the specific cause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tailored responses to crime problems, problem-solvers should review their findings about the three sides of the crime triangle—victims, offenders and the crime location– and develop creative solutions that will address at least two sides of the triangle.  They should approach the development of solutions without any preconceived notions about what should be done.  Often the results of the analysis phase point police in unexpected dir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a:t>
            </a:r>
            <a:r>
              <a:rPr b="0" lang="en-US" sz="1200" spc="-1" strike="noStrike">
                <a:solidFill>
                  <a:srgbClr val="000000"/>
                </a:solidFill>
                <a:latin typeface="Arial"/>
              </a:rPr>
              <a:t>http://www.popcenter.org/about-SAR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SARA.ht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measures have traditionally been used by policing agencies to assess effectiveness.  These include numbers of arrests, levels of reported crime, response times, clearance rates, citizen complaints and various workload indicators such as calls for service and the number of field interviews cond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se measures may be helpful to you in assessing the impact of a problem-solving effort, including calls for service related to the problem, changes in the incidence of reported crime and changes in levels of citizen complaints.  Other traditional measures, such as arrests and number of field interviews conducted, may not be that useful for your problem-solving effort, unless these measures can be directly linked to a long-term reduction in the harm associated with the targeted cri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the impact of a problem-solving effort may require using a nontraditional structure for determining effectiveness.  One such framework developed by Eck and Spelman identifies five different levels or types of positive impact 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enefits can occur when either the current crime/problem is reduced more widely than expected or when other forms of crimes/problems are reduced even though those crimes/problems were not targeted to begin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 </a:t>
            </a: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RA process is not a beginning to end (linear)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BA03-1DA8-448F-8C40-D460F1AE1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olving projects can be complex.  In action research, the team is expected to persist until success is achieved, refining and improving an intervention in the light of what is learned from earlier experiences. The process is not necessarily completed once the assessment has been made.  If the problem persists, or has changed its form, the team may have to start over.  This is represented in the figure where the outer arrows describe the feedback between assessment and sc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four problem-solving stages do not always follow one another in a strictly linear fashion.  In fact, projects rarely follow a linear path from the initial scanning and analysis stages through the stages of response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e process often has loops so that an unfolding analysis can result in refocusing the project, and questions about possible responses can lead to the need for fresh analyses.  The longer and more complicated the project, the more loops of this kind are likely to occur.  The set of smaller inner arrows in the figure illustrate this dynamic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might jump from scanning to the implementation of a short-term emergency response to stabilize the problem while further analysis is undertaken.  An assessment of the short-term response could add to the analysis and contribute to the formulation of a new response, which is then assessed.  This might lead back to scanning as new information forces a revision of the problem definition or the discovery of new problems.  The important point is that analysis and evaluation are meaningfully incorporated into the sequence of events and one does not simply jump from scanning to response and declare vi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onald V. and Eck, John E (2005). </a:t>
            </a:r>
            <a:r>
              <a:rPr b="0" i="1" lang="en-US" sz="1200" spc="-1" strike="noStrike">
                <a:solidFill>
                  <a:srgbClr val="000000"/>
                </a:solidFill>
                <a:latin typeface="Arial"/>
              </a:rPr>
              <a:t>Crime Analysis for Problem-Solvers:  In 60 Small Steps, </a:t>
            </a:r>
            <a:r>
              <a:rPr b="0" lang="en-US" sz="1200" spc="-1" strike="noStrike">
                <a:solidFill>
                  <a:srgbClr val="000000"/>
                </a:solidFill>
                <a:latin typeface="Arial"/>
              </a:rPr>
              <a:t>U.S. Department of Justice, Office of Community Oriented Policing Services,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60Ste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A0E7-62CA-4C71-8FDD-890C9CC8F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4440" y="687240"/>
            <a:ext cx="4570560" cy="3427560"/>
          </a:xfrm>
          <a:prstGeom prst="rect">
            <a:avLst/>
          </a:prstGeom>
          <a:ln w="0">
            <a:noFill/>
          </a:ln>
        </p:spPr>
      </p:sp>
      <p:sp>
        <p:nvSpPr>
          <p:cNvPr id="210" name="PlaceHolder 2"/>
          <p:cNvSpPr>
            <a:spLocks noGrp="1"/>
          </p:cNvSpPr>
          <p:nvPr>
            <p:ph type="body"/>
          </p:nvPr>
        </p:nvSpPr>
        <p:spPr>
          <a:xfrm>
            <a:off x="914400" y="4343400"/>
            <a:ext cx="5029200" cy="4113360"/>
          </a:xfrm>
          <a:prstGeom prst="rect">
            <a:avLst/>
          </a:prstGeom>
          <a:noFill/>
          <a:ln w="0">
            <a:noFill/>
          </a:ln>
        </p:spPr>
        <p:txBody>
          <a:bodyPr lIns="91080" rIns="91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variety of examples are provided to illustrate the SARA model, demonstrate a number of successful problem-solving approaches, and illustrate the importance of informing one’s project with a review of the problem-solving literature.</a:t>
            </a:r>
            <a:endParaRPr b="0" lang="en-US" sz="7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B725-C202-4E7D-AFAC-9E514E54F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Arial"/>
            </a:endParaRPr>
          </a:p>
        </p:txBody>
      </p:sp>
      <p:sp>
        <p:nvSpPr>
          <p:cNvPr id="2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29CA-0EEE-4F91-BED9-D91F2857A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Arial"/>
            </a:endParaRPr>
          </a:p>
        </p:txBody>
      </p:sp>
      <p:sp>
        <p:nvSpPr>
          <p:cNvPr id="2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4695-AC55-4EA2-B768-E6368C595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Arial"/>
            </a:endParaRPr>
          </a:p>
        </p:txBody>
      </p:sp>
      <p:sp>
        <p:nvSpPr>
          <p:cNvPr id="2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40E9-0B44-4B9B-862F-97633F319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Arial"/>
            </a:endParaRPr>
          </a:p>
        </p:txBody>
      </p:sp>
      <p:sp>
        <p:nvSpPr>
          <p:cNvPr id="2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530E-9073-450C-87B2-ACCDE3961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0" lang="en-US" sz="1200" spc="-1" strike="noStrike">
              <a:solidFill>
                <a:srgbClr val="000000"/>
              </a:solidFill>
              <a:latin typeface="Arial"/>
            </a:endParaRPr>
          </a:p>
        </p:txBody>
      </p:sp>
      <p:sp>
        <p:nvSpPr>
          <p:cNvPr id="2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6410-D662-4D5D-8C26-195A2E80F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is noteworthy because it used a variety of data sources (arrests, calls for service, code violations, environmental) in addition to original data collection (photographs, resident logs). Also, data collection was used as part of the respons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Boba, R., Velasco, M. &amp; Jones, G. (2003, Summer).  Advanced Problem Analysis, Crime Analysis, and Crime Mapping Training.  Report submitted to the Office of Community Oriented Policing Services under Cooperative Agreement #2002-CK-WX-0303.</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Example is originally taken from Sampson, R. &amp; Scott, M. (2000). </a:t>
            </a:r>
            <a:r>
              <a:rPr b="0" i="1" lang="en-US" sz="1200" spc="-1" strike="noStrike">
                <a:solidFill>
                  <a:srgbClr val="000000"/>
                </a:solidFill>
                <a:latin typeface="Arial"/>
              </a:rPr>
              <a:t>Tackling crime and other public safety problems: Case studies in problem-solving.</a:t>
            </a:r>
            <a:r>
              <a:rPr b="0" lang="en-US" sz="1200" spc="-1" strike="noStrike">
                <a:solidFill>
                  <a:srgbClr val="000000"/>
                </a:solidFill>
                <a:latin typeface="Arial"/>
              </a:rPr>
              <a:t> Washington DC: US Department of Justice, Office of Community Oriented Policing Servic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ronym formulated by John Eck and Bill Spelman to refer to the four problem-solving stages of Scanning, Analysis, Response and Assessment.  By dividing the overall project into separate stages, SARA helps to ensure that the necessary steps are undertaken in proper sequence – for example, that solutions are not adopted before an analysis of the problem has been undertaken. This is a useful check on the natural tendency to jump straight into a final response, while skimping on definition of the problem and analysis for forgetting to assess their impact on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onald V. and Eck, John E (2005). </a:t>
            </a:r>
            <a:r>
              <a:rPr b="0" i="1" lang="en-US" sz="1200" spc="-1" strike="noStrike">
                <a:solidFill>
                  <a:srgbClr val="000000"/>
                </a:solidFill>
                <a:latin typeface="Arial"/>
              </a:rPr>
              <a:t>Crime Analysis for Problem-Solvers:  In 60 Small Steps, </a:t>
            </a:r>
            <a:r>
              <a:rPr b="0" lang="en-US" sz="1200" spc="-1" strike="noStrike">
                <a:solidFill>
                  <a:srgbClr val="000000"/>
                </a:solidFill>
                <a:latin typeface="Arial"/>
              </a:rPr>
              <a:t>U.S. Department of Justice, Office of Community Oriented Policing Services, Washington, 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60Ste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B3C5-5035-4DA7-9C65-BC0020AC4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is noteworthy because, through the cultivation of partnerships between group home managers, the police were able to reduce their involvement at group h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Boba, R., Velasco, M. &amp; Jones, G. (2003, Summer).  Advanced Problem Analysis, Crime Analysis, and Crime Mapping Training.  Report submitted to the Office of Community Oriented Policing Services under Cooperative Agreement #2002-CK-WX-03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Example is originally taken from Sampson, R. &amp; Scott, M. (2000). </a:t>
            </a:r>
            <a:r>
              <a:rPr b="0" i="1" lang="en-US" sz="1200" spc="-1" strike="noStrike">
                <a:solidFill>
                  <a:srgbClr val="000000"/>
                </a:solidFill>
                <a:latin typeface="Arial"/>
              </a:rPr>
              <a:t>Tackling Crime and Other Public Safety Problems: Case Studies in Problem-Solving.</a:t>
            </a:r>
            <a:r>
              <a:rPr b="0" lang="en-US" sz="1200" spc="-1" strike="noStrike">
                <a:solidFill>
                  <a:srgbClr val="000000"/>
                </a:solidFill>
                <a:latin typeface="Arial"/>
              </a:rPr>
              <a:t> Washington DC: US Department of Justice, Office of Community Oriented Policing Services (pg.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9ADF-D7BE-4F7C-B52D-F50175F17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notable because of the involvement of multiple stakeholders (community members, business owners, community policing officers) and because it employed a variety of data collection and analysis methods (both primary and secondary dat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Boba, R., Velasco, M. &amp; Jones, G. (2003, Summer).  Advanced Problem Analysis, Crime Analysis, and Crime Mapping Training.  Report submitted to the Office of Community Oriented Policing Services under Cooperative Agreement #2002-CK-WX-0303.</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Example is originally taken from Police Executive Research Forum. (1999). </a:t>
            </a:r>
            <a:r>
              <a:rPr b="0" i="1" lang="en-US" sz="1200" spc="-1" strike="noStrike">
                <a:solidFill>
                  <a:srgbClr val="000000"/>
                </a:solidFill>
                <a:latin typeface="Arial"/>
              </a:rPr>
              <a:t>Excellence in Problem-Oriented Policing: The Herman Goldstein Award Winners.</a:t>
            </a:r>
            <a:r>
              <a:rPr b="0" lang="en-US" sz="1200" spc="-1" strike="noStrike">
                <a:solidFill>
                  <a:srgbClr val="000000"/>
                </a:solidFill>
                <a:latin typeface="Arial"/>
              </a:rPr>
              <a:t> Washington, DC (pg. 7).</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1F19-610F-47A7-B78F-249F733FB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notable because of the use of GIS to identify and analyze high accident locations. Also, in this case, the problem-solving approach was successfully applied to traffic accidents, a non-crime related issue that takes up increasing amounts of police resources and is an important citizen concer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Boba, R., Velasco, M. &amp; Jones, G. (2003, Summer).  Advanced Problem Analysis, Crime Analysis, and Crime Mapping Training.  Report submitted to the Office of Community Oriented Policing Services under Cooperative Agreement #2002-CK-WX-0303.</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Example is originally taken from Brito, C., &amp; Gratto, E. (Eds.). (2000). </a:t>
            </a:r>
            <a:r>
              <a:rPr b="0" i="1" lang="en-US" sz="1200" spc="-1" strike="noStrike">
                <a:solidFill>
                  <a:srgbClr val="000000"/>
                </a:solidFill>
                <a:latin typeface="Arial"/>
              </a:rPr>
              <a:t>Problem-Oriented Policing: Crime-Specific Problems, Critical Issues, and Making POP Work, vol. 3</a:t>
            </a:r>
            <a:r>
              <a:rPr b="0" lang="en-US" sz="1200" spc="-1" strike="noStrike">
                <a:solidFill>
                  <a:srgbClr val="000000"/>
                </a:solidFill>
                <a:latin typeface="Arial"/>
              </a:rPr>
              <a:t>. Washington, DC: Police Executive Research Forum (pg. 149).</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10F2-3E94-494B-AB56-6C4F8C38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notable because the problem was dramatically reduced as a result of simply speaking with school administrators and modifying dismissal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Boba, R., Velasco, M. &amp; Jones, G. (2003, Summer).  Advanced Problem Analysis, Crime Analysis, and Crime Mapping Training.  Report submitted to the Office of Community Oriented Policing Services under Cooperative Agreement #2002-CK-WX-03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s originally taken from Scott, M.S. (2001). </a:t>
            </a:r>
            <a:r>
              <a:rPr b="0" i="1" lang="en-US" sz="1200" spc="-1" strike="noStrike">
                <a:solidFill>
                  <a:srgbClr val="000000"/>
                </a:solidFill>
                <a:latin typeface="Arial"/>
              </a:rPr>
              <a:t>Disorderly Youth in Public Places</a:t>
            </a:r>
            <a:r>
              <a:rPr b="0" lang="en-US" sz="1200" spc="-1" strike="noStrike">
                <a:solidFill>
                  <a:srgbClr val="000000"/>
                </a:solidFill>
                <a:latin typeface="Arial"/>
              </a:rPr>
              <a:t> (Problem-Oriented Guides for Police Series No. 6). Washington, DC: Office of Community Oriented Policing Services (pg. 17).</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stein Award Winners are stored at the POP Center web site.  Students can download the papers in PDF format.  Alternatively, the instructor can consider assigning specific papers based on student interests or officer assign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SAR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re private and public organizations, types or groups of people that will benefit if the problem is addressed or may experience negative consequences if the problem is not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s many stakeholders as possible for the problem selected.  Each stakeholder may bring different knowledge and different leverage for impacting the problem to the effort.  The more stakeholders that are identified, the more resources you will have to addres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 communities have found that the problem-solving effort  progresses most efficiently if only two or three stakeholders—a core group—work on the problem throughout the project. Other, more peripheral, stakeholders often have something to contribute at specific stages of the project, but not throughout the entire eff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U.S. Department of Justice, Office of Community-Oriented Policing Services. (1998).  </a:t>
            </a:r>
            <a:r>
              <a:rPr b="0" i="1" lang="en-US" sz="1200" spc="-1" strike="noStrike">
                <a:solidFill>
                  <a:srgbClr val="000000"/>
                </a:solidFill>
                <a:latin typeface="Arial"/>
              </a:rPr>
              <a:t>Problem-Solving Tips:  A Guide to Reducing Crime and Disorder Through Problem-Solving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Ti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C91D6-16FD-4AB0-85DC-BA060325C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FB54-6D8E-49DC-AAC6-66318A37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4AF64-1C12-46F8-88BC-576D8A532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D8E5-9ADE-4EEE-9312-EF97F28F2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CCF3-9C3A-441B-B002-A84CB48F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8969-B59C-4281-AE43-84C113DC0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BC0E-3031-47DF-83C1-5552B8242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B469-0565-499B-B4D8-BAD9C272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5568-317B-4BEE-A50C-02C2C407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F5C8-A36F-4B79-9561-92DC1FB0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58E1-B333-42FB-9D2C-873592A7B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FE21-96A9-4E2F-86CE-D535122EF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82DB-DA02-4176-BEE6-9B3EDC4A8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142640"/>
            <a:ext cx="86104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4800" spc="-1" strike="noStrike">
                <a:solidFill>
                  <a:srgbClr val="000000"/>
                </a:solidFill>
                <a:latin typeface="Arial"/>
              </a:rPr>
              <a:t>Model Academic Curriculum</a:t>
            </a:r>
            <a:br>
              <a:rPr sz="4800"/>
            </a:br>
            <a:br>
              <a:rPr sz="4800"/>
            </a:br>
            <a:r>
              <a:rPr b="1" lang="en-US" sz="4800" spc="-1" strike="noStrike">
                <a:solidFill>
                  <a:srgbClr val="000000"/>
                </a:solidFill>
                <a:latin typeface="Arial"/>
              </a:rPr>
              <a:t>Module 4</a:t>
            </a:r>
            <a:br>
              <a:rPr sz="4800"/>
            </a:br>
            <a:endParaRPr b="0" lang="en-US" sz="4800" spc="-1" strike="noStrike">
              <a:solidFill>
                <a:srgbClr val="000000"/>
              </a:solidFill>
              <a:latin typeface="Arial"/>
            </a:endParaRPr>
          </a:p>
        </p:txBody>
      </p:sp>
      <p:sp>
        <p:nvSpPr>
          <p:cNvPr id="49" name="PlaceHolder 2"/>
          <p:cNvSpPr>
            <a:spLocks noGrp="1"/>
          </p:cNvSpPr>
          <p:nvPr>
            <p:ph type="subTitle"/>
          </p:nvPr>
        </p:nvSpPr>
        <p:spPr>
          <a:xfrm>
            <a:off x="1523880" y="4343400"/>
            <a:ext cx="6400800" cy="13716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ARA Process</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ning, Analysi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amp; Assessment</a:t>
            </a:r>
            <a:endParaRPr b="0" lang="en-US" sz="2400" spc="-1" strike="noStrike">
              <a:solidFill>
                <a:srgbClr val="000000"/>
              </a:solidFill>
              <a:latin typeface="Arial"/>
            </a:endParaRPr>
          </a:p>
        </p:txBody>
      </p:sp>
      <p:pic>
        <p:nvPicPr>
          <p:cNvPr id="50" name="" descr=""/>
          <p:cNvPicPr/>
          <p:nvPr/>
        </p:nvPicPr>
        <p:blipFill>
          <a:blip r:embed="rId1"/>
          <a:stretch/>
        </p:blipFill>
        <p:spPr>
          <a:xfrm>
            <a:off x="990720" y="228600"/>
            <a:ext cx="7429320" cy="1359000"/>
          </a:xfrm>
          <a:prstGeom prst="rect">
            <a:avLst/>
          </a:prstGeom>
          <a:ln w="0">
            <a:noFill/>
          </a:ln>
        </p:spPr>
      </p:pic>
      <p:sp>
        <p:nvSpPr>
          <p:cNvPr id="4" name="PlaceHolder 3"/>
          <p:cNvSpPr>
            <a:spLocks noGrp="1"/>
          </p:cNvSpPr>
          <p:nvPr>
            <p:ph type="sldNum" idx="3"/>
          </p:nvPr>
        </p:nvSpPr>
        <p:spPr/>
        <p:txBody>
          <a:bodyPr/>
          <a:p>
            <a:fld id="{0F511E9B-8B56-44DE-8BB6-E88FA71FB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68" name="PlaceHolder 2"/>
          <p:cNvSpPr>
            <a:spLocks noGrp="1"/>
          </p:cNvSpPr>
          <p:nvPr>
            <p:ph/>
          </p:nvPr>
        </p:nvSpPr>
        <p:spPr>
          <a:xfrm>
            <a:off x="228600" y="1294920"/>
            <a:ext cx="87631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d understanding events and conditions that precede and accompany the probl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relevant data to coll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ing what is known about the problem typ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inventory of how the problem is being addressed and any strengths/limitations of the current response</a:t>
            </a:r>
            <a:endParaRPr b="0" lang="en-US" sz="2800" spc="-1" strike="noStrike">
              <a:solidFill>
                <a:srgbClr val="000000"/>
              </a:solidFill>
              <a:latin typeface="Arial"/>
            </a:endParaRPr>
          </a:p>
        </p:txBody>
      </p:sp>
      <p:sp>
        <p:nvSpPr>
          <p:cNvPr id="69" name=""/>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6147C8-B78B-4882-A172-FAC8C4F6C5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owing the scope of the probl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resources that may be of assistance in developing a deeper understanding of the probl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working hypothesis about why the problem is occurring; is it really occurr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9B9F36-15E2-4305-ABB7-BFE2717331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sons Why Analysis is Sometimes Overlooked/Skipped</a:t>
            </a:r>
            <a:endParaRPr b="0" lang="en-US" sz="4000" spc="-1" strike="noStrike">
              <a:solidFill>
                <a:srgbClr val="000000"/>
              </a:solidFill>
              <a:latin typeface="Arial"/>
            </a:endParaRPr>
          </a:p>
        </p:txBody>
      </p:sp>
      <p:sp>
        <p:nvSpPr>
          <p:cNvPr id="73" name="PlaceHolder 2"/>
          <p:cNvSpPr>
            <a:spLocks noGrp="1"/>
          </p:cNvSpPr>
          <p:nvPr>
            <p:ph/>
          </p:nvPr>
        </p:nvSpPr>
        <p:spPr>
          <a:xfrm>
            <a:off x="380880" y="1523880"/>
            <a:ext cx="83059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of the problem sometimes falsely appears obvious at first gl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some tremendous internal and external pressure to solve the problem immediat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sure of responding to calls does not seem to allow for time for detailed inquiries into the nature of the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E8CEFF-676B-461F-A530-AD38D1A7D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sons Why Analysis is Sometimes Overlooked/Skipped</a:t>
            </a:r>
            <a:endParaRPr b="0" lang="en-US" sz="4000" spc="-1" strike="noStrike">
              <a:solidFill>
                <a:srgbClr val="000000"/>
              </a:solidFill>
              <a:latin typeface="Arial"/>
            </a:endParaRPr>
          </a:p>
        </p:txBody>
      </p:sp>
      <p:sp>
        <p:nvSpPr>
          <p:cNvPr id="75" name="PlaceHolder 2"/>
          <p:cNvSpPr>
            <a:spLocks noGrp="1"/>
          </p:cNvSpPr>
          <p:nvPr>
            <p:ph/>
          </p:nvPr>
        </p:nvSpPr>
        <p:spPr>
          <a:xfrm>
            <a:off x="304920" y="1599840"/>
            <a:ext cx="861048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ng/researching the problem does not seem like “real” police wor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ors may not value analytical work that takes time but does not produce arrests, citations or other traditional measures of police wor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communities a strong commitment to the old ways of handling problems prevents looking at the problem in different w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4B70AC-814F-4516-B8AA-69C00D482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Analyzing Problems</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the problem, but here are some general examples of resour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analys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analysis/report-writing softw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geographic information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ssist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t/business surve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environment surve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s with victims and offend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or tracking repeat victim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 compu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ms/online servi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FCBA067-4ED9-4194-A835-0CBA7DDD7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a:t>
            </a:r>
            <a:endParaRPr b="0" lang="en-US" sz="4400" spc="-1" strike="noStrike">
              <a:solidFill>
                <a:srgbClr val="000000"/>
              </a:solidFill>
              <a:latin typeface="Arial"/>
            </a:endParaRPr>
          </a:p>
        </p:txBody>
      </p:sp>
      <p:sp>
        <p:nvSpPr>
          <p:cNvPr id="7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ing for new intervention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ing for what other communities with similar problems have done</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among the alternative intervention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ing a response plan and identifying responsible partie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ng the specific objectives for the response plan</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ing out the planned activities</a:t>
            </a:r>
            <a:endParaRPr b="0" lang="en-US" sz="2800" spc="-1" strike="noStrike">
              <a:solidFill>
                <a:srgbClr val="000000"/>
              </a:solidFill>
              <a:latin typeface="Arial"/>
            </a:endParaRPr>
          </a:p>
        </p:txBody>
      </p:sp>
      <p:sp>
        <p:nvSpPr>
          <p:cNvPr id="80" name=""/>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2A685D-C42A-4054-B86A-56AD135F68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 Reminders</a:t>
            </a:r>
            <a:endParaRPr b="0" lang="en-US" sz="4400" spc="-1" strike="noStrike">
              <a:solidFill>
                <a:srgbClr val="000000"/>
              </a:solidFill>
              <a:latin typeface="Arial"/>
            </a:endParaRPr>
          </a:p>
        </p:txBody>
      </p:sp>
      <p:sp>
        <p:nvSpPr>
          <p:cNvPr id="82" name="PlaceHolder 2"/>
          <p:cNvSpPr>
            <a:spLocks noGrp="1"/>
          </p:cNvSpPr>
          <p:nvPr>
            <p:ph/>
          </p:nvPr>
        </p:nvSpPr>
        <p:spPr>
          <a:xfrm>
            <a:off x="152280" y="1599840"/>
            <a:ext cx="8763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ses should be directly linked to the results of your analy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not to limit responses to the police.  Other agencies may need to be involved and take some responsibil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should be manageable given the resources, available time, and urgency in solving the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ety of potential responses may be more effective than a single response in some situ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F46E3A-E2D1-41FA-8BA0-2BCC5A730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ssment</a:t>
            </a:r>
            <a:endParaRPr b="0" lang="en-US" sz="4400" spc="-1" strike="noStrike">
              <a:solidFill>
                <a:srgbClr val="000000"/>
              </a:solidFill>
              <a:latin typeface="Arial"/>
            </a:endParaRPr>
          </a:p>
        </p:txBody>
      </p:sp>
      <p:sp>
        <p:nvSpPr>
          <p:cNvPr id="84" name="PlaceHolder 2"/>
          <p:cNvSpPr>
            <a:spLocks noGrp="1"/>
          </p:cNvSpPr>
          <p:nvPr>
            <p:ph/>
          </p:nvPr>
        </p:nvSpPr>
        <p:spPr>
          <a:xfrm>
            <a:off x="-360" y="1371600"/>
            <a:ext cx="8915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pre- and post-response qualitative and quantitative da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Evalu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whether the plan was implement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whether broad goals and objectives were attained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y new strategies needed to augment the original pla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handling of incidents and improved response to the proble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ng ongoing assessment to ensure continued effectiven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7C31B6-CBD8-4376-A170-A3D296DB61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Impacts on Problem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limination of the probl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incid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erious or harmful incid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handling of the incidents/improved response to the probl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ing the problem from police consideration. (See Shifting and Sharing Gui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 of benefi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1526FB-CC15-4B7D-8ADD-713C2A94BB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4649760" y="2516040"/>
          <a:ext cx="4035600" cy="2692440"/>
        </p:xfrm>
        <a:graphic>
          <a:graphicData uri="http://schemas.openxmlformats.org/presentationml/2006/ole">
            <p:oleObj r:id="rId1" spid="">
              <p:embed/>
              <p:pic>
                <p:nvPicPr>
                  <p:cNvPr id="88" name="" descr=""/>
                  <p:cNvPicPr/>
                  <p:nvPr/>
                </p:nvPicPr>
                <p:blipFill>
                  <a:blip r:embed="rId2"/>
                  <a:stretch/>
                </p:blipFill>
                <p:spPr>
                  <a:xfrm>
                    <a:off x="4649760" y="2516040"/>
                    <a:ext cx="4035600" cy="2692440"/>
                  </a:xfrm>
                  <a:prstGeom prst="rect">
                    <a:avLst/>
                  </a:prstGeom>
                  <a:ln w="0">
                    <a:noFill/>
                  </a:ln>
                </p:spPr>
              </p:pic>
            </p:oleObj>
          </a:graphicData>
        </a:graphic>
      </p:graphicFrame>
      <p:sp>
        <p:nvSpPr>
          <p:cNvPr id="89" name=""/>
          <p:cNvSpPr/>
          <p:nvPr/>
        </p:nvSpPr>
        <p:spPr>
          <a:xfrm>
            <a:off x="4481640" y="2590920"/>
            <a:ext cx="257040" cy="671400"/>
          </a:xfrm>
          <a:prstGeom prst="downArrow">
            <a:avLst>
              <a:gd name="adj1" fmla="val 50000"/>
              <a:gd name="adj2" fmla="val 653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79640" y="874800"/>
            <a:ext cx="3368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2133720" y="609480"/>
            <a:ext cx="4952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a:t>
            </a:r>
            <a:endParaRPr b="0" lang="en-US" sz="4000" spc="-1" strike="noStrike">
              <a:solidFill>
                <a:srgbClr val="000000"/>
              </a:solidFill>
              <a:latin typeface="Arial"/>
            </a:endParaRPr>
          </a:p>
        </p:txBody>
      </p:sp>
      <p:sp>
        <p:nvSpPr>
          <p:cNvPr id="92" name=""/>
          <p:cNvSpPr/>
          <p:nvPr/>
        </p:nvSpPr>
        <p:spPr>
          <a:xfrm>
            <a:off x="3108240" y="1789200"/>
            <a:ext cx="31402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 name=""/>
          <p:cNvSpPr/>
          <p:nvPr/>
        </p:nvSpPr>
        <p:spPr>
          <a:xfrm>
            <a:off x="3048120" y="1905120"/>
            <a:ext cx="3124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ALYSIS</a:t>
            </a:r>
            <a:endParaRPr b="0" lang="en-US" sz="4000" spc="-1" strike="noStrike">
              <a:solidFill>
                <a:srgbClr val="000000"/>
              </a:solidFill>
              <a:latin typeface="Arial"/>
            </a:endParaRPr>
          </a:p>
        </p:txBody>
      </p:sp>
      <p:sp>
        <p:nvSpPr>
          <p:cNvPr id="94" name=""/>
          <p:cNvSpPr/>
          <p:nvPr/>
        </p:nvSpPr>
        <p:spPr>
          <a:xfrm>
            <a:off x="4481640" y="1295280"/>
            <a:ext cx="257040" cy="671760"/>
          </a:xfrm>
          <a:prstGeom prst="downArrow">
            <a:avLst>
              <a:gd name="adj1" fmla="val 50000"/>
              <a:gd name="adj2" fmla="val 653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90920" y="3276720"/>
            <a:ext cx="4038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PONSE</a:t>
            </a:r>
            <a:endParaRPr b="0" lang="en-US" sz="4000" spc="-1" strike="noStrike">
              <a:solidFill>
                <a:srgbClr val="000000"/>
              </a:solidFill>
              <a:latin typeface="Arial"/>
            </a:endParaRPr>
          </a:p>
        </p:txBody>
      </p:sp>
      <p:sp>
        <p:nvSpPr>
          <p:cNvPr id="96" name=""/>
          <p:cNvSpPr/>
          <p:nvPr/>
        </p:nvSpPr>
        <p:spPr>
          <a:xfrm>
            <a:off x="4481640" y="4038480"/>
            <a:ext cx="257040" cy="671760"/>
          </a:xfrm>
          <a:prstGeom prst="downArrow">
            <a:avLst>
              <a:gd name="adj1" fmla="val 50000"/>
              <a:gd name="adj2" fmla="val 653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52760" y="472428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a:t>
            </a:r>
            <a:endParaRPr b="0" lang="en-US" sz="4000" spc="-1" strike="noStrike">
              <a:solidFill>
                <a:srgbClr val="000000"/>
              </a:solidFill>
              <a:latin typeface="Arial"/>
            </a:endParaRPr>
          </a:p>
        </p:txBody>
      </p:sp>
      <p:sp>
        <p:nvSpPr>
          <p:cNvPr id="98" name=""/>
          <p:cNvSpPr/>
          <p:nvPr/>
        </p:nvSpPr>
        <p:spPr>
          <a:xfrm>
            <a:off x="1447920" y="380880"/>
            <a:ext cx="6324480" cy="5639040"/>
          </a:xfrm>
          <a:prstGeom prst="noSmoking">
            <a:avLst>
              <a:gd name="adj" fmla="val 1250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FEF540-2698-47F3-A539-F42DBCDA9CAE}"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4 Topics</a:t>
            </a:r>
            <a:endParaRPr b="0" lang="en-US" sz="4400" spc="-1" strike="noStrike">
              <a:solidFill>
                <a:srgbClr val="000000"/>
              </a:solidFill>
              <a:latin typeface="Arial"/>
            </a:endParaRPr>
          </a:p>
        </p:txBody>
      </p:sp>
      <p:sp>
        <p:nvSpPr>
          <p:cNvPr id="5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RA Proce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ing Case Stud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105EBEC-94F8-438E-BF78-D9EF922F5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523880" y="685800"/>
            <a:ext cx="6171840" cy="5638320"/>
            <a:chOff x="1523880" y="685800"/>
            <a:chExt cx="6171840" cy="5638320"/>
          </a:xfrm>
        </p:grpSpPr>
        <p:sp>
          <p:nvSpPr>
            <p:cNvPr id="100" name=""/>
            <p:cNvSpPr/>
            <p:nvPr/>
          </p:nvSpPr>
          <p:spPr>
            <a:xfrm>
              <a:off x="2518200" y="175104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NING</a:t>
              </a:r>
              <a:endParaRPr b="0" lang="en-US" sz="2400" spc="-1" strike="noStrike">
                <a:solidFill>
                  <a:srgbClr val="000000"/>
                </a:solidFill>
                <a:latin typeface="Arial"/>
              </a:endParaRPr>
            </a:p>
          </p:txBody>
        </p:sp>
        <p:sp>
          <p:nvSpPr>
            <p:cNvPr id="101" name=""/>
            <p:cNvSpPr/>
            <p:nvPr/>
          </p:nvSpPr>
          <p:spPr>
            <a:xfrm>
              <a:off x="4956480" y="175104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Arial"/>
              </a:endParaRPr>
            </a:p>
          </p:txBody>
        </p:sp>
        <p:sp>
          <p:nvSpPr>
            <p:cNvPr id="102" name=""/>
            <p:cNvSpPr/>
            <p:nvPr/>
          </p:nvSpPr>
          <p:spPr>
            <a:xfrm>
              <a:off x="5032800" y="4875120"/>
              <a:ext cx="187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p:txBody>
        </p:sp>
        <p:sp>
          <p:nvSpPr>
            <p:cNvPr id="103" name=""/>
            <p:cNvSpPr/>
            <p:nvPr/>
          </p:nvSpPr>
          <p:spPr>
            <a:xfrm>
              <a:off x="2594880" y="487512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04" name=""/>
            <p:cNvSpPr/>
            <p:nvPr/>
          </p:nvSpPr>
          <p:spPr>
            <a:xfrm flipV="1" rot="5400000">
              <a:off x="4305240" y="-876240"/>
              <a:ext cx="990720" cy="4114800"/>
            </a:xfrm>
            <a:custGeom>
              <a:avLst/>
              <a:gdLst>
                <a:gd name="textAreaLeft" fmla="*/ 132480 w 990720"/>
                <a:gd name="textAreaRight" fmla="*/ 858240 w 990720"/>
                <a:gd name="textAreaTop" fmla="*/ 720360 h 4114800"/>
                <a:gd name="textAreaBottom" fmla="*/ 2983680 h 4114800"/>
              </a:gdLst>
              <a:ahLst/>
              <a:rect l="textAreaLeft" t="textAreaTop" r="textAreaRight" b="textAreaBottom"/>
              <a:pathLst>
                <a:path w="21600" h="21600">
                  <a:moveTo>
                    <a:pt x="21600" y="0"/>
                  </a:moveTo>
                  <a:arcTo wR="21600" hR="7560" stAng="-5400000" swAng="-5400000"/>
                  <a:lnTo>
                    <a:pt x="0" y="11880"/>
                  </a:lnTo>
                  <a:arcTo wR="21600" hR="7560" stAng="10800000" swAng="-2301588"/>
                  <a:lnTo>
                    <a:pt x="12864" y="20954"/>
                  </a:lnTo>
                  <a:lnTo>
                    <a:pt x="21600" y="17280"/>
                  </a:lnTo>
                  <a:lnTo>
                    <a:pt x="12864" y="12314"/>
                  </a:lnTo>
                  <a:lnTo>
                    <a:pt x="12864" y="14474"/>
                  </a:lnTo>
                  <a:arcTo wR="21600" hR="7560" stAng="8498412" swAng="194415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705000" y="1523880"/>
              <a:ext cx="990360" cy="4114800"/>
            </a:xfrm>
            <a:custGeom>
              <a:avLst/>
              <a:gdLst>
                <a:gd name="textAreaLeft" fmla="*/ 132480 w 990360"/>
                <a:gd name="textAreaRight" fmla="*/ 857880 w 990360"/>
                <a:gd name="textAreaTop" fmla="*/ 720000 h 4114800"/>
                <a:gd name="textAreaBottom" fmla="*/ 2983320 h 4114800"/>
              </a:gdLst>
              <a:ahLst/>
              <a:rect l="textAreaLeft" t="textAreaTop" r="textAreaRight" b="textAreaBottom"/>
              <a:pathLst>
                <a:path w="21600" h="21600">
                  <a:moveTo>
                    <a:pt x="21600" y="0"/>
                  </a:moveTo>
                  <a:arcTo wR="21600" hR="7560" stAng="-5400000" swAng="-5400000"/>
                  <a:lnTo>
                    <a:pt x="0" y="11880"/>
                  </a:lnTo>
                  <a:arcTo wR="21600" hR="7560" stAng="10800000" swAng="-2301588"/>
                  <a:lnTo>
                    <a:pt x="12864" y="20954"/>
                  </a:lnTo>
                  <a:lnTo>
                    <a:pt x="21600" y="17280"/>
                  </a:lnTo>
                  <a:lnTo>
                    <a:pt x="12864" y="12314"/>
                  </a:lnTo>
                  <a:lnTo>
                    <a:pt x="12864" y="14474"/>
                  </a:lnTo>
                  <a:arcTo wR="21600" hR="7560" stAng="8498412" swAng="194415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1523880" y="1371600"/>
              <a:ext cx="990720" cy="4114800"/>
            </a:xfrm>
            <a:custGeom>
              <a:avLst/>
              <a:gdLst>
                <a:gd name="textAreaLeft" fmla="*/ 132480 w 990720"/>
                <a:gd name="textAreaRight" fmla="*/ 858240 w 990720"/>
                <a:gd name="textAreaTop" fmla="*/ 720360 h 4114800"/>
                <a:gd name="textAreaBottom" fmla="*/ 2983680 h 4114800"/>
              </a:gdLst>
              <a:ahLst/>
              <a:rect l="textAreaLeft" t="textAreaTop" r="textAreaRight" b="textAreaBottom"/>
              <a:pathLst>
                <a:path w="21600" h="21600">
                  <a:moveTo>
                    <a:pt x="21600" y="0"/>
                  </a:moveTo>
                  <a:arcTo wR="21600" hR="7560" stAng="-5400000" swAng="-5400000"/>
                  <a:lnTo>
                    <a:pt x="0" y="11880"/>
                  </a:lnTo>
                  <a:arcTo wR="21600" hR="7560" stAng="10800000" swAng="-2301588"/>
                  <a:lnTo>
                    <a:pt x="12864" y="20954"/>
                  </a:lnTo>
                  <a:lnTo>
                    <a:pt x="21600" y="17280"/>
                  </a:lnTo>
                  <a:lnTo>
                    <a:pt x="12864" y="12314"/>
                  </a:lnTo>
                  <a:lnTo>
                    <a:pt x="12864" y="14474"/>
                  </a:lnTo>
                  <a:arcTo wR="21600" hR="7560" stAng="8498412" swAng="194415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5400000">
              <a:off x="3924360" y="3771360"/>
              <a:ext cx="990360" cy="4114800"/>
            </a:xfrm>
            <a:custGeom>
              <a:avLst/>
              <a:gdLst>
                <a:gd name="textAreaLeft" fmla="*/ 132480 w 990360"/>
                <a:gd name="textAreaRight" fmla="*/ 857880 w 990360"/>
                <a:gd name="textAreaTop" fmla="*/ 720000 h 4114800"/>
                <a:gd name="textAreaBottom" fmla="*/ 2983320 h 4114800"/>
              </a:gdLst>
              <a:ahLst/>
              <a:rect l="textAreaLeft" t="textAreaTop" r="textAreaRight" b="textAreaBottom"/>
              <a:pathLst>
                <a:path w="21600" h="21600">
                  <a:moveTo>
                    <a:pt x="21600" y="0"/>
                  </a:moveTo>
                  <a:arcTo wR="21600" hR="7560" stAng="-5400000" swAng="-5400000"/>
                  <a:lnTo>
                    <a:pt x="0" y="11880"/>
                  </a:lnTo>
                  <a:arcTo wR="21600" hR="7560" stAng="10800000" swAng="-2301588"/>
                  <a:lnTo>
                    <a:pt x="12864" y="20954"/>
                  </a:lnTo>
                  <a:lnTo>
                    <a:pt x="21600" y="17280"/>
                  </a:lnTo>
                  <a:lnTo>
                    <a:pt x="12864" y="12314"/>
                  </a:lnTo>
                  <a:lnTo>
                    <a:pt x="12864" y="14474"/>
                  </a:lnTo>
                  <a:arcTo wR="21600" hR="7560" stAng="8498412" swAng="194415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6200000">
              <a:off x="4647960" y="3200040"/>
              <a:ext cx="2133720" cy="761760"/>
            </a:xfrm>
            <a:custGeom>
              <a:avLst/>
              <a:gdLst>
                <a:gd name="textAreaLeft" fmla="*/ 0 w 2133720"/>
                <a:gd name="textAreaRight" fmla="*/ 2134080 w 2133720"/>
                <a:gd name="textAreaTop" fmla="*/ 0 h 761760"/>
                <a:gd name="textAreaBottom" fmla="*/ 762120 h 761760"/>
              </a:gdLst>
              <a:ahLst/>
              <a:rect l="textAreaLeft" t="textAreaTop" r="textAreaRight" b="textAreaBottom"/>
              <a:pathLst>
                <a:path w="21600" h="21600">
                  <a:moveTo>
                    <a:pt x="2845" y="11341"/>
                  </a:moveTo>
                  <a:arcTo wR="-7973" hR="-7973" stAng="10566566" swAng="-10785845"/>
                  <a:lnTo>
                    <a:pt x="22" y="11488"/>
                  </a:lnTo>
                  <a:arcTo wR="10800" hR="10800" stAng="10580721" swAng="10785845"/>
                  <a:lnTo>
                    <a:pt x="24269" y="9884"/>
                  </a:lnTo>
                  <a:lnTo>
                    <a:pt x="20444" y="14267"/>
                  </a:lnTo>
                  <a:lnTo>
                    <a:pt x="16061" y="10442"/>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3505320" y="1905120"/>
              <a:ext cx="2133360" cy="761760"/>
            </a:xfrm>
            <a:custGeom>
              <a:avLst/>
              <a:gdLst>
                <a:gd name="textAreaLeft" fmla="*/ 0 w 2133360"/>
                <a:gd name="textAreaRight" fmla="*/ 2133720 w 2133360"/>
                <a:gd name="textAreaTop" fmla="*/ 0 h 761760"/>
                <a:gd name="textAreaBottom" fmla="*/ 762120 h 761760"/>
              </a:gdLst>
              <a:ahLst/>
              <a:rect l="textAreaLeft" t="textAreaTop" r="textAreaRight" b="textAreaBottom"/>
              <a:pathLst>
                <a:path w="21600" h="21600">
                  <a:moveTo>
                    <a:pt x="2845" y="11341"/>
                  </a:moveTo>
                  <a:arcTo wR="-7973" hR="-7973" stAng="10566566" swAng="-10785845"/>
                  <a:lnTo>
                    <a:pt x="22" y="11488"/>
                  </a:lnTo>
                  <a:arcTo wR="10800" hR="10800" stAng="10580721" swAng="10785845"/>
                  <a:lnTo>
                    <a:pt x="24269" y="9884"/>
                  </a:lnTo>
                  <a:lnTo>
                    <a:pt x="20444" y="14267"/>
                  </a:lnTo>
                  <a:lnTo>
                    <a:pt x="16061" y="10442"/>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10800000">
              <a:off x="3505320" y="4342320"/>
              <a:ext cx="2133360" cy="762120"/>
            </a:xfrm>
            <a:custGeom>
              <a:avLst/>
              <a:gdLst>
                <a:gd name="textAreaLeft" fmla="*/ 360 w 2133360"/>
                <a:gd name="textAreaRight" fmla="*/ 2134080 w 2133360"/>
                <a:gd name="textAreaTop" fmla="*/ -360 h 762120"/>
                <a:gd name="textAreaBottom" fmla="*/ 762120 h 762120"/>
              </a:gdLst>
              <a:ahLst/>
              <a:rect l="textAreaLeft" t="textAreaTop" r="textAreaRight" b="textAreaBottom"/>
              <a:pathLst>
                <a:path w="21600" h="21600">
                  <a:moveTo>
                    <a:pt x="2845" y="11341"/>
                  </a:moveTo>
                  <a:arcTo wR="-7973" hR="-7973" stAng="10566566" swAng="-10785845"/>
                  <a:lnTo>
                    <a:pt x="22" y="11488"/>
                  </a:lnTo>
                  <a:arcTo wR="10800" hR="10800" stAng="10580721" swAng="10785845"/>
                  <a:lnTo>
                    <a:pt x="24269" y="9884"/>
                  </a:lnTo>
                  <a:lnTo>
                    <a:pt x="20444" y="14267"/>
                  </a:lnTo>
                  <a:lnTo>
                    <a:pt x="16061" y="10442"/>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18903000">
              <a:off x="3543480" y="3314520"/>
              <a:ext cx="2057400" cy="228600"/>
            </a:xfrm>
            <a:prstGeom prst="rightArrow">
              <a:avLst>
                <a:gd name="adj1" fmla="val 50000"/>
                <a:gd name="adj2" fmla="val 2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87FF38C-339C-4ED6-B0A8-865FAC3A9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2590560"/>
            <a:ext cx="8229600" cy="685800"/>
          </a:xfrm>
          <a:prstGeom prst="rect">
            <a:avLst/>
          </a:prstGeom>
          <a:noFill/>
          <a:ln w="0">
            <a:noFill/>
          </a:ln>
        </p:spPr>
        <p:txBody>
          <a:bodyPr lIns="90000" rIns="90000" tIns="46800" bIns="46800"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 Solving Case Study</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6CEB59B-1049-4D44-AFA1-D13D3B831785}"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1837080" y="2057400"/>
            <a:ext cx="61365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ainesville, Florida</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obbery Case Stud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2870190C-D92D-4A85-A921-CFC4AC1E00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inesville, Florida</a:t>
            </a:r>
            <a:br>
              <a:rPr sz="4400"/>
            </a:br>
            <a:r>
              <a:rPr b="1" i="1" lang="en-US" sz="3600" spc="-1" strike="noStrike">
                <a:solidFill>
                  <a:srgbClr val="000000"/>
                </a:solidFill>
                <a:latin typeface="Arial"/>
              </a:rPr>
              <a:t>Convenience Store Robberies</a:t>
            </a:r>
            <a:endParaRPr b="0" lang="en-US" sz="3600" spc="-1" strike="noStrike">
              <a:solidFill>
                <a:srgbClr val="000000"/>
              </a:solidFill>
              <a:latin typeface="Arial"/>
            </a:endParaRPr>
          </a:p>
        </p:txBody>
      </p:sp>
      <p:sp>
        <p:nvSpPr>
          <p:cNvPr id="12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SC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e noticed a increase in convenience store robberies in the Spring in 1985</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1141560" y="4408560"/>
            <a:ext cx="6284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is fall within the definition of</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D1907C-D728-427D-94FD-ACC70F285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inesville, Florida</a:t>
            </a:r>
            <a:br>
              <a:rPr sz="4400"/>
            </a:br>
            <a:r>
              <a:rPr b="1" i="1" lang="en-US" sz="3600" spc="-1" strike="noStrike">
                <a:solidFill>
                  <a:srgbClr val="000000"/>
                </a:solidFill>
                <a:latin typeface="Arial"/>
              </a:rPr>
              <a:t>Convenience Store Robberies</a:t>
            </a:r>
            <a:endParaRPr b="0" lang="en-US" sz="3600" spc="-1" strike="noStrike">
              <a:solidFill>
                <a:srgbClr val="000000"/>
              </a:solidFill>
              <a:latin typeface="Arial"/>
            </a:endParaRPr>
          </a:p>
        </p:txBody>
      </p:sp>
      <p:sp>
        <p:nvSpPr>
          <p:cNvPr id="127" name="PlaceHolder 2"/>
          <p:cNvSpPr>
            <a:spLocks noGrp="1"/>
          </p:cNvSpPr>
          <p:nvPr>
            <p:ph/>
          </p:nvPr>
        </p:nvSpPr>
        <p:spPr>
          <a:xfrm>
            <a:off x="685440" y="1676520"/>
            <a:ext cx="8077320" cy="4114800"/>
          </a:xfrm>
          <a:prstGeom prst="rect">
            <a:avLst/>
          </a:prstGeom>
          <a:noFill/>
          <a:ln w="0">
            <a:noFill/>
          </a:ln>
        </p:spPr>
        <p:txBody>
          <a:bodyPr lIns="90000" rIns="90000" tIns="46800" bIns="46800"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ANALYSIS</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rs researched what other departments were doing with similar Robbery problems</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inesville Robbery data showed: </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of 72 robberies annually</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 different stores were robbed</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 were robbed at least once</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robbed as many as 14 time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 occurred between 7pm - 5 am</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one clerk on duty during 92% of robberie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ber waited for clerk to be alone in 85% of robberies</a:t>
            </a:r>
            <a:br>
              <a:rPr sz="2000"/>
            </a:b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2" marL="93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6150E8-5662-47B3-A87D-939CA716F0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inesville, Florida</a:t>
            </a:r>
            <a:br>
              <a:rPr sz="4400"/>
            </a:br>
            <a:r>
              <a:rPr b="1" i="1" lang="en-US" sz="3600" spc="-1" strike="noStrike">
                <a:solidFill>
                  <a:srgbClr val="000000"/>
                </a:solidFill>
                <a:latin typeface="Arial"/>
              </a:rPr>
              <a:t>Convenience Store Robberies</a:t>
            </a: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ANALYSI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 researched IACP, NCJRS, National Association of Convenience Sto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ed with other jurisdictions</a:t>
            </a:r>
            <a:endParaRPr b="0" lang="en-US" sz="24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nd that the State of Ohio had addressed similar problem and adopted several ordinance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d training for clerk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cash on hand</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 safe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 view of counter from outside</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equate lighting in parking lot</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 Ohio reduced robberies by 7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EE26F3-6F59-4C84-86C3-157237397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inesville, Florida</a:t>
            </a:r>
            <a:br>
              <a:rPr sz="4400"/>
            </a:br>
            <a:r>
              <a:rPr b="1" i="1" lang="en-US" sz="3600" spc="-1" strike="noStrike">
                <a:solidFill>
                  <a:srgbClr val="000000"/>
                </a:solidFill>
                <a:latin typeface="Arial"/>
              </a:rPr>
              <a:t>Convenience Store Robberies</a:t>
            </a:r>
            <a:endParaRPr b="0" lang="en-US" sz="3600" spc="-1" strike="noStrike">
              <a:solidFill>
                <a:srgbClr val="000000"/>
              </a:solidFill>
              <a:latin typeface="Arial"/>
            </a:endParaRPr>
          </a:p>
        </p:txBody>
      </p:sp>
      <p:sp>
        <p:nvSpPr>
          <p:cNvPr id="139" name="PlaceHolder 2"/>
          <p:cNvSpPr>
            <a:spLocks noGrp="1"/>
          </p:cNvSpPr>
          <p:nvPr>
            <p:ph/>
          </p:nvPr>
        </p:nvSpPr>
        <p:spPr>
          <a:xfrm>
            <a:off x="685440" y="1676520"/>
            <a:ext cx="8458200" cy="411480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RESPONSE</a:t>
            </a:r>
            <a:endParaRPr b="0" lang="en-US" sz="28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nership with convenience store owners formed</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natural surveillance/ordinance required 2 clerks on duty during late night hours</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lighting inside and outsid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 obstructions (sales signs) removed</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ash handling policies implemented</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boxes installed</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d access control through fences and walls to slow robbers and removal of obstacles to hide</a:t>
            </a:r>
            <a:endParaRPr b="0" lang="en-US" sz="2400" spc="-1" strike="noStrike">
              <a:solidFill>
                <a:srgbClr val="000000"/>
              </a:solidFill>
              <a:latin typeface="Arial"/>
            </a:endParaRPr>
          </a:p>
          <a:p>
            <a:pPr lvl="1" marL="586800" indent="-225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formal surveillance through alarm and video cameras; encouraged visits by police to stor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5268FF-AE90-43BC-AD80-6CD114E0B8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inesville, Florida</a:t>
            </a:r>
            <a:br>
              <a:rPr sz="4400"/>
            </a:br>
            <a:r>
              <a:rPr b="1" i="1" lang="en-US" sz="3600" spc="-1" strike="noStrike">
                <a:solidFill>
                  <a:srgbClr val="000000"/>
                </a:solidFill>
                <a:latin typeface="Arial"/>
              </a:rPr>
              <a:t>Convenience Store Robberies</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ASSESSMEN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6 month study conducted in 1987</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beries decreased by 65% from the same period in the previous yea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study showed 70% reduction from 198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BFFF70-F60E-4F27-9B73-65B38B0A27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Problem Solving Examples</a:t>
            </a: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2D71D2-43F0-464A-9D14-DBDC3A61F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28600"/>
            <a:ext cx="8382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artment Complex Crime in Santa Barbara, CA</a:t>
            </a:r>
            <a:endParaRPr b="0" lang="en-US" sz="2800" spc="-1" strike="noStrike">
              <a:solidFill>
                <a:srgbClr val="000000"/>
              </a:solidFill>
              <a:latin typeface="Arial"/>
            </a:endParaRPr>
          </a:p>
        </p:txBody>
      </p:sp>
      <p:sp>
        <p:nvSpPr>
          <p:cNvPr id="149" name="PlaceHolder 2"/>
          <p:cNvSpPr>
            <a:spLocks noGrp="1"/>
          </p:cNvSpPr>
          <p:nvPr>
            <p:ph/>
          </p:nvPr>
        </p:nvSpPr>
        <p:spPr>
          <a:xfrm>
            <a:off x="228600" y="1142640"/>
            <a:ext cx="8610480" cy="5257800"/>
          </a:xfrm>
          <a:prstGeom prst="rect">
            <a:avLst/>
          </a:prstGeom>
          <a:noFill/>
          <a:ln w="0">
            <a:noFill/>
          </a:ln>
        </p:spPr>
        <p:txBody>
          <a:bodyPr lIns="90000" rIns="90000" tIns="46800" bIns="46800" anchor="t">
            <a:normAutofit fontScale="99000"/>
          </a:bodyPr>
          <a:p>
            <a:pPr marL="56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ning</a:t>
            </a:r>
            <a:endParaRPr b="0" lang="en-US" sz="2000" spc="-1" strike="noStrike">
              <a:solidFill>
                <a:srgbClr val="000000"/>
              </a:solidFill>
              <a:latin typeface="Arial"/>
            </a:endParaRPr>
          </a:p>
          <a:p>
            <a:pPr marL="565920" indent="-565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received high numbers of disturbance, littering, and vehicle crime complaints from an apartment complex.  Owner resisted efforts to improve the property.</a:t>
            </a:r>
            <a:endParaRPr b="0" lang="en-US" sz="2000" spc="-1" strike="noStrike">
              <a:solidFill>
                <a:srgbClr val="000000"/>
              </a:solidFill>
              <a:latin typeface="Arial"/>
            </a:endParaRPr>
          </a:p>
          <a:p>
            <a:pPr marL="56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565920" indent="-565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 had 34 other properties in the city, many in disrepair and requiring a disproportionate amount of police services.</a:t>
            </a:r>
            <a:endParaRPr b="0" lang="en-US" sz="2000" spc="-1" strike="noStrike">
              <a:solidFill>
                <a:srgbClr val="000000"/>
              </a:solidFill>
              <a:latin typeface="Arial"/>
            </a:endParaRPr>
          </a:p>
          <a:p>
            <a:pPr marL="565920" indent="-565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rtments were dirty, illegally subdivided, in violation of fire and building codes.  For the prior year, 758 arrestees had listed these apartments as their residence.</a:t>
            </a:r>
            <a:endParaRPr b="0" lang="en-US" sz="2000" spc="-1" strike="noStrike">
              <a:solidFill>
                <a:srgbClr val="000000"/>
              </a:solidFill>
              <a:latin typeface="Arial"/>
            </a:endParaRPr>
          </a:p>
          <a:p>
            <a:pPr marL="56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Arial"/>
            </a:endParaRPr>
          </a:p>
          <a:p>
            <a:pPr marL="565920" indent="-565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red a well-maintained property with owner; asked residents to maintain logs; photographed poor living conditions; prosecuted slumlord.</a:t>
            </a:r>
            <a:endParaRPr b="0" lang="en-US" sz="2000" spc="-1" strike="noStrike">
              <a:solidFill>
                <a:srgbClr val="000000"/>
              </a:solidFill>
              <a:latin typeface="Arial"/>
            </a:endParaRPr>
          </a:p>
          <a:p>
            <a:pPr marL="56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a:t>
            </a:r>
            <a:endParaRPr b="0" lang="en-US" sz="2000" spc="-1" strike="noStrike">
              <a:solidFill>
                <a:srgbClr val="000000"/>
              </a:solidFill>
              <a:latin typeface="Arial"/>
            </a:endParaRPr>
          </a:p>
          <a:p>
            <a:pPr marL="565920" indent="-565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As a condition of probation, owner must appear in court monthly to document progress.</a:t>
            </a:r>
            <a:endParaRPr b="0" lang="en-US" sz="2000" spc="-1" strike="noStrike">
              <a:solidFill>
                <a:srgbClr val="000000"/>
              </a:solidFill>
              <a:latin typeface="Arial"/>
            </a:endParaRPr>
          </a:p>
        </p:txBody>
      </p:sp>
      <p:sp>
        <p:nvSpPr>
          <p:cNvPr id="150" name=""/>
          <p:cNvSpPr/>
          <p:nvPr/>
        </p:nvSpPr>
        <p:spPr>
          <a:xfrm>
            <a:off x="0" y="6477120"/>
            <a:ext cx="89154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65960E-452A-4C38-A7F4-922A62BA1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SARA Process</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a:t>
            </a:r>
            <a:r>
              <a:rPr b="0" lang="en-US" sz="4800" spc="-1" strike="noStrike">
                <a:solidFill>
                  <a:srgbClr val="000000"/>
                </a:solidFill>
                <a:latin typeface="Arial"/>
              </a:rPr>
              <a:t>CANNING</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a:t>
            </a:r>
            <a:r>
              <a:rPr b="0" lang="en-US" sz="4800" spc="-1" strike="noStrike">
                <a:solidFill>
                  <a:srgbClr val="000000"/>
                </a:solidFill>
                <a:latin typeface="Arial"/>
              </a:rPr>
              <a:t>NALYSI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a:t>
            </a:r>
            <a:r>
              <a:rPr b="0" lang="en-US" sz="4800" spc="-1" strike="noStrike">
                <a:solidFill>
                  <a:srgbClr val="000000"/>
                </a:solidFill>
                <a:latin typeface="Arial"/>
              </a:rPr>
              <a:t>ESPONS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a:t>
            </a:r>
            <a:r>
              <a:rPr b="0" lang="en-US" sz="4800" spc="-1" strike="noStrike">
                <a:solidFill>
                  <a:srgbClr val="000000"/>
                </a:solidFill>
                <a:latin typeface="Arial"/>
              </a:rPr>
              <a:t>SSESSMEN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EFAEE75B-1AA0-41AC-B653-135CC0716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Homes in Fresno, CA</a:t>
            </a:r>
            <a:endParaRPr b="0" lang="en-US" sz="2800" spc="-1" strike="noStrike">
              <a:solidFill>
                <a:srgbClr val="000000"/>
              </a:solidFill>
              <a:latin typeface="Arial"/>
            </a:endParaRPr>
          </a:p>
        </p:txBody>
      </p:sp>
      <p:sp>
        <p:nvSpPr>
          <p:cNvPr id="152"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ning</a:t>
            </a:r>
            <a:endParaRPr b="0" lang="en-US" sz="2000" spc="-1" strike="noStrike">
              <a:solidFill>
                <a:srgbClr val="000000"/>
              </a:solidFill>
              <a:latin typeface="Arial"/>
            </a:endParaRPr>
          </a:p>
          <a:p>
            <a:pPr marL="571680" indent="-5716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sno had 40 group homes that served many functions, from placement of juvenile offenders to juveniles removed from dysfunctional homes.</a:t>
            </a:r>
            <a:endParaRPr b="0" lang="en-US" sz="19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571680" indent="-5716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oup homes generated over 1,000 calls for problems ranging from assaults to runaways.  Officers becoming “supplemental staff” at the homes; they were sometimes called just to scare the children.</a:t>
            </a:r>
            <a:endParaRPr b="0" lang="en-US" sz="1900" spc="-1" strike="noStrike">
              <a:solidFill>
                <a:srgbClr val="000000"/>
              </a:solidFill>
              <a:latin typeface="Arial"/>
            </a:endParaRPr>
          </a:p>
          <a:p>
            <a:pPr marL="571680" indent="-5716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ve of the 40 homes accounted for 50% of calls; eight for 75%.</a:t>
            </a:r>
            <a:endParaRPr b="0" lang="en-US" sz="19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Arial"/>
            </a:endParaRPr>
          </a:p>
          <a:p>
            <a:pPr marL="571680" indent="-5716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vened individuals responsible for regulating group homes (e.g., probation, social services).  Arranged regular meetings so that those who ran homes without problems could assist others with problem-solving.</a:t>
            </a:r>
            <a:endParaRPr b="0" lang="en-US" sz="19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a:t>
            </a:r>
            <a:endParaRPr b="0" lang="en-US" sz="2000" spc="-1" strike="noStrike">
              <a:solidFill>
                <a:srgbClr val="000000"/>
              </a:solidFill>
              <a:latin typeface="Arial"/>
            </a:endParaRPr>
          </a:p>
          <a:p>
            <a:pPr marL="571680" indent="-5716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ls in the first year dropped by 300.  Two officers estimated it took less than 40 hours to study the problem, implement response, and assess the impact.</a:t>
            </a:r>
            <a:endParaRPr b="0" lang="en-US" sz="1900" spc="-1" strike="noStrike">
              <a:solidFill>
                <a:srgbClr val="000000"/>
              </a:solidFill>
              <a:latin typeface="Arial"/>
            </a:endParaRPr>
          </a:p>
        </p:txBody>
      </p:sp>
      <p:sp>
        <p:nvSpPr>
          <p:cNvPr id="153" name=""/>
          <p:cNvSpPr/>
          <p:nvPr/>
        </p:nvSpPr>
        <p:spPr>
          <a:xfrm>
            <a:off x="0" y="6477120"/>
            <a:ext cx="91440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3E3E1B-510C-42FE-9E16-CE463C6F8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order Reduction in Green Bay, Wisconsin</a:t>
            </a:r>
            <a:endParaRPr b="0" lang="en-US" sz="2800" spc="-1" strike="noStrike">
              <a:solidFill>
                <a:srgbClr val="000000"/>
              </a:solidFill>
              <a:latin typeface="Arial"/>
            </a:endParaRPr>
          </a:p>
        </p:txBody>
      </p:sp>
      <p:sp>
        <p:nvSpPr>
          <p:cNvPr id="155"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nning</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way Street was a high-crime area marked by litter, broken alcohol bottles, and homeless people who were often drunk and disorderly.  Sixteen taverns operated in a three-block area.</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s conducted with residents and business owners.</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of offense reports revealed that approximately 20 people were responsible for most of the complaints.  Problem taverns produced shootings, stabbings, and prostitution.</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of building designs highlighted many deficiencies (e.g., dark alleys).</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forcement of public ordinances on open intoxicants, trespassing, and lewd behavior.</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in cooperation from liquor store and tavern owners in denying alcohol to habitually intoxicated people.</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maintenance, lighting, and access control.</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ment</a:t>
            </a:r>
            <a:endParaRPr b="0" lang="en-US" sz="1600" spc="-1" strike="noStrike">
              <a:solidFill>
                <a:srgbClr val="000000"/>
              </a:solidFill>
              <a:latin typeface="Arial"/>
            </a:endParaRPr>
          </a:p>
          <a:p>
            <a:pPr marL="571680" indent="-57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ea experienced a 65% reduction in police calls and a 91% reduction in demand for rescue services to handle injuries stemming from assaults.  Five problematic taverns were closed through joint efforts by community policing officers and citizens.</a:t>
            </a:r>
            <a:endParaRPr b="0" lang="en-US" sz="1600" spc="-1" strike="noStrike">
              <a:solidFill>
                <a:srgbClr val="000000"/>
              </a:solidFill>
              <a:latin typeface="Arial"/>
            </a:endParaRPr>
          </a:p>
        </p:txBody>
      </p:sp>
      <p:sp>
        <p:nvSpPr>
          <p:cNvPr id="156" name=""/>
          <p:cNvSpPr/>
          <p:nvPr/>
        </p:nvSpPr>
        <p:spPr>
          <a:xfrm>
            <a:off x="0" y="6613560"/>
            <a:ext cx="83059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7ACD40F-932D-4A88-BDCF-FE957E4FF2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ffic Accidents in Arlington, Virginia</a:t>
            </a:r>
            <a:endParaRPr b="0" lang="en-US" sz="3200" spc="-1" strike="noStrike">
              <a:solidFill>
                <a:srgbClr val="000000"/>
              </a:solidFill>
              <a:latin typeface="Arial"/>
            </a:endParaRPr>
          </a:p>
        </p:txBody>
      </p:sp>
      <p:sp>
        <p:nvSpPr>
          <p:cNvPr id="158" name="PlaceHolder 2"/>
          <p:cNvSpPr>
            <a:spLocks noGrp="1"/>
          </p:cNvSpPr>
          <p:nvPr>
            <p:ph/>
          </p:nvPr>
        </p:nvSpPr>
        <p:spPr>
          <a:xfrm>
            <a:off x="304920" y="914400"/>
            <a:ext cx="8534160" cy="5410080"/>
          </a:xfrm>
          <a:prstGeom prst="rect">
            <a:avLst/>
          </a:prstGeom>
          <a:noFill/>
          <a:ln w="0">
            <a:noFill/>
          </a:ln>
        </p:spPr>
        <p:txBody>
          <a:bodyPr lIns="90000" rIns="90000" tIns="46800" bIns="46800" anchor="t">
            <a:normAutofit fontScale="98000"/>
          </a:bodyPr>
          <a:p>
            <a:pPr marL="560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ning</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1999, 4,082 accidents were reported to police.  Due to underreporting, the actual number of accidents was estimated to be three times higher.</a:t>
            </a:r>
            <a:endParaRPr b="0" lang="en-US" sz="1800" spc="-1" strike="noStrike">
              <a:solidFill>
                <a:srgbClr val="000000"/>
              </a:solidFill>
              <a:latin typeface="Arial"/>
            </a:endParaRPr>
          </a:p>
          <a:p>
            <a:pPr marL="560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was used to identify accident hotspots.  Using a threshold of at least ten accidents in the preceding twelve months, 49 hotspots were identified.</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reports were analyzed to determine most prevalent times, prevailing road conditions, and likely causes.  Officers observed hotspots at various times of day.</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 were conducted with individuals involved in accidents.</a:t>
            </a:r>
            <a:endParaRPr b="0" lang="en-US" sz="1800" spc="-1" strike="noStrike">
              <a:solidFill>
                <a:srgbClr val="000000"/>
              </a:solidFill>
              <a:latin typeface="Arial"/>
            </a:endParaRPr>
          </a:p>
          <a:p>
            <a:pPr marL="560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olving training for traffic officers, installation of turn-lane arrows, reconfiguration of light cycles.  Ongoing at time of publication.</a:t>
            </a:r>
            <a:endParaRPr b="0" lang="en-US" sz="1800" spc="-1" strike="noStrike">
              <a:solidFill>
                <a:srgbClr val="000000"/>
              </a:solidFill>
              <a:latin typeface="Arial"/>
            </a:endParaRPr>
          </a:p>
          <a:p>
            <a:pPr marL="560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ment</a:t>
            </a:r>
            <a:endParaRPr b="0" lang="en-US" sz="1800" spc="-1" strike="noStrike">
              <a:solidFill>
                <a:srgbClr val="000000"/>
              </a:solidFill>
              <a:latin typeface="Arial"/>
            </a:endParaRPr>
          </a:p>
          <a:p>
            <a:pPr marL="560160" indent="-560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meetings are held to determine progress.  Officers are evaluated not only on their effectiveness in reducing accidents, but on their ability to incorporate problem-solving principles.</a:t>
            </a:r>
            <a:endParaRPr b="0" lang="en-US" sz="1800" spc="-1" strike="noStrike">
              <a:solidFill>
                <a:srgbClr val="000000"/>
              </a:solidFill>
              <a:latin typeface="Arial"/>
            </a:endParaRPr>
          </a:p>
        </p:txBody>
      </p:sp>
      <p:sp>
        <p:nvSpPr>
          <p:cNvPr id="159" name=""/>
          <p:cNvSpPr/>
          <p:nvPr/>
        </p:nvSpPr>
        <p:spPr>
          <a:xfrm>
            <a:off x="0" y="6477120"/>
            <a:ext cx="89917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A866B2-A0C9-401E-9A43-A5A4454458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orderly Youth in New York City</a:t>
            </a:r>
            <a:endParaRPr b="0" lang="en-US" sz="2800" spc="-1" strike="noStrike">
              <a:solidFill>
                <a:srgbClr val="000000"/>
              </a:solidFill>
              <a:latin typeface="Arial"/>
            </a:endParaRPr>
          </a:p>
        </p:txBody>
      </p:sp>
      <p:sp>
        <p:nvSpPr>
          <p:cNvPr id="161"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ning</a:t>
            </a:r>
            <a:endParaRPr b="0" lang="en-US" sz="2000" spc="-1" strike="noStrike">
              <a:solidFill>
                <a:srgbClr val="000000"/>
              </a:solidFill>
              <a:latin typeface="Arial"/>
            </a:endParaRPr>
          </a:p>
          <a:p>
            <a:pPr marL="571680" indent="-57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a high number of neighborhood disruptions and fights because students were being dismissed from two high schools at the same time.</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571680" indent="-57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dismissal procedures contributed to the problem.</a:t>
            </a:r>
            <a:endParaRPr b="0" lang="en-US" sz="2000" spc="-1" strike="noStrike">
              <a:solidFill>
                <a:srgbClr val="000000"/>
              </a:solidFill>
              <a:latin typeface="Arial"/>
            </a:endParaRPr>
          </a:p>
          <a:p>
            <a:pPr marL="571680" indent="-57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ere dismissed at almost exactly the same time to the same block.  Students were full of energy, and petty rivalries soon turned into confrontation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Arial"/>
            </a:endParaRPr>
          </a:p>
          <a:p>
            <a:pPr marL="571680" indent="-57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ke with administrators at both schools and persuaded them to stagger dismissal times by 25 minutes and direct departing students in opposite directions.</a:t>
            </a:r>
            <a:endParaRPr b="0" lang="en-US" sz="20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a:t>
            </a:r>
            <a:endParaRPr b="0" lang="en-US" sz="2000" spc="-1" strike="noStrike">
              <a:solidFill>
                <a:srgbClr val="000000"/>
              </a:solidFill>
              <a:latin typeface="Arial"/>
            </a:endParaRPr>
          </a:p>
          <a:p>
            <a:pPr marL="571680" indent="-57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a 70% reduction in after-school disorder problem.</a:t>
            </a:r>
            <a:endParaRPr b="0" lang="en-US" sz="2000" spc="-1" strike="noStrike">
              <a:solidFill>
                <a:srgbClr val="000000"/>
              </a:solidFill>
              <a:latin typeface="Arial"/>
            </a:endParaRPr>
          </a:p>
        </p:txBody>
      </p:sp>
      <p:sp>
        <p:nvSpPr>
          <p:cNvPr id="162" name=""/>
          <p:cNvSpPr/>
          <p:nvPr/>
        </p:nvSpPr>
        <p:spPr>
          <a:xfrm>
            <a:off x="0" y="6400800"/>
            <a:ext cx="7620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D0BE02-0DA7-4183-9032-986EAC6CCE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a commander thinking about adopting a problem-oriented policing approach within your distri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onsider the general problems that might be addressed in your district.  Now, think more specifically about those general problems.  For example, if robbery is a concern, what kind of robbery, where and when is it occurring, who are the victims, who are the likely offender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hat data or information sources might you have available to help you narrow the focus of your specific proble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0E8F50-7B68-448D-9F9B-9E0A09B10F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16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ve selected a problem type on which to focus your resources, one of the difficult new skills to learn is how to conduct a comprehensive analysi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internal” and “external” evidence might you use in the analysi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e of the problem types selected by a member of your grou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E569CF-FA87-4547-B2C1-23EB56895C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3</a:t>
            </a:r>
            <a:endParaRPr b="0" lang="en-US" sz="4400" spc="-1" strike="noStrike">
              <a:solidFill>
                <a:srgbClr val="000000"/>
              </a:solidFill>
              <a:latin typeface="Arial"/>
            </a:endParaRPr>
          </a:p>
        </p:txBody>
      </p:sp>
      <p:sp>
        <p:nvSpPr>
          <p:cNvPr id="168" name=""/>
          <p:cNvSpPr/>
          <p:nvPr/>
        </p:nvSpPr>
        <p:spPr>
          <a:xfrm>
            <a:off x="304920" y="1447920"/>
            <a:ext cx="8534160" cy="510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Goldstein Award Finalist project from 1993 to the pres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paper and review and critique the SARA process.  Are there any other steps that might have been taken for that specific project to be more successfu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at project were implemented in your city/county, what steps or responses might need to  chang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7EDD496-445F-4602-86FE-75604CC9A95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anning</a:t>
            </a:r>
            <a:endParaRPr b="0" lang="en-US" sz="4400" spc="-1" strike="noStrike">
              <a:solidFill>
                <a:srgbClr val="000000"/>
              </a:solidFill>
              <a:latin typeface="Arial"/>
            </a:endParaRPr>
          </a:p>
        </p:txBody>
      </p:sp>
      <p:sp>
        <p:nvSpPr>
          <p:cNvPr id="56"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recurring problems</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ing the problems</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broad goals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ing that the problems exist</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how often the problem occurs and how long it has been a concern</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problems for closer examin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8A8E0A-A85F-4775-8698-049B43446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of Identifying Problem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ing calls for service, crime data and agency records for patterns and trends involving repeat locations, victims and offen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specific crimes by time of day, proximity to locations, and other similar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ing officers, supervisors, detectives, mid-level managers and command staf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20764B-07EB-446C-A0B0-446B80B46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of Identifying Problems</a:t>
            </a:r>
            <a:endParaRPr b="0" lang="en-US" sz="4400" spc="-1" strike="noStrike">
              <a:solidFill>
                <a:srgbClr val="000000"/>
              </a:solidFill>
              <a:latin typeface="Arial"/>
            </a:endParaRPr>
          </a:p>
        </p:txBody>
      </p:sp>
      <p:sp>
        <p:nvSpPr>
          <p:cNvPr id="60" name="PlaceHolder 2"/>
          <p:cNvSpPr>
            <a:spLocks noGrp="1"/>
          </p:cNvSpPr>
          <p:nvPr>
            <p:ph/>
          </p:nvPr>
        </p:nvSpPr>
        <p:spPr>
          <a:xfrm>
            <a:off x="456840" y="1294920"/>
            <a:ext cx="845820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police repor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ing the community</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citizen complain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in community meeting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information from neighborhood associations and nonprofit organization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ing social service/governmental agencie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media coverage and editori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E0E91B-8FFE-4D52-9E2D-B1D2665ACE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Stakeholders</a:t>
            </a:r>
            <a:endParaRPr b="0" lang="en-US" sz="4400" spc="-1" strike="noStrike">
              <a:solidFill>
                <a:srgbClr val="000000"/>
              </a:solidFill>
              <a:latin typeface="Arial"/>
            </a:endParaRPr>
          </a:p>
        </p:txBody>
      </p:sp>
      <p:sp>
        <p:nvSpPr>
          <p:cNvPr id="62" name="PlaceHolder 2"/>
          <p:cNvSpPr>
            <a:spLocks noGrp="1"/>
          </p:cNvSpPr>
          <p:nvPr>
            <p:ph/>
          </p:nvPr>
        </p:nvSpPr>
        <p:spPr>
          <a:xfrm>
            <a:off x="228240" y="1600200"/>
            <a:ext cx="8534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service/government agencies with jurisdiction or an interest in the probl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s of the problem, and/or associations representing victim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ghbors, coworkers, friends and relatives of victims or neighborhood residents affected by the proble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2C8D52-2D80-4B76-A135-6DF109F8B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Stakeholders</a:t>
            </a:r>
            <a:endParaRPr b="0" lang="en-US" sz="4400" spc="-1" strike="noStrike">
              <a:solidFill>
                <a:srgbClr val="000000"/>
              </a:solidFill>
              <a:latin typeface="Arial"/>
            </a:endParaRPr>
          </a:p>
        </p:txBody>
      </p:sp>
      <p:sp>
        <p:nvSpPr>
          <p:cNvPr id="64" name="PlaceHolder 2"/>
          <p:cNvSpPr>
            <a:spLocks noGrp="1"/>
          </p:cNvSpPr>
          <p:nvPr>
            <p:ph/>
          </p:nvPr>
        </p:nvSpPr>
        <p:spPr>
          <a:xfrm>
            <a:off x="380520" y="1600200"/>
            <a:ext cx="8534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ies or people that have some control over offen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establishments adversely impacted by the crime or disorder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organizations or trade associations with an interest in the proble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4498BB-BF90-4691-A59C-0B38614BF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Class Exercise</a:t>
            </a:r>
            <a:endParaRPr b="0" lang="en-US" sz="4400" spc="-1" strike="noStrike">
              <a:solidFill>
                <a:srgbClr val="000000"/>
              </a:solidFill>
              <a:latin typeface="Arial"/>
            </a:endParaRPr>
          </a:p>
        </p:txBody>
      </p:sp>
      <p:sp>
        <p:nvSpPr>
          <p:cNvPr id="66" name=""/>
          <p:cNvSpPr/>
          <p:nvPr/>
        </p:nvSpPr>
        <p:spPr>
          <a:xfrm>
            <a:off x="457200" y="1600200"/>
            <a:ext cx="8229600" cy="4876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make a list of stakeholders for the following types of crimes/problem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ing in residential neighborhood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ndalism in and around schoo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ual assaults on college campus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itering around bus termina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dealing in public housing area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glaries of local business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B7774A0-8A7B-4A65-8BB6-CEB80442C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5:47:24Z</dcterms:created>
  <dc:creator>Joe Kuhns</dc:creator>
  <dc:description/>
  <dc:language>en-US</dc:language>
  <cp:lastModifiedBy>Joe Kuhns</cp:lastModifiedBy>
  <dcterms:modified xsi:type="dcterms:W3CDTF">2006-12-19T18:38:02Z</dcterms:modified>
  <cp:revision>70</cp:revision>
  <dc:subject/>
  <dc:title>Slide 1</dc:title>
</cp:coreProperties>
</file>