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1.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9CA7-98B7-43A0-BA2E-25E42848D9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 – </a:t>
            </a:r>
            <a:r>
              <a:rPr b="0" lang="en-US" sz="1200" spc="-1" strike="noStrike">
                <a:solidFill>
                  <a:srgbClr val="000000"/>
                </a:solidFill>
                <a:latin typeface="Arial"/>
              </a:rPr>
              <a:t>Another option for discussing a place-based response is the Response Guide </a:t>
            </a:r>
            <a:r>
              <a:rPr b="0" i="1" lang="en-US" sz="1200" spc="-1" strike="noStrike">
                <a:solidFill>
                  <a:srgbClr val="000000"/>
                </a:solidFill>
                <a:latin typeface="Arial"/>
              </a:rPr>
              <a:t>Video Surveillance of Public Places</a:t>
            </a:r>
            <a:r>
              <a:rPr b="0" lang="en-US" sz="1200" spc="-1" strike="noStrike">
                <a:solidFill>
                  <a:srgbClr val="000000"/>
                </a:solidFill>
                <a:latin typeface="Arial"/>
              </a:rPr>
              <a:t> located at http://www.popcenter.org/Responses/response-surveillance.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gnosing hot spots</a:t>
            </a:r>
            <a:r>
              <a:rPr b="0" lang="en-US" sz="1200" spc="-1" strike="noStrike">
                <a:solidFill>
                  <a:srgbClr val="000000"/>
                </a:solidFill>
                <a:latin typeface="Arial"/>
              </a:rPr>
              <a:t> – When mapping crime it is helpful to distinguish between acute and chronic hot spots.  Acute hot spots show abnormal spikes in crime, which may decline naturally, while chronic hot spots have persistently higher crime levels than other areas and are unlikely to decline unless something is do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are three basic forms of chronic hot spots:</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t lines </a:t>
            </a:r>
            <a:r>
              <a:rPr b="0" lang="en-US" sz="1200" spc="-1" strike="noStrike">
                <a:solidFill>
                  <a:srgbClr val="000000"/>
                </a:solidFill>
                <a:latin typeface="Arial"/>
              </a:rPr>
              <a:t>– are street segments where crime is concentra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t areas</a:t>
            </a:r>
            <a:r>
              <a:rPr b="0" lang="en-US" sz="1200" spc="-1" strike="noStrike">
                <a:solidFill>
                  <a:srgbClr val="000000"/>
                </a:solidFill>
                <a:latin typeface="Arial"/>
              </a:rPr>
              <a:t> – are neighborhoods where crime is concentra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t dots</a:t>
            </a:r>
            <a:r>
              <a:rPr b="0" lang="en-US" sz="1200" spc="-1" strike="noStrike">
                <a:solidFill>
                  <a:srgbClr val="000000"/>
                </a:solidFill>
                <a:latin typeface="Arial"/>
              </a:rPr>
              <a:t> – are locations with high crime leve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shows Hot Lines, Hot Areas, and Hot Do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t spots can be multi-faceted and multi-tiered - </a:t>
            </a:r>
            <a:r>
              <a:rPr b="0" lang="en-US" sz="1200" spc="-1" strike="noStrike">
                <a:solidFill>
                  <a:srgbClr val="000000"/>
                </a:solidFill>
                <a:latin typeface="Arial"/>
              </a:rPr>
              <a:t>This map shows homicides, gang territories, open air drug markets, and legal liquor establishments (bars) all in close proximity.  It also illustrates the close proximity of the two police sta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 how hot spots develop</a:t>
            </a:r>
            <a:r>
              <a:rPr b="0" lang="en-US" sz="1200" spc="-1" strike="noStrike">
                <a:solidFill>
                  <a:srgbClr val="000000"/>
                </a:solidFill>
                <a:latin typeface="Arial"/>
              </a:rPr>
              <a:t> – Analysts often examine hot spots by use of geography alone.  This can often be a useful starting point, but to reduce or eliminate the hot spot you must look deeper to understand why it is a hot spot.  There are three kinds of hot spot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 generators</a:t>
            </a:r>
            <a:r>
              <a:rPr b="0" lang="en-US" sz="1200" spc="-1" strike="noStrike">
                <a:solidFill>
                  <a:srgbClr val="000000"/>
                </a:solidFill>
                <a:latin typeface="Arial"/>
              </a:rPr>
              <a:t> – are places to which large numbers of people are attracted for reasons unrelated to criminal motivation.  i.e. shopping areas, transportation hubs, sporting event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 attractors</a:t>
            </a:r>
            <a:r>
              <a:rPr b="0" lang="en-US" sz="1200" spc="-1" strike="noStrike">
                <a:solidFill>
                  <a:srgbClr val="000000"/>
                </a:solidFill>
                <a:latin typeface="Arial"/>
              </a:rPr>
              <a:t> – are places affording many criminal opportunities that are well known to offenders. Examples:  prostitution and drug area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 enablers</a:t>
            </a:r>
            <a:r>
              <a:rPr b="0" lang="en-US" sz="1200" spc="-1" strike="noStrike">
                <a:solidFill>
                  <a:srgbClr val="000000"/>
                </a:solidFill>
                <a:latin typeface="Arial"/>
              </a:rPr>
              <a:t> – occur when there is little regulation of behavior at places:  rules of conduct are absent or are not enforced.  Example: The removal of a parking lot attendant allows people to loiter in the parking area which results in an increase in thefts from vehicle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Ron Glensor, Reno Police Departm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ies are environments with special functions.  Educational facilities involve teaching and study.  Industrial facilities produce and process materials.  Some facilities are frequent sites for crime and incivilities.  These include taverns, parks, railway stations, payphone booths, convenience stores and public housing projects.  These facilities make a disproportionately large contribution to crime and disorder – they are “risky facilities”. (See Step 28 of the 60 Steps Guid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y facilities can also be “hot dots” or specific places where lots of crimes are occurring.  </a:t>
            </a:r>
            <a:r>
              <a:rPr b="0" lang="en-US" sz="1200" spc="-1" strike="noStrike">
                <a:solidFill>
                  <a:srgbClr val="000000"/>
                </a:solidFill>
                <a:latin typeface="Arial"/>
              </a:rPr>
              <a:t>So a risky facility can be a hot spot, but a hot spot may or may not be a risky facil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ndom Variation</a:t>
            </a:r>
            <a:r>
              <a:rPr b="0" lang="en-US" sz="1000" spc="-1" strike="noStrike">
                <a:solidFill>
                  <a:srgbClr val="000000"/>
                </a:solidFill>
                <a:latin typeface="Arial"/>
              </a:rPr>
              <a:t> – It is possible to get concentrations of crime in a few places through some fluke of randomness. This is more likely to occur when you are looking at only a few facilities with a few incide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rting Practices</a:t>
            </a:r>
            <a:r>
              <a:rPr b="0" lang="en-US" sz="1000" spc="-1" strike="noStrike">
                <a:solidFill>
                  <a:srgbClr val="000000"/>
                </a:solidFill>
                <a:latin typeface="Arial"/>
              </a:rPr>
              <a:t> – Some facilities might always report crimes to the police, while others experiencing the same number of incidents might report many few of th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y Targets</a:t>
            </a:r>
            <a:r>
              <a:rPr b="0" lang="en-US" sz="1000" spc="-1" strike="noStrike">
                <a:solidFill>
                  <a:srgbClr val="000000"/>
                </a:solidFill>
                <a:latin typeface="Arial"/>
              </a:rPr>
              <a:t> – Some facilities contain many targe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t Products</a:t>
            </a:r>
            <a:r>
              <a:rPr b="0" lang="en-US" sz="1000" spc="-1" strike="noStrike">
                <a:solidFill>
                  <a:srgbClr val="000000"/>
                </a:solidFill>
                <a:latin typeface="Arial"/>
              </a:rPr>
              <a:t> – A risky facility may not have a large number of targets, but it might have targets that are particularly “ho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cation</a:t>
            </a:r>
            <a:r>
              <a:rPr b="0" lang="en-US" sz="1000" spc="-1" strike="noStrike">
                <a:solidFill>
                  <a:srgbClr val="000000"/>
                </a:solidFill>
                <a:latin typeface="Arial"/>
              </a:rPr>
              <a:t> – Facilities located in high crime areas, perhaps where many habitual offenders live, are more likely to be crime risks.  This is because offenders prefer not to travel far to commit crime (step 16)</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eat Victimization</a:t>
            </a:r>
            <a:r>
              <a:rPr b="0" lang="en-US" sz="1000" spc="-1" strike="noStrike">
                <a:solidFill>
                  <a:srgbClr val="000000"/>
                </a:solidFill>
                <a:latin typeface="Arial"/>
              </a:rPr>
              <a:t> -  Some places attract people who are particularly vulnerable to crim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ime Attractors</a:t>
            </a:r>
            <a:r>
              <a:rPr b="0" lang="en-US" sz="1000" spc="-1" strike="noStrike">
                <a:solidFill>
                  <a:srgbClr val="000000"/>
                </a:solidFill>
                <a:latin typeface="Arial"/>
              </a:rPr>
              <a:t> -  Facilities that draw in large number of offenders are crime attractors (Step 15).  Crime attractors have high numbers of offenses and high offense r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or Management</a:t>
            </a:r>
            <a:r>
              <a:rPr b="0" lang="en-US" sz="1000" spc="-1" strike="noStrike">
                <a:solidFill>
                  <a:srgbClr val="000000"/>
                </a:solidFill>
                <a:latin typeface="Arial"/>
              </a:rPr>
              <a:t> – When owners or managers do not exercise proper control or management a risky facility can develop.</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t>
            </a:r>
            <a:r>
              <a:rPr b="0" lang="en-US" sz="1000" spc="-1" strike="noStrike">
                <a:solidFill>
                  <a:srgbClr val="000000"/>
                </a:solidFill>
                <a:latin typeface="Arial"/>
              </a:rPr>
              <a:t>Clarke R.V. and Eck, J.E. (2005). Crime Analysis for Problem-Solvers in 60 Small Steps.  Washington, DC. Office of Community Oriented Policing Service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ies are environments with special functions.  Educational facilities involve teaching and study.  Industrial facilities produce and process materials.  Some facilities are frequent sites for crime and incivilities.  These include taverns, parks, railway stations, payphone booths, convenience stores and public housing projects.  These facilities make a disproportionately large contribution to crime and disorder – they are “risky faciliti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lso has a more precise meaning.  It refers to the fact that within each type of facility, a few specific facilities are especially risky.</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can also be particularly risky facilities within the categories of risky facilities.  For example, the corner store is a very high risk convenience store, which is generally a risky facilit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Zahm, Diane (2006).  </a:t>
            </a:r>
            <a:r>
              <a:rPr b="1" i="1" lang="en-US" sz="1200" spc="-1" strike="noStrike">
                <a:solidFill>
                  <a:srgbClr val="000000"/>
                </a:solidFill>
                <a:latin typeface="Arial"/>
              </a:rPr>
              <a:t>Using Crime Prevention Through Environmental Design as a Problem-Solving Tool</a:t>
            </a:r>
            <a:r>
              <a:rPr b="0" lang="en-US" sz="1200" spc="-1" strike="noStrike">
                <a:solidFill>
                  <a:srgbClr val="000000"/>
                </a:solidFill>
                <a:latin typeface="Arial"/>
              </a:rPr>
              <a:t>.  Unpublished draft of a POP Guide.  Coming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Zahm, Diane (2006).  </a:t>
            </a:r>
            <a:r>
              <a:rPr b="1" i="1" lang="en-US" sz="1200" spc="-1" strike="noStrike">
                <a:solidFill>
                  <a:srgbClr val="000000"/>
                </a:solidFill>
                <a:latin typeface="Arial"/>
              </a:rPr>
              <a:t>Using Crime Prevention Through Environmental Design as a Problem-Solving Tool</a:t>
            </a:r>
            <a:r>
              <a:rPr b="0" lang="en-US" sz="1200" spc="-1" strike="noStrike">
                <a:solidFill>
                  <a:srgbClr val="000000"/>
                </a:solidFill>
                <a:latin typeface="Arial"/>
              </a:rPr>
              <a:t>.  Unpublished draft of a POP Guide.  Coming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Zahm, Diane (2006).  </a:t>
            </a:r>
            <a:r>
              <a:rPr b="1" i="1" lang="en-US" sz="1200" spc="-1" strike="noStrike">
                <a:solidFill>
                  <a:srgbClr val="000000"/>
                </a:solidFill>
                <a:latin typeface="Arial"/>
              </a:rPr>
              <a:t>Using Crime Prevention Through Environmental Design as a Problem-Solving Tool</a:t>
            </a:r>
            <a:r>
              <a:rPr b="0" lang="en-US" sz="1200" spc="-1" strike="noStrike">
                <a:solidFill>
                  <a:srgbClr val="000000"/>
                </a:solidFill>
                <a:latin typeface="Arial"/>
              </a:rPr>
              <a:t>.  Unpublished draft of a POP Guide.  Coming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Control access by creating both real and perceptual barriers to entry and movement - </a:t>
            </a:r>
            <a:r>
              <a:rPr b="0" lang="en-US" sz="800" spc="-1" strike="noStrike">
                <a:solidFill>
                  <a:srgbClr val="000000"/>
                </a:solidFill>
                <a:latin typeface="Arial"/>
              </a:rPr>
              <a:t>The environment must offer cues about who belongs in a place, when they are supposed to be there, where they are allowed to be while they are there, what they should be doing, and how long they should stay. Users/guardians can also serve as access control if they pay attention to people and activities and report unwanted behaviors to the appropriate authoritie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ampl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ences, tree lines, hedges, or berms define the boundaries of a sit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rives, sidewalks, paths and gardens guide movement through a sit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gates and doors limit points of entry to a site or build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igns direct movement, provide information, define appropriate activities and schedules, and identify intended users (e.g., “Employees On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onsistent use of colors or materials – in buildings, pavers, light fixtures, and landscaping – create an identit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esign features may be supported by locks, and enhanced with alarm systems or guards, depending on the situati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a:t>
            </a:r>
            <a:r>
              <a:rPr b="1" lang="en-US" sz="800" spc="-1" strike="noStrike">
                <a:solidFill>
                  <a:srgbClr val="000000"/>
                </a:solidFill>
                <a:latin typeface="Arial"/>
              </a:rPr>
              <a:t>Take advantage of design to provide opportunities to see and be seen - </a:t>
            </a:r>
            <a:r>
              <a:rPr b="0" lang="en-US" sz="800" spc="-1" strike="noStrike">
                <a:solidFill>
                  <a:srgbClr val="000000"/>
                </a:solidFill>
                <a:latin typeface="Arial"/>
              </a:rPr>
              <a:t>This includes opportunities to see from adjacent properties or the site perimeter onto the site, and possibly to see parking areas and buildings; opportunities to see from one part of the site to another; and opportunities to see parking, walkways, and other areas of the site from various locations inside the building. These design elements need to be supported by potential observers (they actually need to </a:t>
            </a:r>
            <a:r>
              <a:rPr b="0" i="1" lang="en-US" sz="800" spc="-1" strike="noStrike">
                <a:solidFill>
                  <a:srgbClr val="000000"/>
                </a:solidFill>
                <a:latin typeface="Arial"/>
              </a:rPr>
              <a:t>look for</a:t>
            </a:r>
            <a:r>
              <a:rPr b="0" lang="en-US" sz="800" spc="-1" strike="noStrike">
                <a:solidFill>
                  <a:srgbClr val="000000"/>
                </a:solidFill>
                <a:latin typeface="Arial"/>
              </a:rPr>
              <a:t> and then </a:t>
            </a:r>
            <a:r>
              <a:rPr b="0" i="1" lang="en-US" sz="800" spc="-1" strike="noStrike">
                <a:solidFill>
                  <a:srgbClr val="000000"/>
                </a:solidFill>
                <a:latin typeface="Arial"/>
              </a:rPr>
              <a:t>report</a:t>
            </a:r>
            <a:r>
              <a:rPr b="0" lang="en-US" sz="800" spc="-1" strike="noStrike">
                <a:solidFill>
                  <a:srgbClr val="000000"/>
                </a:solidFill>
                <a:latin typeface="Arial"/>
              </a:rPr>
              <a:t> unusual behavior), and by policies and procedures, for example, related to landscape maintenan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ampl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ighting improves the ability to observe activity and identify individual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indows afford views from inside to outside and outside to insid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uilding location and orientation can create or remove view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oper selection of trees, shrubs and other plant species, combined with regular maintenance, can minimize the conflict between lighting and landscaping and ensure that views on, off and around the site are preserved over the long-ter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urniture arrangements, window treatments and other elements of the interior design can support observation and encourage guardianship</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esign features may be supported by physical security (CCTV) or guards when circumstances require them</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a:t>
            </a:r>
            <a:r>
              <a:rPr b="1" lang="en-US" sz="800" spc="-1" strike="noStrike">
                <a:solidFill>
                  <a:srgbClr val="000000"/>
                </a:solidFill>
                <a:latin typeface="Arial"/>
              </a:rPr>
              <a:t>Use design to define ownership and encourage maintenance of territories - </a:t>
            </a:r>
            <a:r>
              <a:rPr b="0" lang="en-US" sz="800" spc="-1" strike="noStrike">
                <a:solidFill>
                  <a:srgbClr val="000000"/>
                </a:solidFill>
                <a:latin typeface="Arial"/>
              </a:rPr>
              <a:t>As mentioned previously the design should provide cues about who belongs and what they are allowed to do. Administrative support in the form of rules and regulations regarding use and maintenance can be critical to the success of various design application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ampl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ences, hedges, tree lines or planter boxes separate spac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hanges in elevation, or variations in paving or flooring materials, define transitions from public to private spac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gardens, artwork and furniture individualize spaces and show that someone cares and is paying attenti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igns establish ownership and any limits on us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uildings, yards, gardens, sidewalks, and other features are well maintained, clean and in working order, which is a sign of guardianship</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esign features may be supported by locks, alarm systems, CCTV, guards or other security measures in some situation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PTED is a crime prevention program; it focuses on design, not safety, and on productive use, not security.  Design features are “supported” by locks, guards and alarms. Target hardening and security measures are not the primary means for improvement.  Many of the tools and techniques of CPTED fall outside the purview of policing.  CPTED is a team effort, one that officers participate in but do not necessarily contro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Zahm, Diane (2006).  </a:t>
            </a:r>
            <a:r>
              <a:rPr b="1" i="1" lang="en-US" sz="800" spc="-1" strike="noStrike">
                <a:solidFill>
                  <a:srgbClr val="000000"/>
                </a:solidFill>
                <a:latin typeface="Arial"/>
              </a:rPr>
              <a:t>Using Crime Prevention Through Environmental Design as a Problem-Solving Tool</a:t>
            </a:r>
            <a:r>
              <a:rPr b="0" lang="en-US" sz="800" spc="-1" strike="noStrike">
                <a:solidFill>
                  <a:srgbClr val="000000"/>
                </a:solidFill>
                <a:latin typeface="Arial"/>
              </a:rPr>
              <a:t>.  Unpublished draft of a POP Guide.  Coming soon.</a:t>
            </a:r>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Zahm, Diane (2006).  </a:t>
            </a:r>
            <a:r>
              <a:rPr b="1" i="1" lang="en-US" sz="1200" spc="-1" strike="noStrike">
                <a:solidFill>
                  <a:srgbClr val="000000"/>
                </a:solidFill>
                <a:latin typeface="Arial"/>
              </a:rPr>
              <a:t>Using Crime Prevention Through Environmental Design as a Problem-Solving Tool</a:t>
            </a:r>
            <a:r>
              <a:rPr b="0" lang="en-US" sz="1200" spc="-1" strike="noStrike">
                <a:solidFill>
                  <a:srgbClr val="000000"/>
                </a:solidFill>
                <a:latin typeface="Arial"/>
              </a:rPr>
              <a:t>.  Unpublished draft of a POP Guide.  Coming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choice is often combined with routine activity theory to explain criminal behavior during the crime event (Clarke and Felson,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tine activity approach was used to demonstrate that increases in residential burglary in the United States between 1960 and 1970 could be largely explained by changes in the routine activities of households.  During this time period, the number of empty homes during the day increased as the number of single-person households and female participation in the workforce grew.  At the same time, households increasingly contained attractive items to steal, such as portable televisions and other electronic goods.  Burglary increased as fewer capable guardians were present in the home to protect the new suitable targets from burg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Braga, Anthony (2002).  Problem-Oriented Policing and Crime Prevention, Criminal Justice Press. Monsey, 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Displacement theory</a:t>
            </a:r>
            <a:r>
              <a:rPr b="0" lang="en" sz="1200" spc="-1" strike="noStrike">
                <a:solidFill>
                  <a:srgbClr val="000000"/>
                </a:solidFill>
                <a:latin typeface="Arial"/>
              </a:rPr>
              <a:t> argues that removing opportunity for crime or seeking to prevent a crime by changing the situation in which it occurs (see Situational Crime Prevention) does not actually prevent crime but merely moves it arou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There are five main ways in which crime is moved arou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Crime can be moved from one location to another (geographical displacement) – Since this module is focused 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Crime can be moved from one time to another (temporal displac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Crime can be directed away from one target to another (target displac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One method of committing crime can be substituted for another (tactical displac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One kind of crime can be substituted for another (crime type displac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Felson and Clarke, 199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 (see steps 11 and 1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Displacement theory</a:t>
            </a:r>
            <a:r>
              <a:rPr b="0" lang="en" sz="1200" spc="-1" strike="noStrike">
                <a:solidFill>
                  <a:srgbClr val="000000"/>
                </a:solidFill>
                <a:latin typeface="Arial"/>
              </a:rPr>
              <a:t> argues that removing opportunity for crime or seeking to prevent a crime by changing the situation in which it occurs (see Situational Crime Prevention) does not actually prevent crime but merely moves it aroun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There are five main ways in which crime is moved around:</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Crime can be moved from one location to another (geographical displacement) – Since this module is focused o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Crime can be moved from one time to another (temporal displacement)</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Crime can be directed away from one target to another (target displacement)</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One method of committing crime can be substituted for another (tactical displacement)</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One kind of crime can be substituted for another (crime type displacemen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Felson and Clarke, 1998)</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 (see steps 11 and 1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Although this may suggest that displacement is always negative, there can be some positive effects and another way of looking at displacement is perhaps in terms of the effects of any displac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Positive</a:t>
            </a:r>
            <a:r>
              <a:rPr b="0" lang="en" sz="1200" spc="-1" strike="noStrike">
                <a:solidFill>
                  <a:srgbClr val="000000"/>
                </a:solidFill>
                <a:latin typeface="Arial"/>
              </a:rPr>
              <a:t> – a crime is displaced to a less serious type of crime or a crime with greater risk, with lower rewards or causing less serious damage. It represents a success since it produces a net gai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Neutral</a:t>
            </a:r>
            <a:r>
              <a:rPr b="0" lang="en" sz="1200" spc="-1" strike="noStrike">
                <a:solidFill>
                  <a:srgbClr val="000000"/>
                </a:solidFill>
                <a:latin typeface="Arial"/>
              </a:rPr>
              <a:t> – a crime is displaced to one of the same seriousness, of the same risk, rewards and damag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Even-handed</a:t>
            </a:r>
            <a:r>
              <a:rPr b="0" lang="en" sz="1200" spc="-1" strike="noStrike">
                <a:solidFill>
                  <a:srgbClr val="000000"/>
                </a:solidFill>
                <a:latin typeface="Arial"/>
              </a:rPr>
              <a:t> – prevention is concentrated on those who are repeatedly victimised in order to achieve a more equitable distribution of crim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Negative</a:t>
            </a:r>
            <a:r>
              <a:rPr b="0" lang="en" sz="1200" spc="-1" strike="noStrike">
                <a:solidFill>
                  <a:srgbClr val="000000"/>
                </a:solidFill>
                <a:latin typeface="Arial"/>
              </a:rPr>
              <a:t> – a crime is displaced to a more serious crime, a crime with greater reward or greater social cos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Arial"/>
              </a:rPr>
              <a:t>Attractive</a:t>
            </a:r>
            <a:r>
              <a:rPr b="0" lang="en" sz="1200" spc="-1" strike="noStrike">
                <a:solidFill>
                  <a:srgbClr val="000000"/>
                </a:solidFill>
                <a:latin typeface="Arial"/>
              </a:rPr>
              <a:t> – activities and/or places attract crime from other areas or activities (eg ‘red light’ districts attract customers from other areas, as well as other criminal activi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There is a great deal of discussion about the nature and extent of crime displacement and while there are examples of apparent displacement, there are many studies which report that displacement did not occur at all, or only to a limited extent.  See, for example, Crime displacement: The perceptions, problems, evidence and supporting theory at http://www.crimereduction.co.uk/skills10.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Displacement is always a threat to crime prevention and needs to be considered in crime reduction work, but there are strong theoretical reasons for believing it is far from inevitable.  Even when it can be shown to occur, it may be far from complete displacement, giving important net reductions in cr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Arial"/>
              </a:rPr>
              <a:t>Source:  </a:t>
            </a:r>
            <a:r>
              <a:rPr b="0" lang="en-US" sz="1200" spc="-1" strike="noStrike">
                <a:solidFill>
                  <a:srgbClr val="000000"/>
                </a:solidFill>
                <a:latin typeface="Arial"/>
              </a:rPr>
              <a:t>http://www.crimereduction.gov.uk/learningzone/displacement_theory.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Arial"/>
              </a:rPr>
              <a:t>Although this may suggest that displacement is always negative, there can be some positive effects and another way of looking at displacement is perhaps in terms of the effects of any displace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000" spc="-1" strike="noStrike">
                <a:solidFill>
                  <a:srgbClr val="000000"/>
                </a:solidFill>
                <a:latin typeface="Arial"/>
              </a:rPr>
              <a:t>Positive</a:t>
            </a:r>
            <a:r>
              <a:rPr b="0" lang="en" sz="1000" spc="-1" strike="noStrike">
                <a:solidFill>
                  <a:srgbClr val="000000"/>
                </a:solidFill>
                <a:latin typeface="Arial"/>
              </a:rPr>
              <a:t> – a crime is displaced to a less serious type of crime or a crime with greater risk, with lower rewards or causing less serious damage. It represents a success since it produces a net gain.</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000" spc="-1" strike="noStrike">
                <a:solidFill>
                  <a:srgbClr val="000000"/>
                </a:solidFill>
                <a:latin typeface="Arial"/>
              </a:rPr>
              <a:t>Neutral</a:t>
            </a:r>
            <a:r>
              <a:rPr b="0" lang="en" sz="1000" spc="-1" strike="noStrike">
                <a:solidFill>
                  <a:srgbClr val="000000"/>
                </a:solidFill>
                <a:latin typeface="Arial"/>
              </a:rPr>
              <a:t> – a crime is displaced to one of the same seriousness, of the same risk, rewards and damag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000" spc="-1" strike="noStrike">
                <a:solidFill>
                  <a:srgbClr val="000000"/>
                </a:solidFill>
                <a:latin typeface="Arial"/>
              </a:rPr>
              <a:t>Even-handed</a:t>
            </a:r>
            <a:r>
              <a:rPr b="0" lang="en" sz="1000" spc="-1" strike="noStrike">
                <a:solidFill>
                  <a:srgbClr val="000000"/>
                </a:solidFill>
                <a:latin typeface="Arial"/>
              </a:rPr>
              <a:t> – prevention is concentrated on those who are repeatedly victimised in order to achieve a more equitable distribution of crim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000" spc="-1" strike="noStrike">
                <a:solidFill>
                  <a:srgbClr val="000000"/>
                </a:solidFill>
                <a:latin typeface="Arial"/>
              </a:rPr>
              <a:t>Negative</a:t>
            </a:r>
            <a:r>
              <a:rPr b="0" lang="en" sz="1000" spc="-1" strike="noStrike">
                <a:solidFill>
                  <a:srgbClr val="000000"/>
                </a:solidFill>
                <a:latin typeface="Arial"/>
              </a:rPr>
              <a:t> – a crime is displaced to a more serious crime, a crime with greater reward or greater social cost.</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1000" spc="-1" strike="noStrike">
                <a:solidFill>
                  <a:srgbClr val="000000"/>
                </a:solidFill>
                <a:latin typeface="Arial"/>
              </a:rPr>
              <a:t>Attractive</a:t>
            </a:r>
            <a:r>
              <a:rPr b="0" lang="en" sz="1000" spc="-1" strike="noStrike">
                <a:solidFill>
                  <a:srgbClr val="000000"/>
                </a:solidFill>
                <a:latin typeface="Arial"/>
              </a:rPr>
              <a:t> – activities and/or places attract crime from other areas or activities (eg ‘red light’ districts attract customers from other areas, as well as other criminal activit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Arial"/>
              </a:rPr>
              <a:t>There is a great deal of discussion about the nature and extent of crime displacement and while there are examples of apparent displacement, there are many studies which report that displacement did not occur at all, or only to a limited extent.  See, for example, Crime displacement: The perceptions, problems, evidence and supporting theory at http://www.crimereduction.co.uk/skills10.ht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Arial"/>
              </a:rPr>
              <a:t>Displacement is always a threat to crime prevention and needs to be considered in crime reduction work, but there are strong theoretical reasons for believing it is far from inevitable.  Even when it can be shown to occur, it may be far from complete displacement, giving important net reductions in crim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000" spc="-1" strike="noStrike">
                <a:solidFill>
                  <a:srgbClr val="000000"/>
                </a:solidFill>
                <a:latin typeface="Arial"/>
              </a:rPr>
              <a:t>Source:  </a:t>
            </a:r>
            <a:r>
              <a:rPr b="0" lang="en-US" sz="1000" spc="-1" strike="noStrike">
                <a:solidFill>
                  <a:srgbClr val="000000"/>
                </a:solidFill>
                <a:latin typeface="Arial"/>
              </a:rPr>
              <a:t>http://www.crimereduction.gov.uk/learningzone/displacement_theory.htm</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 (See Step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r>
              <a:rPr b="0" lang="en-US" sz="1200" spc="-1" strike="noStrike">
                <a:solidFill>
                  <a:srgbClr val="000000"/>
                </a:solidFill>
                <a:latin typeface="Arial"/>
              </a:rPr>
              <a:t> – Displacement and diffusion of benefits for burglary of apar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 Clarke R.V. and Eck, J.E. (2005). Crime Analysis for Problem-Solvers in 60 Small Steps.  Washington, DC. Office of Community Oriented Policing Services.  (see step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a:t>
            </a:r>
            <a:r>
              <a:rPr b="0" lang="en-US" sz="1200" spc="-1" strike="noStrike" u="sng">
                <a:solidFill>
                  <a:srgbClr val="000000"/>
                </a:solidFill>
                <a:uFillTx/>
                <a:latin typeface="Arial"/>
              </a:rPr>
              <a:t>http://www.popcenter.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rs have argued that closing neighborhood streets and alleys can prevent crime because there is a relationship between street access and crime rates. The details of the argument are as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nders find targets in familiar territory. They gain knowledge about vulnerable areas and potential opportunities through their contacts with other offenders and through their daily routines, such as hanging out with friends, traveling to work, and going to the movies. This means that frequently traveled streets are more vulnerable to cr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nders are quick to recognize a closely knit neighborhood and the presence of people who might notice them. From litter and other signs of neglect, they can judge whether they are likely to be challenged if they deal drugs or solicit for prostitu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glars avoid cul-de-sacs and prefer corner sites where neighbors are less likely to see them. Offenders look for heavily traveled streets and locations near major highways, where there are many potential victims and where they can easily escap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larke, R.V. (2004). Closing Streets and Alleys to Reduce Crime:  Should You Go Down This Road?, Problem-Solving Response Guides Series, No. 2.  Washington DC:  Office of Community Oriented Policing Services, U.S. Department of Justice.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ucing through-traffic by closing streets or alleys means th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inal outsiders are less likely to become familiar with the area;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ents learn who does not belong in the neighborhood, which helps them to more effectively keep watch on the streets near their homes;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ents committing crime in their own neighborhood cannot so easily blame outsiders and thus deflect suspicion from themselves;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glars cannot so easily gain access to properties, especially from alleys behind houses;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pe routes for robbers are blocked off ; and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by shootings are prevented because cars cannot easily enter a street, or because they have to backtrack to escape, exposing them to retaliation from those shot at. </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findings are generally consistent with this the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s with street layouts that permit easy access experience more crime than areas with restricted access and complicated street pattern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udy in Vancouver, British Columbia, found that the more entrances to a street, the more crime on that street. Most research supports the idea that burglars avoid houses in cul-de-sacs, unless these abut wooded areas or wasteland affording access from the rea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udy of 86 Norfolk, Va., neighborhoods found that those with high burglary rates had a larger number of access points from arterial road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rly study comparing adjacent high- and low-crime neighborhoods found that the low-crime areas did not have major thoroughfar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truction of a major highway led to the closing of all cross streets in Pompano Beach, Fla., at the highway’s right-of-way. An unexpected side effect was a dramatic reduction in drug dealing, robbery, assault, and other crime in the adjacent neighborhoods during reconstruction. Side streets were reopened after the work was done, but Pompano Beach made traffic modifications and adjusted police patrols to control access to neighborhoo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larke, R.V. (2004). Closing Streets and Alleys to Reduce Crime:  Should You Go Down This Road?, Problem-Solving Response Guides Series, No. 2.  Washington DC:  Office of Community Oriented Policing Services, U.S. Department of Just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 (See Step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have seen from the previous section, street and alley closures can reduce crime, but the available research cannot tell you whether closures will work in your situation. You must make that judgment yourself by interpreting the research findings in the light of your problem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f you think they will work, effectiveness is not the only thing you must consider. Street closings are often very controversial and may be strongly opposed (this is generally less true of closing alleys). While some communities have petitioned the authorities to close streets, it is more likely that, in your case, you will be trying to convince a divided community and skeptical city authorities of the likely benefits. There are several groups you will need to persuade: residents, neighboring communities, essential service providers, local politicians and officials, and the media and public at large. Do not underestimate the importance of gaining the support of all these groups, or the time and effort this might take. Table 2 summarizes the arguments they might raise both for and against clo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meeting with any of the groups, you should brief yourself on any legal requirements that must be met to bring closures into effect. Will a new local ordinance be needed? What are the steps required to bring this into effect? You should also have a clear idea of which streets should be closed and what types of barriers should be used. There are many different types, such as concrete “ Jersey barriers,” steel highway guardrails, railroad ties, planters, posts and chains, removable bollards anchored in sleeves in the road, and other purpose-built barriers. Besides varying in aesthetic appearance (which may change over time), they have different installation and maintenance costs. They can be used in combination with other traffic management measures, such as diagonal diverters, one-way streets, “no entrance” or “no turning” signs, and parking restrictions. Your proposals should include any of these that seem appropriate, especially where they can reduce the number of streets closed and the inconvenience to resi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i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ents generally express three main concerns. First, they fear that the closures will be inconvenient and will hinder everyday tasks like shopping or getting to work. Second, they think the barriers will be ugly and will stigmatize the neighborhood—they may even believe that the closures will turn the neighborhood into a ghetto. Third, they may think that closures are merely an excuse to scale back police patr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f these worries seem exaggerated, you must take them seriously and address them directly. A residents’ association can help you do this, but expect the process to be very time-consuming. You may need to meet many times with the association leaders, and you should hold open meetings for all residents to attend. Without a residents’ association, obtaining general agreement can be even more difficult, since there is no obvious person with whom to discuss the plans. Beware of self-appointed community leaders who may simply be pursuing their own agendas. You may find that local elected politicians can be very helpful in the process of reaching consen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ssential to be well prepared for meetings. You should be able to present crime data showing the proportions of crime committed by nonresidents, and you will need to discuss the limitations of alternative ways—such as increased patrols—of dealing with these outsiders. You will need large maps showing where the barriers will be placed and how residents will be able to access their homes. You will need to show that the closures will not adversely affect the provision of police and other emergency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bring along illustrations of the types of barriers you are planning to install. If your plan includes provision for a trial period with temporary barriers, bring pictures of those barriers, as well as pictures of the permanent barriers to be installed if the trial is successful. If lockable gates are to be used, you must reach agreement with the community about who will be provided with keys—whether every householder, the police, or resident association nomine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meeting should have a written agenda and should conclude with a review of the agreed actions to be taken, and by whom. If possible, you should set the time and place for the next meeting while everyone is still present. It is important to communicate a sense of urgency to all the participants, and to keep up the moment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you must be very open and clear in your approach. At all costs, avoid giving the impression that all the important decisions have already been made, and that consultation is merely a formality. Be open to alternative ideas such as closing streets during the evening hours only, redirecting traffic flows, changing parking regulations, using more one-way streets, and so forth. Make strenuous efforts to engage stakeholders who are reluctant to participate in the discussions, and try to consider the needs of resident groups such as children and teenagers, who might not be adequately represented at the meetings. Finally, it is very important that you persuade your superiors to let you remain in post until negotiations are concluded and agreement has been reached. The success of such a process depends on the trust developed between you and the other stakeholders, and nothing is more fatal to a problem-oriented project than a change of police leadership at a crucial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arby Neighborh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acent neighborhoods may fear that the closures will bring them more crime and more traffic. They may also resent what they see as preferred treatment of the neighborhood where streets are to be closed. Again, you should seek meetings with the residents’ associations of these neighborhoods and/or the local elected representatives to find ways to allay these conc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ty Officials and Essential Servic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planning officers will need to be satisfied that your proposals to close streets or alleys do not conflict with wider plans for the city. You will also need to clear your proposals with your superiors, with city traffic engineers, and with fire and ambulance services. They will all need to be sure that the closures will not pose a risk to life. Where lockable gates are used, as in alleys, police, fire, and ambulance services will need immediate access to ke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also need to discuss closures with local providers of garbage pickup, snow removal, and mail delivery—and be prepared, if necessary, to adjust your plans to meet their needs. You should also be prepared to accommodate any special needs of public transport or school bus providers serving the neighborhood. Finally, you should consider whether the closures will cause difficulty for drivers making deliveries to the area, whether parcels or furniture and appli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ublic at Large, the Media, and Politic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als to close streets can give rise to strong emotions, even among those not directly affected. Closures can be attacked as being antidemocratic and as infringing on civil liberties. Some of this opposition is a by-product of the hostility that many social commentators feel for “gated communities.”  Because these communities often cater to the rich, they are seen as having “exclusionary” and divisive consequences for society. Other social commentators cite street closings in their general condemnation of the trend toward a “fortress society,” where people live in fear behind locked doors, venturing out only when they have to, with little concern for their neighbors’ welf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can expect the local media to take an interest in your proposals. You could even find yourself at the center of civil action to prevent the closures, though court cases are more likely to result from the large-scale introduction of street closures affecting many different neighborhoods in the city. The media concerns may have little substance, and they might prove more of an irritation than a real impediment. Dealing with them will be easier if you can demonstrate the problem analyses you have undertaken, and if you carefully explain the limitations of alternative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in much more trouble if you don’t have the local elected representative’s support, and you will need to carefully plan how to approach him or her and how best to argue your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larke, R.V. (2004). Closing Streets and Alleys to Reduce Crime:  Should You Go Down This Road?, Problem-Solving Response Guides Series, No. 2.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little is known about street closures to provide you with a step-by-step guide on how to go about them, and in any case, every problem-oriented project is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therefore have to tailor general guidelines to your own situation to produce an action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larke, R.V. (2004). Closing Streets and Alleys to Reduce Crime:  Should You Go Down This Road?, Problem-Solving Response Guides Series, No. 2.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larke, R.V. (2004). Closing Streets and Alleys to Reduce Crime:  Should You Go Down This Road?, Problem-Solving Response Guides Series, No. 2.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larke, R.V. (2004). Closing Streets and Alleys to Reduce Crime:  Should You Go Down This Road?, Problem-Solving Response Guides Series, No. 2.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larke, R.V. (2004). Closing Streets and Alleys to Reduce Crime:  Should You Go Down This Road?, Problem-Solving Response Guides Series, No. 2.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or Den problems involve the Place/Manager facet of the crime triangl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larke, R.V. (2004). Closing Streets and Alleys to Reduce Crime:  Should You Go Down This Road?, Problem-Solving Response Guides Series, No. 2.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read newspaper reports about successful street closures in particular neighborhoods, or heard about them from police officers involved. Crime may indeed have been reduced, but you should always be wary of anecdotal evidence of this kind.  People like to think their projects were successful, and newspapers like to publish “feel-good” stories about communities pulling together to defeat crime. While you can learn much from these accounts—for example, how to overcome the difficulties associated with street closures—research studies generally provide more reliable evidence on effectiv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only a relatively small number of projects involving street closures have been evaluated (f or example, no published evaluations exist of substantial street-closure schemes in Dallas; Houston; Chicago; Bridgeport, Conn.; and Oakland, Calif.) and the studies that have been published tend to focus on successful projects, simply because studies of </a:t>
            </a:r>
            <a:r>
              <a:rPr b="0" i="1" lang="en-US" sz="1200" spc="-1" strike="noStrike">
                <a:solidFill>
                  <a:srgbClr val="000000"/>
                </a:solidFill>
                <a:latin typeface="Arial"/>
              </a:rPr>
              <a:t>un</a:t>
            </a:r>
            <a:r>
              <a:rPr b="0" lang="en-US" sz="1200" spc="-1" strike="noStrike">
                <a:solidFill>
                  <a:srgbClr val="000000"/>
                </a:solidFill>
                <a:latin typeface="Arial"/>
              </a:rPr>
              <a:t>successful projects are less likely to be pub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not all research studies on street closures are well designed. Properly designed studies shou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mpare the neighborhood’s crime rates </a:t>
            </a:r>
            <a:r>
              <a:rPr b="0" i="1" lang="en-US" sz="1200" spc="-1" strike="noStrike">
                <a:solidFill>
                  <a:srgbClr val="000000"/>
                </a:solidFill>
                <a:latin typeface="Arial"/>
              </a:rPr>
              <a:t>before</a:t>
            </a:r>
            <a:r>
              <a:rPr b="0" lang="en-US" sz="1200" spc="-1" strike="noStrike">
                <a:solidFill>
                  <a:srgbClr val="000000"/>
                </a:solidFill>
                <a:latin typeface="Arial"/>
              </a:rPr>
              <a:t> streets were closed with crime rates </a:t>
            </a:r>
            <a:r>
              <a:rPr b="0" i="1" lang="en-US" sz="1200" spc="-1" strike="noStrike">
                <a:solidFill>
                  <a:srgbClr val="000000"/>
                </a:solidFill>
                <a:latin typeface="Arial"/>
              </a:rPr>
              <a:t>after</a:t>
            </a:r>
            <a:r>
              <a:rPr b="0" lang="en-US" sz="1200" spc="-1" strike="noStrike">
                <a:solidFill>
                  <a:srgbClr val="000000"/>
                </a:solidFill>
                <a:latin typeface="Arial"/>
              </a:rPr>
              <a:t> they were clo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ompare the neighborhood’s crime rates with those of nearby “control” areas where streets were not closed. This helps to rule out alternative explanations for drops in crime, such as seasonal changes, intensified police enforcement, or reduced gang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ies sometimes collect other data that help in evaluating street closings, including information regarding the number of service calls, the volume of traffic, the residents’ perceptions of security, and the costs of installing gates or barriers.  In some cases, evaluations also examine whether crimes prevented by the closures have been displaced to nearby lo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three slides summarize 11 studies that evaluated street or alley closings. There is considerable variety among the projects reviewed. Several were undertaken in deprived inner-city neighborhoods, plagued by a variety of crimes. Three other projects were citywide efforts, one undertaken in an affluent Florida city. Three overseas projects focused on street prostitution. Only one (British) project specifically focused on closing alleys, though in other projects, both alleys and streets were closed. City governments and residents’ associations implemented most of the projects, though often with considerable police invol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the variety of areas and crimes covered, for some crimes and for some settings, there are no directly relevant studies to draw upon. This means the studies may not tell you whether closing streets or alleys will work in your particular situation.  This is not unusual, because there are important gaps in knowledge about effectiveness for nearly every aspect of policing, from patrol through criminal investigation. In fact, research almost never tells you </a:t>
            </a:r>
            <a:r>
              <a:rPr b="0" i="1" lang="en-US" sz="1200" spc="-1" strike="noStrike">
                <a:solidFill>
                  <a:srgbClr val="000000"/>
                </a:solidFill>
                <a:latin typeface="Arial"/>
              </a:rPr>
              <a:t>exactly</a:t>
            </a:r>
            <a:r>
              <a:rPr b="0" lang="en-US" sz="1200" spc="-1" strike="noStrike">
                <a:solidFill>
                  <a:srgbClr val="000000"/>
                </a:solidFill>
                <a:latin typeface="Arial"/>
              </a:rPr>
              <a:t> what to do in a given situation—it can only help you select responses that have a better chance of working for you. It is down to you to judge the fit between the available research and your own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three slides summarize the main features of the studies, including the type of area covered, the crimes targeted, and the results achieved.  Few of the studies are recent. Only one project—that undertaken in Charlotte, N.C.— was specifically designed as a police-led problem-oriented project, though police were active partners in the other projects.  In the past 10 years, projects submitted for the Herman Goldstein Award for Excellence in Problem-Oriented Policing have frequently included closures, but deal only with problems in shopping plazas and other commercial facilities, and problems relating to festivals and other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few of the studies are problem-oriented projects, you can still learn from them—particularly about the effectiveness of the closures. To help you decide how much weight to place on each study, the slides include ratings of the research designs’ quality: weak, adequate, or strong.  Several of the studies are rated as weak, and even those rated as adequate or strong have limitations. Few of them can separate the effects of street or alley closings from those of other measures taken at the same time, and few examine the effects on crime or disorder for more than a year. This means that little is known about street closure’s long-term ef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given the incomplete coverage of the research, the limitations of the methodology, and some inconsistencies in the results, one can draw some broad conclusions about the street and alley closures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 closures have been used for many years in the United States and elsewhere as a method of preventing crime. Only a small number of projects have been evaluated. Those with positive results are more likely to be repor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 closures are usually introduced along with other measures (such as crackdowns, neighborhood watch, and target-hardening), and it can be difficult to separate the effects of street closures from those of other measures. Nevertheless, most of the evaluations conclude that street closures have reduced crime and disorder—in some instances, quickly and dramatically. The crimes reduced include robbery, burglary, prostitution, drug dealing, assault, and drive-by shooting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 closures have been judged effective in a variety of different settings—inner-city residential neighborhoods, downtown areas, prostitution strolls, and affluent areas abutting poorer on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is known about the long-term benefits of street closures, though one study reported that the benefits were only tempora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hen closures have been found effective, streets have sometimes been reopened as a result of pressure from the local community. In some cases, barriers have been said to facilitate crime. They can slow cars down, enabling prostitutes or drug dealers to solicit customers. They can also trap unwary motorists who stray into dangerous neighborhoo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research is available on the effect of gating alleys behind properties, but one exceptionally strong study found that gating brought about large reductions in burgla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 and alley closures typically cause little displacement of crime. In some cases, the benefits of street closures can spread beyond the closure area (a phenomenon researchers call “diffusion of benefi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is known about the cost-effectiveness of street closings. One study of alley closures found them to be highly cost-effective. Within one year, the savings from burglaries prevented were much greater than the costs of installing the g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a:t>
            </a:r>
            <a:r>
              <a:rPr b="1" lang="en-US" sz="1200" spc="-1" strike="noStrike">
                <a:solidFill>
                  <a:srgbClr val="000000"/>
                </a:solidFill>
                <a:latin typeface="Arial"/>
              </a:rPr>
              <a:t>research has shown that street and alley closures can reduce crime in a variety of different settings.</a:t>
            </a:r>
            <a:r>
              <a:rPr b="0" lang="en-US" sz="1200" spc="-1" strike="noStrike">
                <a:solidFill>
                  <a:srgbClr val="000000"/>
                </a:solidFill>
                <a:latin typeface="Arial"/>
              </a:rPr>
              <a:t> However, research is absent or sparse for some crimes and settings. In addition, the studies do not separate the benefits of closures from those of other measures taken at the same time. Follow-up is typically short, and little is known about the long-term benefits of street and alley closures. Finally, the studies provide little information about whether the savings in crime outweigh the costs of the clo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FOR EACH OF THE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A Declining Inner-City Neighborhood in Hartford, Con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first reported projects to use street closures in the United States was undertaken in Asylum Hill, a declining inner-city neighborhood in Hartford, Conn.  In an attempt to deal with burglary, mugging, and purse-snatching, four streets were closed using large planters, some streets were made one-way, and entrances to several streets were narrowed. At the same time, neighborhood policing was introduced, as well as a scheme to encourage the development of community groups and residents’ organizations. Subsequent evaluations compared crime in the area with that in an adjacent control area. Victim surveys showed that crime dropped immediately following the street closures, but this result did not last for long. There was little evidence that the other changes had any effect on crime, though they did reduce fear of crime and improve community cohe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design:</a:t>
            </a:r>
            <a:r>
              <a:rPr b="0" lang="en-US" sz="1200" spc="-1" strike="noStrike">
                <a:solidFill>
                  <a:srgbClr val="000000"/>
                </a:solidFill>
                <a:latin typeface="Arial"/>
              </a:rPr>
              <a:t> Adequate. This is a small but careful case study using sound crime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 Transitional Neighborhood in Dayton, Oh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idely reported project involved a 10-square-block Dayton, Ohio, neighborhood known as Five Oaks. During the late 1980s and early 1990s, this once stable, middle-income neighborhood rapidly changed into a working-class area with increasing poverty and neighborhood decay. This was accompanied by an increase in crime problems, including drug houses, gunshots, prostitution, and speeding traffic. To regain control, a neighborhood stabilization project was implemented. A major component of the project was a traffic management scheme in which 11 streets from the surrounding areas were closed to traffic, as well as 24 streets within the grid. Twenty-six alleys were also closed so that the gates could not be circumvented, creating several sub-neighborhoods. Brick columns with metal gates served as barriers, and the remaining entrances to the area were identified with brick columns bearing a logo and the name Five Oa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year after these changes were implemented, overall crime had dropped by 25 percent, with an even larger decline of 40 percent in violent crime. Resident surveys showed a reduction in the perceived seriousness of crime, including drug-related offenses, prostitution, gang problems, burglary, and viol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tive residents’ association was extensively involved in planning the project, and took responsibility for it. A high level of media attention may have promoted images of a cohesive neighborhood and deterred potential offen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design:</a:t>
            </a:r>
            <a:r>
              <a:rPr b="0" lang="en-US" sz="1200" spc="-1" strike="noStrike">
                <a:solidFill>
                  <a:srgbClr val="000000"/>
                </a:solidFill>
                <a:latin typeface="Arial"/>
              </a:rPr>
              <a:t> Strong. This is a large study, using sound crime measures, with street closings as a major compon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 Crime-Ridden, Inner-City Neighborhood in Los Ange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90, the city of Los Angeles and the police department decided to implement “ Operation Cul-de-Sac,” a community-based policing program to restore order to crime-ridden, inner-city neighborhoods. Because of the problems resulting from the Rodney King beating, the program never progressed beyond its trial in Newton, an area in south central Los Angeles. Newton covers approximately one square mile, with 5,000 residents in some 500 dwellings. In 1990, over half the households were below the poverty line. In 1988, the community was 95 percent African American, and by 1990, 60 percent of its residents were Hispanics—most of them illegal immigrants. Newton had one of the highest recorded levels of serious crime in the city and was plagued by drug activity, gang activity, and drive-by shootings.</a:t>
            </a:r>
            <a:r>
              <a:rPr b="1"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een iron gates were placed on streets to mark Newton’s outer boundary. Barriers were installed to impede drive-by shootings and drive-up drug purchase. Patrols (foot, bicycle, and horseback) were stepped up to suppress these crimes and to improve police-community relations. Officers also joined in cleanup efforts with community groups and the high school. A survey of 350 residents taken in both the first and the last month of the program found that their ratings of police officers’ politeness and helpfulness improved by over 33 perc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rriers brought about an immediate reduction in serious crimes, including drive-by shootings and homicides. For example, in 1989, the year before Operation Cul-de-Sac, seven homicides were committed in the area. In the two years after the barriers were installed, only one homicide was recorded. There was no evidence that homicides had been displaced to another neighborhood. When the barriers were removed (in the aftermath of the Rodney King beating), homicides returned to their previous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design:</a:t>
            </a:r>
            <a:r>
              <a:rPr b="0" lang="en-US" sz="1200" spc="-1" strike="noStrike">
                <a:solidFill>
                  <a:srgbClr val="000000"/>
                </a:solidFill>
                <a:latin typeface="Arial"/>
              </a:rPr>
              <a:t> Strong. This is a large study, with street closings as a major component of the intervention. Displacement/diffusion was assessed. The study’s major strength is its assessment of the effect of reopening the stre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larke, R.V. (2004). Closing Streets and Alleys to Reduce Crime:  Should You Go Down This Road?, Problem-Solving Response Guides Series, No. 2.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A Public-Housing Project in Hartford, Con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a drive-by shooting that wounded four adolescents in a large public- housing project in Hartford, the housing authority erected a barrier across the street at the site of the shooting. Violent crimes on the street decreased by 33 percent (from nine to six) during the 15 months after it was barricaded, compared with the 15-month period before. On adjoining streets and blocks, violent crime also decreased in similar proportion, indicating that no displacement occurred. The barrier had no effect on drug-related crimes on the 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design:</a:t>
            </a:r>
            <a:r>
              <a:rPr b="0" lang="en-US" sz="1200" spc="-1" strike="noStrike">
                <a:solidFill>
                  <a:srgbClr val="000000"/>
                </a:solidFill>
                <a:latin typeface="Arial"/>
              </a:rPr>
              <a:t> Weak. A carefully designed study, but only one barrier was installed, and the reduction in the number of violent crimes (from nine to six) could have been due to ch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An Inner-City, Drug-Dealing Neighborhood in Charlotte, N.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mont is a deprived inner-city neighborhood in Charlotte, well known locally for being an easy place to buy drugs on the street. The streets are laid out in a grid, and the neighborhood is easily reached from several nearby highways. Five drug-related homicides and more than 100 aggravated assaults in a nine-month period in 1998 to 1999 led to the establishment of a problem-oriented policing project in the northeastern part of the neighborhood. Analysis revealed that 60 percent of those arrested for buying or selling drugs in the area were not Belmont residents. It also revealed that distinct travel routes for drug trafficking fed vehicles from nearby highways into the area. The police decided to block two of the busiest routes by installing concrete barriers at the end of two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2-month before-and-after comparison of reported crime data showed that after the barriers were installed, violent offenses decreased by 54 percent (from 59 to 27) in the northeastern part of Belmont, and arrests fell by 42 percent. The largest drops were on the two barricaded streets. There was no evidence that violence had been displaced elsewhere in Belmont (in fact, violent offenses for Belmont as a whole dropped by 12 percent, from 236 to 206), though there was some evidence that drug activity had been displac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d by these results, the police sought to install more barriers in Belmont, but the community opposed this on the grounds that the barriers were ugly and were not a substitute for proper policing. Even after “beautification” of the two existing concrete barriers (which were replaced by posts and chains in a mulched garden), community objections to installing more barriers persisted, and the police withdrew th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design:</a:t>
            </a:r>
            <a:r>
              <a:rPr b="0" lang="en-US" sz="1200" spc="-1" strike="noStrike">
                <a:solidFill>
                  <a:srgbClr val="000000"/>
                </a:solidFill>
                <a:latin typeface="Arial"/>
              </a:rPr>
              <a:t> Adequate. A careful analysis was done, but only two barriers were insta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A Run-Down, Inner-City Neighborhood With Long-Established Street Prostitution, in Lond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sbury Park, a run-down North London neighborhood, was known for years as an area to solicit prostitutes. Residents, disheartened by police failure to control the problem, petitioned the local authority to reduce vehicle access to the area, in hopes of deterring men from cruising for prostitutes. As a result, seven streets were closed in 1985. This was preceded by an intensive police crackdown that involved a range of interventions directed toward prostitutes and their clients, pimps, and local landlords who rented short-term accommod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judged by official crime statistics, resident surveys, traffic counts, and interviews with prostitutes, this combined approach was successful. It increased residents’ sense of security, reduced the traffic volume, reduced serious crimes by about 50 percent, and improved the relationship between the police, the public, and the local authority. Finally, it did not displace the problems to adjacent communities. This seemed due to the prostitutes’ lack of deep commitment to their profession. Few were addicted or controlled by pimps. In fact, the most common reasons they gave for being prostitutes were that they could earn more money from that than from other types of work, they enjoyed the independence, and they enjoyed meeting a variety of men. Many of them came to Finsbury Park from outlying areas on cheap “away day” rail tickets. Together with other women, they rented rooms in one of the many local boarding houses or residential hotels, or they conducted business in clients’ cars. When not working as prostitutes, many of them worked as barmaids, go-go dancers, or shop assist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stitutes’ relatively light commitment to their work, and the availability of alternative ways to make money, might help explain why the researchers could find little evidence of their displacement to nearby areas in London. Of 253 women arrested for prostitution in 1984 (the year before the street closures), only 65 were still involved in prostitution in North London as of 1991. Another 50 had convictions in other parts of the country, but for the remaining 138 women, there was no record of their having been involved in prostitution after Finsbury Park was “closed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design:</a:t>
            </a:r>
            <a:r>
              <a:rPr b="0" lang="en-US" sz="1200" spc="-1" strike="noStrike">
                <a:solidFill>
                  <a:srgbClr val="000000"/>
                </a:solidFill>
                <a:latin typeface="Arial"/>
              </a:rPr>
              <a:t> Strong. Multiple before-and-after measures were used. A careful attempt was made to measure displac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 A Middle-Class, Residential Area With a Recent Problem of Street Prostitution, in Lond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ilar project in Streatham, an inner-city suburb in South London, also reduced street prostitution and related problems, but overall, it was not as successful as the Finsbury Park project. Again, the impetus for the project grew from local residents who sought to create a partnership with the police and the local authority to develop a traffic management scheme, introduced in December 1989.</a:t>
            </a:r>
            <a:r>
              <a:rPr b="1" lang="en-US" sz="1200" spc="-1" strike="noStrike">
                <a:solidFill>
                  <a:srgbClr val="000000"/>
                </a:solidFill>
                <a:latin typeface="Arial"/>
              </a:rPr>
              <a:t>20</a:t>
            </a:r>
            <a:r>
              <a:rPr b="0" lang="en-US" sz="1200" spc="-1" strike="noStrike">
                <a:solidFill>
                  <a:srgbClr val="000000"/>
                </a:solidFill>
                <a:latin typeface="Arial"/>
              </a:rPr>
              <a:t> Several streets were closed, and “no entry” signs were insta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ffic management scheme achieved many of its goals. Traffic was reduced, especially late at night, and cruising for prostitutes declined by 60 percent. Furthermore, burglary, assault, and street robbery decreased. Residents’ fear of crime decreased, and there was also evidence of improved dialogue with the police and increased community cohesion. However, there was substantial “benign” displacement of the problem to the nearby park and main commercial street—“benign” because prostitution there was considered less offensive than in the residential area. The reason given for the greater amount of displacement in Streatham was that the prostitutes there were much more committed to prostitution than those in Finsbury Pa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design:</a:t>
            </a:r>
            <a:r>
              <a:rPr b="0" lang="en-US" sz="1200" spc="-1" strike="noStrike">
                <a:solidFill>
                  <a:srgbClr val="000000"/>
                </a:solidFill>
                <a:latin typeface="Arial"/>
              </a:rPr>
              <a:t> Strong. Multiple before-and-after measures were used. Some attempt was made to measure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larke, R.V. (2004). Closing Streets and Alleys to Reduce Crime:  Should You Go Down This Road?, Problem-Solving Response Guides Series, No. 2.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 Downtown Prostitution Strolls in Vancouver, British Columb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or another between 1970 and 1989, downtown Vancouver had numerous prostitution strolls. Pressure from local residents and businesses generated numerous initiatives to “get tough” with the prostitutes. These included a series of police crackdowns, a “shame the johns” campaign, civil injunctions forbidding prostitutes from entering certain areas, and the installation of a series of “traffic diverters” to prevent cars from cruising in the stro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valuation of these initiatives concluded that, in every case, the prostitutes adapted to the changes. They moved to new strolls in the downtown area or changed their way of doing business.  With regard to the traffic diverters, the evaluation reported that shortly after these were installed, a local newspaper published a photo of a woman sitting astride one of them, waiting for a customer. Other prostitutes were reported as saying that the diverters “were ‘good for business’ because they slowed traffic down nicely.” The evaluation proposed that the traffic diverters and other measures to prevent prostitution had failed in Vancouver (while appearing to have worked in London) because more of the Vancouver women might have been supporting heroin habits or had fewer opportunities to engage in off-street prostit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design:</a:t>
            </a:r>
            <a:r>
              <a:rPr b="0" lang="en-US" sz="1200" spc="-1" strike="noStrike">
                <a:solidFill>
                  <a:srgbClr val="000000"/>
                </a:solidFill>
                <a:latin typeface="Arial"/>
              </a:rPr>
              <a:t> Weak. An interesting and persuasive case is made for adaptation and displacement as the result of street closings (and other measures), but very limited use is made of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 A Citywide Program of Street Closures in St. Lou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nuary 1984, the St. Louis Metropolitan Police Department initiated “ Operation Safestreet,</a:t>
            </a:r>
            <a:r>
              <a:rPr b="0" i="1" lang="en-US" sz="1200" spc="-1" strike="noStrike">
                <a:solidFill>
                  <a:srgbClr val="000000"/>
                </a:solidFill>
                <a:latin typeface="Arial"/>
              </a:rPr>
              <a:t>”</a:t>
            </a:r>
            <a:r>
              <a:rPr b="0" lang="en-US" sz="1200" spc="-1" strike="noStrike">
                <a:solidFill>
                  <a:srgbClr val="000000"/>
                </a:solidFill>
                <a:latin typeface="Arial"/>
              </a:rPr>
              <a:t> a multifaceted program with five components: (1) “Project Porch Light,” in which people were asked to keep porch lights on from dusk until dawn; (2) “Project Home Security,” which target-hardened homes, (3) traditional “Neighborhood Watch” ; (4) “Operation Safestreet Newsletter,” which regularly informed residents of the current crime situation; and (5) “ Project Quiet Street,” a traffic management program using street closures and diver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was phased in for the entire city over four years. Project Quiet Streetgenerated considerable public debate, two lawsuits, and one unsuccessful recall election of an alderman. Negative public reaction grew from the failure to involve citizens at the planning stage—residents began to be involved only after the program began. Consequently, after four years, only two out of nine targeted neighborhoods had permanent barriers in pl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were studied in only one of those neighborhoods, but a comparison was made with a nearby “control” area that did not have street closures. It was found that crime rates fluctuated randomly, with no real decrease attributable to the street closures. However, a review of five years of data following introduction of the barriers showed lower rates of increases in burglary where streets were mod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design:</a:t>
            </a:r>
            <a:r>
              <a:rPr b="0" lang="en-US" sz="1200" spc="-1" strike="noStrike">
                <a:solidFill>
                  <a:srgbClr val="000000"/>
                </a:solidFill>
                <a:latin typeface="Arial"/>
              </a:rPr>
              <a:t> Adequate. The study is distinguished by an unusually long follow-up, but only one neighborhood was stud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 A Citywide “Alley-Gating” Program in Liverpool, Eng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pool is an older city in the United Kingdom. Much of the city’s housing consists of row houses, which can be accessed from lanes running behind them. These lanes have contributed to high burglary rates in many parts of the city, and for a number of years, the city has pursued an intensive program of “alley-gating.” This involves installing robust, lockable gates to block alleys and thus restrict burglars’ access to the rear of houses. Gate keys are available only to residents of the houses secured by the g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ent evaluation covered a total of 3,178 alley gates, protecting 106 blocks of housing.  The gates protected distinct blocks of adjacent housing, typically containing around 360 houses. It was found that burglary decreased by approximately 37 percent in the gated areas, and that burglary declined in direct proportion to the number of gates installed over time. Moreover, there was a large reduction in burglaries where offenders gained access via the rear of the property. There was a small increase in the proportion of burglaries where offenders gained access through the front or side of the property, indicating possible displacement, but the changes observed were unrelated to the timing and intensity of implementation. Finally, burglaries declined in nearby areas not within the boundaries of the alley-gating scheme, suggesting there had been a diffusion of benefits to unprotected ho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cost-benefit analysis indicated that once the gates had been in place for a year or more, they became cost-beneficial, with a return of around $1.86 for every dollar sp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design:</a:t>
            </a:r>
            <a:r>
              <a:rPr b="0" lang="en-US" sz="1200" spc="-1" strike="noStrike">
                <a:solidFill>
                  <a:srgbClr val="000000"/>
                </a:solidFill>
                <a:latin typeface="Arial"/>
              </a:rPr>
              <a:t> Strong. In fact, the combination of the large number of alley gates covered in the evaluation, the effort made to examine displacement/diffusion, and the cost-benefit analysis undertaken make this by far the strongest study reviewed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 An Affluent Suburban City in Flor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ami Shores was once a quiet suburban community near Miami. Following major growth in Miami- Dade County, commuter traffic increased, and soon after, crime also increased substantially. In 1986, city officials decided to close 67 streets as part of a citywide strategy to curb traffic, speeding, and crime problems—primarily property crime. The referendum on the street closures passed with a 58 percent majority vote, despite much negative publicity generated by a small but vocal minority. Implementation started in July 1988 and ended in March 1991. In August 1992, a second phase of 28 street closures was proposed, but only eight were approved in the referend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efore-and-after examination of crime rates found that Miami Shores showed small declines for burglary, larceny, and auto theft. Rates were unchanged for robbery and aggravated assault. In contrast, Miami showed significant increases for all of the above crimes, and Miami- Dade County showed a general upward trend across crime categories. The evaluators attributed the generally favorable results in Miami Shores to the barr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earch design:</a:t>
            </a:r>
            <a:r>
              <a:rPr b="0" lang="en-US" sz="1200" spc="-1" strike="noStrike">
                <a:solidFill>
                  <a:srgbClr val="000000"/>
                </a:solidFill>
                <a:latin typeface="Arial"/>
              </a:rPr>
              <a:t> Weak. This was a large study, but the evaluation did not explore alternative explanations for the unchanged crime rates in Miami Shores compared with the rest of Miami- Dade County. Nor did it examine possible displac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Clarke, R.V. (2004). Closing Streets and Alleys to Reduce Crime:  Should You Go Down This Road?, Problem-Solving Response Guides Series, No. 2.  Washington DC:  Office of Community Oriented Policing Services, U.S. Department of Jus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80-20 rule</a:t>
            </a:r>
            <a:r>
              <a:rPr b="0" lang="en-US" sz="1200" spc="-1" strike="noStrike">
                <a:solidFill>
                  <a:srgbClr val="000000"/>
                </a:solidFill>
                <a:latin typeface="Arial"/>
              </a:rPr>
              <a:t> – A very important principle of crime prevention is that crime is highly concentrated on particular people, </a:t>
            </a:r>
            <a:r>
              <a:rPr b="1" lang="en-US" sz="1200" spc="-1" strike="noStrike">
                <a:solidFill>
                  <a:srgbClr val="000000"/>
                </a:solidFill>
                <a:latin typeface="Arial"/>
              </a:rPr>
              <a:t>places</a:t>
            </a:r>
            <a:r>
              <a:rPr b="0" lang="en-US" sz="1200" spc="-1" strike="noStrike">
                <a:solidFill>
                  <a:srgbClr val="000000"/>
                </a:solidFill>
                <a:latin typeface="Arial"/>
              </a:rPr>
              <a:t> and things.   This suggests that focusing resources where crime is concentrated will yield the greatest preventative benefi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ncentrations have attracted labels: Repeat Offenders, Repeat Victims,  </a:t>
            </a:r>
            <a:r>
              <a:rPr b="1" lang="en-US" sz="1200" spc="-1" strike="noStrike">
                <a:solidFill>
                  <a:srgbClr val="000000"/>
                </a:solidFill>
                <a:latin typeface="Arial"/>
              </a:rPr>
              <a:t>Repeat Places or Hot Spots</a:t>
            </a:r>
            <a:r>
              <a:rPr b="0" lang="en-US" sz="1200" spc="-1" strike="noStrike">
                <a:solidFill>
                  <a:srgbClr val="000000"/>
                </a:solidFill>
                <a:latin typeface="Arial"/>
              </a:rPr>
              <a:t>, Hot Products, </a:t>
            </a:r>
            <a:r>
              <a:rPr b="1" lang="en-US" sz="1200" spc="-1" strike="noStrike">
                <a:solidFill>
                  <a:srgbClr val="000000"/>
                </a:solidFill>
                <a:latin typeface="Arial"/>
              </a:rPr>
              <a:t>Risky Facili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may also be concentrated around certain products or timefram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 Clarke R.V. and Eck, J.E. (2005). Crime Analysis for Problem-Solvers in 60 Small Steps.  Washington, DC. Office of Community Oriented Policing Services. (See Step 1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illustrated that 40% of robberies occurred in less than 10% of known robbery address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eps are as follow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a descending frequency of unique address (or victim, target, depending on the analysis).   The descending frequency will order the addresses by the number of crimes (in this case burglaries), not by addres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percent of total for the number of crimes at an addres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cumulative percent of burglaries for each addres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percent of total each address is of all addresses, which will be the same for each address (in this example there are 10 addresses, each address is 10% of the total).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 the cumulative percentage of addresse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cross the table at the cumulative percent columns to determine what percentage of burglaries occurred at what percentage of address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 </a:t>
            </a:r>
            <a:r>
              <a:rPr b="0" lang="en-US" sz="1200" spc="-1" strike="noStrike">
                <a:solidFill>
                  <a:srgbClr val="ff3300"/>
                </a:solidFill>
                <a:latin typeface="Arial"/>
              </a:rPr>
              <a:t>Boba, R. (2005).  </a:t>
            </a:r>
            <a:r>
              <a:rPr b="0" i="1" lang="en-US" sz="1200" spc="-1" strike="noStrike">
                <a:solidFill>
                  <a:srgbClr val="ff3300"/>
                </a:solidFill>
                <a:latin typeface="Arial"/>
              </a:rPr>
              <a:t>Crime Analysis and Crime Mapping</a:t>
            </a:r>
            <a:r>
              <a:rPr b="0" lang="en-US" sz="1200" spc="-1" strike="noStrike">
                <a:solidFill>
                  <a:srgbClr val="ff3300"/>
                </a:solidFill>
                <a:latin typeface="Arial"/>
              </a:rPr>
              <a:t>.  Sage Publications, </a:t>
            </a:r>
            <a:r>
              <a:rPr b="0" lang="en-US" sz="1200" spc="-1" strike="noStrike">
                <a:solidFill>
                  <a:srgbClr val="000000"/>
                </a:solidFill>
                <a:latin typeface="Arial"/>
              </a:rPr>
              <a:t>Thousand Oaks, CA</a:t>
            </a:r>
            <a:r>
              <a:rPr b="0" lang="en-US" sz="1200" spc="-1" strike="noStrike">
                <a:solidFill>
                  <a:srgbClr val="ff33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http://www.popcenter.org/library-glossary.ht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A2915-2035-4559-B105-C5F73C7B1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8F50D-A807-4F35-8D1C-467A3FCAF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64A51-A382-4710-821F-DFAFC193C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884E1-B70C-48AB-B447-C56CE8190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7DE12-FFD6-455C-9AB7-77A8736C2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B094F-F4AE-4345-838C-447A8884A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79258-77CA-4E88-9822-F71D945C4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84A34-2FC6-474C-B8EC-5A6338C2D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39276-9A40-4029-844C-FFE00A49C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C1D9F-FFCF-43A7-9A3A-24ADC467F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43A33-9F35-42D6-AD11-A51F72E8A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23DBE-B5F6-40C0-84FD-6A9F05CC9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20C8-2D61-421B-A191-2B041B79CC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1905120"/>
            <a:ext cx="8839440" cy="196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EL ACADEMIC CURRICULUM</a:t>
            </a:r>
            <a:br>
              <a:rPr sz="4000"/>
            </a:br>
            <a:br>
              <a:rPr sz="4000"/>
            </a:br>
            <a:r>
              <a:rPr b="1" lang="en-US" sz="4000" spc="-1" strike="noStrike">
                <a:solidFill>
                  <a:srgbClr val="000000"/>
                </a:solidFill>
                <a:latin typeface="Arial"/>
              </a:rPr>
              <a:t>MODULE 10</a:t>
            </a:r>
            <a:endParaRPr b="0" lang="en-US" sz="4000" spc="-1" strike="noStrike">
              <a:solidFill>
                <a:srgbClr val="000000"/>
              </a:solidFill>
              <a:latin typeface="Arial"/>
            </a:endParaRPr>
          </a:p>
        </p:txBody>
      </p:sp>
      <p:sp>
        <p:nvSpPr>
          <p:cNvPr id="49" name=""/>
          <p:cNvSpPr/>
          <p:nvPr/>
        </p:nvSpPr>
        <p:spPr>
          <a:xfrm>
            <a:off x="838080" y="4495680"/>
            <a:ext cx="7696440" cy="20574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nderstanding and Responding to Crime Places</a:t>
            </a:r>
            <a:endParaRPr b="0" lang="en-US" sz="4000" spc="-1" strike="noStrike">
              <a:solidFill>
                <a:srgbClr val="000000"/>
              </a:solidFill>
              <a:latin typeface="Arial"/>
            </a:endParaRPr>
          </a:p>
        </p:txBody>
      </p:sp>
      <p:pic>
        <p:nvPicPr>
          <p:cNvPr id="50" name="" descr=""/>
          <p:cNvPicPr/>
          <p:nvPr/>
        </p:nvPicPr>
        <p:blipFill>
          <a:blip r:embed="rId1"/>
          <a:stretch/>
        </p:blipFill>
        <p:spPr>
          <a:xfrm>
            <a:off x="1752480" y="838080"/>
            <a:ext cx="5486400" cy="1000080"/>
          </a:xfrm>
          <a:prstGeom prst="rect">
            <a:avLst/>
          </a:prstGeom>
          <a:ln w="0">
            <a:noFill/>
          </a:ln>
        </p:spPr>
      </p:pic>
      <p:sp>
        <p:nvSpPr>
          <p:cNvPr id="2" name="PlaceHolder 1"/>
          <p:cNvSpPr>
            <a:spLocks noGrp="1"/>
          </p:cNvSpPr>
          <p:nvPr>
            <p:ph type="sldNum" idx="3"/>
          </p:nvPr>
        </p:nvSpPr>
        <p:spPr/>
        <p:txBody>
          <a:bodyPr/>
          <a:p>
            <a:fld id="{4D8DCAB1-F60F-4B5F-B10E-22E324A9E4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80880"/>
            <a:ext cx="86104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iagnosing Hot Spots </a:t>
            </a:r>
            <a:br>
              <a:rPr sz="3400"/>
            </a:br>
            <a:r>
              <a:rPr b="1" lang="en-US" sz="3400" spc="-1" strike="noStrike">
                <a:solidFill>
                  <a:srgbClr val="000000"/>
                </a:solidFill>
                <a:latin typeface="Arial"/>
              </a:rPr>
              <a:t>Three Basic Forms of Chronic Hot Spots</a:t>
            </a:r>
            <a:br>
              <a:rPr sz="3400"/>
            </a:br>
            <a:endParaRPr b="0" lang="en-US" sz="3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t lines</a:t>
            </a:r>
            <a:r>
              <a:rPr b="0" lang="en-US" sz="3200" spc="-1" strike="noStrike">
                <a:solidFill>
                  <a:srgbClr val="000000"/>
                </a:solidFill>
                <a:latin typeface="Arial"/>
              </a:rPr>
              <a:t> – are street segments where crime is concentrated.</a:t>
            </a: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t areas</a:t>
            </a:r>
            <a:r>
              <a:rPr b="0" lang="en-US" sz="3200" spc="-1" strike="noStrike">
                <a:solidFill>
                  <a:srgbClr val="000000"/>
                </a:solidFill>
                <a:latin typeface="Arial"/>
              </a:rPr>
              <a:t> – are neighborhoods where crime is concentrated.</a:t>
            </a: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t dots</a:t>
            </a:r>
            <a:r>
              <a:rPr b="0" lang="en-US" sz="3200" spc="-1" strike="noStrike">
                <a:solidFill>
                  <a:srgbClr val="000000"/>
                </a:solidFill>
                <a:latin typeface="Arial"/>
              </a:rPr>
              <a:t> – are specific locations with high crime levels.</a:t>
            </a:r>
            <a:endParaRPr b="0" lang="en-US" sz="3200" spc="-1" strike="noStrike">
              <a:solidFill>
                <a:srgbClr val="000000"/>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2BFF713-C200-44F8-9ED5-C08DAD8147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41400"/>
            <a:ext cx="9144000" cy="6838920"/>
          </a:xfrm>
          <a:prstGeom prst="rect">
            <a:avLst/>
          </a:prstGeom>
          <a:ln w="0">
            <a:noFill/>
          </a:ln>
        </p:spPr>
      </p:pic>
      <p:sp>
        <p:nvSpPr>
          <p:cNvPr id="2" name="PlaceHolder 1"/>
          <p:cNvSpPr>
            <a:spLocks noGrp="1"/>
          </p:cNvSpPr>
          <p:nvPr>
            <p:ph type="sldNum" idx="3"/>
          </p:nvPr>
        </p:nvSpPr>
        <p:spPr/>
        <p:txBody>
          <a:bodyPr/>
          <a:p>
            <a:fld id="{826EBF10-D64A-4953-B75F-D4E823693F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117360"/>
            <a:ext cx="9296280" cy="7181640"/>
          </a:xfrm>
          <a:prstGeom prst="rect">
            <a:avLst/>
          </a:prstGeom>
          <a:ln w="0">
            <a:noFill/>
          </a:ln>
        </p:spPr>
      </p:pic>
      <p:sp>
        <p:nvSpPr>
          <p:cNvPr id="75" name=""/>
          <p:cNvSpPr/>
          <p:nvPr/>
        </p:nvSpPr>
        <p:spPr>
          <a:xfrm>
            <a:off x="5090040" y="1235160"/>
            <a:ext cx="1146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imes New Roman"/>
              </a:rPr>
              <a:t>Zone 1</a:t>
            </a:r>
            <a:endParaRPr b="0" lang="en-US" sz="2600" spc="-1" strike="noStrike">
              <a:solidFill>
                <a:srgbClr val="000000"/>
              </a:solidFill>
              <a:latin typeface="Arial"/>
            </a:endParaRPr>
          </a:p>
        </p:txBody>
      </p:sp>
      <p:sp>
        <p:nvSpPr>
          <p:cNvPr id="76" name=""/>
          <p:cNvSpPr/>
          <p:nvPr/>
        </p:nvSpPr>
        <p:spPr>
          <a:xfrm>
            <a:off x="4420800" y="1066680"/>
            <a:ext cx="356040" cy="93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cc3300"/>
                </a:solidFill>
                <a:latin typeface="Times New Roman"/>
              </a:rPr>
              <a:t>.</a:t>
            </a:r>
            <a:endParaRPr b="0" lang="en-US" sz="5500" spc="-1" strike="noStrike">
              <a:solidFill>
                <a:srgbClr val="000000"/>
              </a:solidFill>
              <a:latin typeface="Arial"/>
            </a:endParaRPr>
          </a:p>
        </p:txBody>
      </p:sp>
      <p:sp>
        <p:nvSpPr>
          <p:cNvPr id="77" name=""/>
          <p:cNvSpPr/>
          <p:nvPr/>
        </p:nvSpPr>
        <p:spPr>
          <a:xfrm>
            <a:off x="1219680" y="4343400"/>
            <a:ext cx="1146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imes New Roman"/>
              </a:rPr>
              <a:t>Zone 2</a:t>
            </a:r>
            <a:endParaRPr b="0" lang="en-US" sz="2600" spc="-1" strike="noStrike">
              <a:solidFill>
                <a:srgbClr val="000000"/>
              </a:solidFill>
              <a:latin typeface="Arial"/>
            </a:endParaRPr>
          </a:p>
        </p:txBody>
      </p:sp>
      <p:sp>
        <p:nvSpPr>
          <p:cNvPr id="2" name="PlaceHolder 1"/>
          <p:cNvSpPr>
            <a:spLocks noGrp="1"/>
          </p:cNvSpPr>
          <p:nvPr>
            <p:ph type="sldNum" idx="3"/>
          </p:nvPr>
        </p:nvSpPr>
        <p:spPr/>
        <p:txBody>
          <a:bodyPr/>
          <a:p>
            <a:fld id="{6C25CD3F-3E19-41B7-B5D4-EEFEEE1FE0D7}" type="slidenum">
              <a:t>12</a:t>
            </a:fld>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now How Hot Spots Develop</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me generators</a:t>
            </a:r>
            <a:r>
              <a:rPr b="0" lang="en-US" sz="2800" spc="-1" strike="noStrike">
                <a:solidFill>
                  <a:srgbClr val="000000"/>
                </a:solidFill>
                <a:latin typeface="Arial"/>
              </a:rPr>
              <a:t> – are places to which large numbers of people are attracted for reasons unrelated to criminal motiva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me attractors</a:t>
            </a:r>
            <a:r>
              <a:rPr b="0" lang="en-US" sz="2800" spc="-1" strike="noStrike">
                <a:solidFill>
                  <a:srgbClr val="000000"/>
                </a:solidFill>
                <a:latin typeface="Arial"/>
              </a:rPr>
              <a:t> – are places affording many criminal opportunities that are well known to offend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ime enablers</a:t>
            </a:r>
            <a:r>
              <a:rPr b="0" lang="en-US" sz="2800" spc="-1" strike="noStrike">
                <a:solidFill>
                  <a:srgbClr val="000000"/>
                </a:solidFill>
                <a:latin typeface="Arial"/>
              </a:rPr>
              <a:t> – occur when there is little regulation of behavior at places: rules of conduct are absent or are not enforce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0305F31-144F-444A-86BC-36C93F8F4B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22860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To Do About Hot Spots</a:t>
            </a:r>
            <a:r>
              <a:rPr b="0" lang="en-US" sz="4400" spc="-1" strike="noStrike">
                <a:solidFill>
                  <a:srgbClr val="000000"/>
                </a:solidFill>
                <a:latin typeface="Arial"/>
              </a:rPr>
              <a:t> </a:t>
            </a:r>
            <a:endParaRPr b="0" lang="en-US" sz="4400" spc="-1" strike="noStrike">
              <a:solidFill>
                <a:srgbClr val="000000"/>
              </a:solidFill>
              <a:latin typeface="Arial"/>
            </a:endParaRPr>
          </a:p>
        </p:txBody>
      </p:sp>
      <p:graphicFrame>
        <p:nvGraphicFramePr>
          <p:cNvPr id="81" name=""/>
          <p:cNvGraphicFramePr/>
          <p:nvPr/>
        </p:nvGraphicFramePr>
        <p:xfrm>
          <a:off x="0" y="1424160"/>
          <a:ext cx="9144000" cy="5433840"/>
        </p:xfrm>
        <a:graphic>
          <a:graphicData uri="http://schemas.openxmlformats.org/presentationml/2006/ole">
            <p:oleObj r:id="rId1" spid="">
              <p:embed/>
              <p:pic>
                <p:nvPicPr>
                  <p:cNvPr id="82" name="" descr=""/>
                  <p:cNvPicPr/>
                  <p:nvPr/>
                </p:nvPicPr>
                <p:blipFill>
                  <a:blip r:embed="rId2"/>
                  <a:stretch/>
                </p:blipFill>
                <p:spPr>
                  <a:xfrm>
                    <a:off x="0" y="1424160"/>
                    <a:ext cx="9144000" cy="5433840"/>
                  </a:xfrm>
                  <a:prstGeom prst="rect">
                    <a:avLst/>
                  </a:prstGeom>
                  <a:ln w="0">
                    <a:noFill/>
                  </a:ln>
                </p:spPr>
              </p:pic>
            </p:oleObj>
          </a:graphicData>
        </a:graphic>
      </p:graphicFrame>
      <p:sp>
        <p:nvSpPr>
          <p:cNvPr id="3" name="PlaceHolder 2"/>
          <p:cNvSpPr>
            <a:spLocks noGrp="1"/>
          </p:cNvSpPr>
          <p:nvPr>
            <p:ph type="sldNum" idx="3"/>
          </p:nvPr>
        </p:nvSpPr>
        <p:spPr/>
        <p:txBody>
          <a:bodyPr/>
          <a:p>
            <a:fld id="{AB534910-70B4-4AD3-B042-8500A30F38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se Study: Taverns, Bars, Liquor Stores and Crime</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cago PD examined the relationship between taverns (places) in two neighborhoods (locat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umption</a:t>
            </a:r>
            <a:r>
              <a:rPr b="0" lang="en-US" sz="2800" spc="-1" strike="noStrike">
                <a:solidFill>
                  <a:srgbClr val="000000"/>
                </a:solidFill>
                <a:latin typeface="Arial"/>
              </a:rPr>
              <a:t> – A large number of places that sell or serve liquor contribute to drug problems and violent crim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hodology</a:t>
            </a:r>
            <a:r>
              <a:rPr b="0" lang="en-US" sz="2800" spc="-1" strike="noStrike">
                <a:solidFill>
                  <a:srgbClr val="000000"/>
                </a:solidFill>
                <a:latin typeface="Arial"/>
              </a:rPr>
              <a:t> - 5,947 liquor places in study, 3,364 crimes during first 3 months: 33% violent crimes &amp; 31% thefts or burglar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21A5504-ED81-4F15-B07E-0189FB1822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se Study: Findings</a:t>
            </a:r>
            <a:endParaRPr b="0" lang="en-US" sz="4400" spc="-1" strike="noStrike">
              <a:solidFill>
                <a:srgbClr val="000000"/>
              </a:solidFill>
              <a:latin typeface="Arial"/>
            </a:endParaRPr>
          </a:p>
        </p:txBody>
      </p:sp>
      <p:sp>
        <p:nvSpPr>
          <p:cNvPr id="86"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concentrations alone is not a good predictor of crim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crime places are often located in nightlife areas serving young adults; also located in affluent singles areas close by that contain one or more bars or club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as attract large crowds and high traffic and have easy access and escape and low surveillanc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61CD4AD-C434-4C95-8B72-16E3E7A29C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se Study: Finding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high levels of crimes in certain places occurs because of an interaction of generally high levels of crime in the area and routine activities generated by place and locat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lap of victims and offenders and the  availability of transportation to bring victims and offenders to an area provides quick escap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place itself nor surrounding area by itself is enough; it is a combination of the two that fuels opportunities for crim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90D9514-596F-4675-BF66-62150156E8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sky Facilities</a:t>
            </a:r>
            <a:endParaRPr b="0" lang="en-US" sz="4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5C7AF43-909F-4517-AEA6-A6AB44C1C9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8 Reasons Facilities are “Risky”</a:t>
            </a:r>
            <a:endParaRPr b="0" lang="en-US" sz="4000" spc="-1" strike="noStrike">
              <a:solidFill>
                <a:srgbClr val="000000"/>
              </a:solidFill>
              <a:latin typeface="Arial"/>
            </a:endParaRPr>
          </a:p>
        </p:txBody>
      </p:sp>
      <p:sp>
        <p:nvSpPr>
          <p:cNvPr id="9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 vari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ing pract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targ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 produ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victim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attrac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Manageme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5FC94D0-D307-4F89-9EC5-215ABC0B65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e 10 Topics</a:t>
            </a:r>
            <a:endParaRPr b="0" lang="en-US" sz="4400" spc="-1" strike="noStrike">
              <a:solidFill>
                <a:srgbClr val="000000"/>
              </a:solidFill>
              <a:latin typeface="Arial"/>
            </a:endParaRPr>
          </a:p>
        </p:txBody>
      </p:sp>
      <p:sp>
        <p:nvSpPr>
          <p:cNvPr id="52" name="PlaceHolder 2"/>
          <p:cNvSpPr>
            <a:spLocks noGrp="1"/>
          </p:cNvSpPr>
          <p:nvPr>
            <p:ph/>
          </p:nvPr>
        </p:nvSpPr>
        <p:spPr>
          <a:xfrm>
            <a:off x="456840" y="1599840"/>
            <a:ext cx="84582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t Spo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y Facili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me Prevention Through Environmental Desig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lacement and Displacement Theor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ing Streets and Alleys to Reduce Crim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B446734-8712-4C94-8494-F18EE905D7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amples of Risky Facilities</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ce Sto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s S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 Sto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king Facilit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212E9AB-DD0A-46BC-BDC4-66FF66C8FC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04920" y="2746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of Particularly Risky Locations among Risky Facility Groups</a:t>
            </a:r>
            <a:endParaRPr b="0" lang="en-US" sz="3200" spc="-1" strike="noStrike">
              <a:solidFill>
                <a:srgbClr val="000000"/>
              </a:solidFill>
              <a:latin typeface="Arial"/>
            </a:endParaRPr>
          </a:p>
        </p:txBody>
      </p:sp>
      <p:sp>
        <p:nvSpPr>
          <p:cNvPr id="96" name=""/>
          <p:cNvSpPr/>
          <p:nvPr/>
        </p:nvSpPr>
        <p:spPr>
          <a:xfrm>
            <a:off x="457200" y="190512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venience Stores</a:t>
            </a:r>
            <a:r>
              <a:rPr b="0" lang="en-US" sz="3200" spc="-1" strike="noStrike">
                <a:solidFill>
                  <a:srgbClr val="000000"/>
                </a:solidFill>
                <a:latin typeface="Arial"/>
              </a:rPr>
              <a:t> – The corner store on Main and 5</a:t>
            </a:r>
            <a:r>
              <a:rPr b="0" lang="en-US" sz="3200" spc="-1" strike="noStrike" baseline="30000">
                <a:solidFill>
                  <a:srgbClr val="000000"/>
                </a:solidFill>
                <a:latin typeface="Arial"/>
              </a:rPr>
              <a:t>th</a:t>
            </a:r>
            <a:r>
              <a:rPr b="0" lang="en-US" sz="3200" spc="-1" strike="noStrike">
                <a:solidFill>
                  <a:srgbClr val="000000"/>
                </a:solidFill>
                <a:latin typeface="Arial"/>
              </a:rPr>
              <a:t> Str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Stations</a:t>
            </a:r>
            <a:r>
              <a:rPr b="0" lang="en-US" sz="3200" spc="-1" strike="noStrike">
                <a:solidFill>
                  <a:srgbClr val="000000"/>
                </a:solidFill>
                <a:latin typeface="Arial"/>
              </a:rPr>
              <a:t> – Bubba’s Gar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king Facilities</a:t>
            </a:r>
            <a:r>
              <a:rPr b="0" lang="en-US" sz="3200" spc="-1" strike="noStrike">
                <a:solidFill>
                  <a:srgbClr val="000000"/>
                </a:solidFill>
                <a:latin typeface="Arial"/>
              </a:rPr>
              <a:t> – The East Parking Deck near the stadium.</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C5436079-1908-4611-8950-DEC5FADD68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23880"/>
            <a:ext cx="77724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ime Prevention Through Environmental Design</a:t>
            </a:r>
            <a:br>
              <a:rPr sz="4000"/>
            </a:br>
            <a:br>
              <a:rPr sz="4000"/>
            </a:br>
            <a:r>
              <a:rPr b="1" lang="en-US" sz="4000" spc="-1" strike="noStrike">
                <a:solidFill>
                  <a:srgbClr val="000000"/>
                </a:solidFill>
                <a:latin typeface="Arial"/>
              </a:rPr>
              <a:t>CPTED</a:t>
            </a:r>
            <a:endParaRPr b="0" lang="en-US" sz="4000" spc="-1" strike="noStrike">
              <a:solidFill>
                <a:srgbClr val="000000"/>
              </a:solidFill>
              <a:latin typeface="Arial"/>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B5D1B3D-36FC-452D-BA9E-F8C9BF7EBE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PTED asks “Why here?”</a:t>
            </a:r>
            <a:endParaRPr b="0" lang="en-US" sz="4400" spc="-1" strike="noStrike">
              <a:solidFill>
                <a:srgbClr val="000000"/>
              </a:solidFill>
              <a:latin typeface="Arial"/>
            </a:endParaRPr>
          </a:p>
        </p:txBody>
      </p:sp>
      <p:sp>
        <p:nvSpPr>
          <p:cNvPr id="100"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ime research reveals that...</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me is specific and situation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stribution of crime is related to land use and transportation network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enders are opportunistic and commit crimes in places they know wel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ortunities arise out of daily routines and activit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s with crime are also places without observers or guardia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FA79744-2B2F-4377-9B8C-9F7FDDDD7D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CPTED Process</a:t>
            </a:r>
            <a:endParaRPr b="0" lang="en-US" sz="4800" spc="-1" strike="noStrike">
              <a:solidFill>
                <a:srgbClr val="000000"/>
              </a:solidFill>
              <a:latin typeface="Arial"/>
            </a:endParaRPr>
          </a:p>
        </p:txBody>
      </p:sp>
      <p:sp>
        <p:nvSpPr>
          <p:cNvPr id="102" name="PlaceHolder 2"/>
          <p:cNvSpPr>
            <a:spLocks noGrp="1"/>
          </p:cNvSpPr>
          <p:nvPr>
            <p:ph/>
          </p:nvPr>
        </p:nvSpPr>
        <p:spPr>
          <a:xfrm>
            <a:off x="533520" y="1981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TED evaluates the crime environment and features of the environment that facilitate crime or undesirable behavi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TED attempts to remove or reduce these opportunities by changing various aspects of both environmental design and use of the environme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F921230-D52B-4844-971A-7678E28B99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3886200" y="3139920"/>
          <a:ext cx="5257800" cy="3718080"/>
        </p:xfrm>
        <a:graphic>
          <a:graphicData uri="http://schemas.openxmlformats.org/presentationml/2006/ole">
            <p:oleObj r:id="rId1" spid="">
              <p:embed/>
              <p:pic>
                <p:nvPicPr>
                  <p:cNvPr id="104" name="" descr=""/>
                  <p:cNvPicPr/>
                  <p:nvPr/>
                </p:nvPicPr>
                <p:blipFill>
                  <a:blip r:embed="rId2"/>
                  <a:stretch/>
                </p:blipFill>
                <p:spPr>
                  <a:xfrm>
                    <a:off x="3886200" y="3139920"/>
                    <a:ext cx="5257800" cy="3718080"/>
                  </a:xfrm>
                  <a:prstGeom prst="rect">
                    <a:avLst/>
                  </a:prstGeom>
                  <a:ln w="0">
                    <a:noFill/>
                  </a:ln>
                </p:spPr>
              </p:pic>
            </p:oleObj>
          </a:graphicData>
        </a:graphic>
      </p:graphicFrame>
      <p:graphicFrame>
        <p:nvGraphicFramePr>
          <p:cNvPr id="105" name=""/>
          <p:cNvGraphicFramePr/>
          <p:nvPr/>
        </p:nvGraphicFramePr>
        <p:xfrm>
          <a:off x="0" y="0"/>
          <a:ext cx="4952880" cy="3679920"/>
        </p:xfrm>
        <a:graphic>
          <a:graphicData uri="http://schemas.openxmlformats.org/presentationml/2006/ole">
            <p:oleObj r:id="rId3" spid="">
              <p:embed/>
              <p:pic>
                <p:nvPicPr>
                  <p:cNvPr id="106" name="" descr=""/>
                  <p:cNvPicPr/>
                  <p:nvPr/>
                </p:nvPicPr>
                <p:blipFill>
                  <a:blip r:embed="rId4"/>
                  <a:stretch/>
                </p:blipFill>
                <p:spPr>
                  <a:xfrm>
                    <a:off x="0" y="0"/>
                    <a:ext cx="4952880" cy="3679920"/>
                  </a:xfrm>
                  <a:prstGeom prst="rect">
                    <a:avLst/>
                  </a:prstGeom>
                  <a:ln w="0">
                    <a:noFill/>
                  </a:ln>
                </p:spPr>
              </p:pic>
            </p:oleObj>
          </a:graphicData>
        </a:graphic>
      </p:graphicFrame>
      <p:sp>
        <p:nvSpPr>
          <p:cNvPr id="107" name=""/>
          <p:cNvSpPr/>
          <p:nvPr/>
        </p:nvSpPr>
        <p:spPr>
          <a:xfrm>
            <a:off x="5790960" y="1219320"/>
            <a:ext cx="2201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50696"/>
                </a:solidFill>
                <a:latin typeface="Tahoma"/>
              </a:rPr>
              <a:t>Before</a:t>
            </a:r>
            <a:endParaRPr b="0" lang="en-US" sz="4800" spc="-1" strike="noStrike">
              <a:solidFill>
                <a:srgbClr val="000000"/>
              </a:solidFill>
              <a:latin typeface="Arial"/>
            </a:endParaRPr>
          </a:p>
        </p:txBody>
      </p:sp>
      <p:sp>
        <p:nvSpPr>
          <p:cNvPr id="108" name=""/>
          <p:cNvSpPr/>
          <p:nvPr/>
        </p:nvSpPr>
        <p:spPr>
          <a:xfrm>
            <a:off x="978840" y="4724280"/>
            <a:ext cx="1739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50696"/>
                </a:solidFill>
                <a:latin typeface="Tahoma"/>
              </a:rPr>
              <a:t>After</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81C81C28-6245-4204-85C9-BAEE42F39C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PTED considers…</a:t>
            </a:r>
            <a:endParaRPr b="0" lang="en-US" sz="4400" spc="-1" strike="noStrike">
              <a:solidFill>
                <a:srgbClr val="000000"/>
              </a:solidFill>
              <a:latin typeface="Arial"/>
            </a:endParaRPr>
          </a:p>
        </p:txBody>
      </p:sp>
      <p:sp>
        <p:nvSpPr>
          <p:cNvPr id="110"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desig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e layout and site amenities like lighting and landsca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y location and the influence of surrounding land u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hardening and security measures (or a lack thereo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ine use, and activity schedu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 and policies governing use and behavio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09B4D58-E450-42EB-AFA7-BAD6112CB3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ree Objectives of CPTED</a:t>
            </a:r>
            <a:endParaRPr b="0" lang="en-US" sz="4400" spc="-1" strike="noStrike">
              <a:solidFill>
                <a:srgbClr val="000000"/>
              </a:solidFill>
              <a:latin typeface="Arial"/>
            </a:endParaRPr>
          </a:p>
        </p:txBody>
      </p:sp>
      <p:sp>
        <p:nvSpPr>
          <p:cNvPr id="112" name="PlaceHolder 2"/>
          <p:cNvSpPr>
            <a:spLocks noGrp="1"/>
          </p:cNvSpPr>
          <p:nvPr>
            <p:ph/>
          </p:nvPr>
        </p:nvSpPr>
        <p:spPr>
          <a:xfrm>
            <a:off x="457200" y="1676160"/>
            <a:ext cx="8229600" cy="48006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access by creating both real and perceptual barriers to entry and movement.</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dvantage of design to provide opportunities to see and be seen.</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esign to define ownership and encourage maintenance of territor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4646BE8-72EF-49C0-A0F6-A425658B33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TED and POP Consistencies</a:t>
            </a:r>
            <a:endParaRPr b="0" lang="en-US" sz="4400" spc="-1" strike="noStrike">
              <a:solidFill>
                <a:srgbClr val="000000"/>
              </a:solidFill>
              <a:latin typeface="Arial"/>
            </a:endParaRPr>
          </a:p>
        </p:txBody>
      </p:sp>
      <p:sp>
        <p:nvSpPr>
          <p:cNvPr id="114" name="PlaceHolder 2"/>
          <p:cNvSpPr>
            <a:spLocks noGrp="1"/>
          </p:cNvSpPr>
          <p:nvPr>
            <p:ph/>
          </p:nvPr>
        </p:nvSpPr>
        <p:spPr>
          <a:xfrm>
            <a:off x="228600" y="1599840"/>
            <a:ext cx="8686800" cy="4876920"/>
          </a:xfrm>
          <a:prstGeom prst="rect">
            <a:avLst/>
          </a:prstGeom>
          <a:noFill/>
          <a:ln w="0">
            <a:noFill/>
          </a:ln>
        </p:spPr>
        <p:txBody>
          <a:bodyPr lIns="90000" rIns="90000" tIns="46800" bIns="46800" anchor="t">
            <a:normAutofit fontScale="99000"/>
          </a:bodyPr>
          <a:p>
            <a:pPr marL="339480" indent="-3394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oth consider a broad array of problems, not just crime.</a:t>
            </a:r>
            <a:endParaRPr b="0" lang="en-US" sz="3500" spc="-1" strike="noStrike">
              <a:solidFill>
                <a:srgbClr val="000000"/>
              </a:solidFill>
              <a:latin typeface="Arial"/>
            </a:endParaRPr>
          </a:p>
          <a:p>
            <a:pPr marL="3394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39480" indent="-3394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oth require systematic analyses of events, conditions and factors that contribute to crime and disorder.</a:t>
            </a:r>
            <a:endParaRPr b="0" lang="en-US" sz="3500" spc="-1" strike="noStrike">
              <a:solidFill>
                <a:srgbClr val="000000"/>
              </a:solidFill>
              <a:latin typeface="Arial"/>
            </a:endParaRPr>
          </a:p>
          <a:p>
            <a:pPr marL="3394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39480" indent="-3394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oth generate strategies that are tailored to a problem or location.</a:t>
            </a:r>
            <a:endParaRPr b="0" lang="en-US" sz="3500" spc="-1" strike="noStrike">
              <a:solidFill>
                <a:srgbClr val="000000"/>
              </a:solidFill>
              <a:latin typeface="Arial"/>
            </a:endParaRPr>
          </a:p>
        </p:txBody>
      </p:sp>
      <p:sp>
        <p:nvSpPr>
          <p:cNvPr id="4" name="PlaceHolder 3"/>
          <p:cNvSpPr>
            <a:spLocks noGrp="1"/>
          </p:cNvSpPr>
          <p:nvPr>
            <p:ph type="sldNum" idx="3"/>
          </p:nvPr>
        </p:nvSpPr>
        <p:spPr/>
        <p:txBody>
          <a:bodyPr/>
          <a:p>
            <a:fld id="{70AC375E-2145-4826-B053-B379D15FBF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PTED and POP Consistencie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oth engage citizens, government agencies and other stakeholders in addition to the police.</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ut, CPTED is one aspect of POP. CPTED focuses on environmental responses and modifications, while POP is a much broader process that involves environmental responses as one of many strategies.</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82885C52-B4D8-40A7-839B-6D3437AEB1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tine Activities Theor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nal offenders come across criminal opportunities (including places) as they go about their daily routine activities and make decisions whether or not to take ac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53BA189-B2D1-442F-9639-B6EFC27AB5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About Displacement?</a:t>
            </a:r>
            <a:endParaRPr b="0" lang="en-US" sz="4400" spc="-1" strike="noStrike">
              <a:solidFill>
                <a:srgbClr val="000000"/>
              </a:solidFill>
              <a:latin typeface="Arial"/>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FC5F900-666B-4FDD-B1DE-3836039443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Arial"/>
              </a:rPr>
              <a:t>Displacement Theory </a:t>
            </a:r>
            <a:endParaRPr b="0" lang="en-US" sz="4400" spc="-1" strike="noStrike">
              <a:solidFill>
                <a:srgbClr val="000000"/>
              </a:solidFill>
              <a:latin typeface="Arial"/>
            </a:endParaRPr>
          </a:p>
        </p:txBody>
      </p:sp>
      <p:sp>
        <p:nvSpPr>
          <p:cNvPr id="120" name="PlaceHolder 2"/>
          <p:cNvSpPr>
            <a:spLocks noGrp="1"/>
          </p:cNvSpPr>
          <p:nvPr>
            <p:ph/>
          </p:nvPr>
        </p:nvSpPr>
        <p:spPr>
          <a:xfrm>
            <a:off x="304920" y="1294920"/>
            <a:ext cx="8610480" cy="533412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600" spc="-1" strike="noStrike">
                <a:solidFill>
                  <a:srgbClr val="000000"/>
                </a:solidFill>
                <a:latin typeface="Arial"/>
              </a:rPr>
              <a:t>There are five main ways in which this theory suggests crime is moved around:</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Crime can be moved from one location to another (geographical displacemen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Crime can be moved from one time to another (temporal displacemen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Crime can be directed away from one target to another (target displaceme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AA1E80C-91CC-4455-95CD-FB4C0F42F3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Arial"/>
              </a:rPr>
              <a:t>Displacement Theory</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4. One method of committing crime can be substituted for another (tactical displacemen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5. One kind of crime can be substituted for another (crime type displacement).</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D09AAD1-C275-4DAF-B60F-F05E006D75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Arial"/>
              </a:rPr>
              <a:t>Displacement Theory </a:t>
            </a:r>
            <a:endParaRPr b="0" lang="en-US" sz="4400" spc="-1" strike="noStrike">
              <a:solidFill>
                <a:srgbClr val="000000"/>
              </a:solidFill>
              <a:latin typeface="Arial"/>
            </a:endParaRPr>
          </a:p>
        </p:txBody>
      </p:sp>
      <p:sp>
        <p:nvSpPr>
          <p:cNvPr id="124" name="PlaceHolder 2"/>
          <p:cNvSpPr>
            <a:spLocks noGrp="1"/>
          </p:cNvSpPr>
          <p:nvPr>
            <p:ph/>
          </p:nvPr>
        </p:nvSpPr>
        <p:spPr>
          <a:xfrm>
            <a:off x="304920" y="1143000"/>
            <a:ext cx="8610480" cy="54864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Positive</a:t>
            </a:r>
            <a:r>
              <a:rPr b="0" lang="en" sz="2800" spc="-1" strike="noStrike">
                <a:solidFill>
                  <a:srgbClr val="000000"/>
                </a:solidFill>
                <a:latin typeface="Arial"/>
              </a:rPr>
              <a:t> – a crime is displaced to a less serious type of crime or a crime with greater risk, with lower rewards or causing less serious damage. It represents success since it produces a net gain.</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Neutral</a:t>
            </a:r>
            <a:r>
              <a:rPr b="0" lang="en" sz="2800" spc="-1" strike="noStrike">
                <a:solidFill>
                  <a:srgbClr val="000000"/>
                </a:solidFill>
                <a:latin typeface="Arial"/>
              </a:rPr>
              <a:t> – a crime is displaced to one of the same seriousness, of the same risk, rewards and damage.</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Arial"/>
              </a:rPr>
              <a:t>Even-handed</a:t>
            </a:r>
            <a:r>
              <a:rPr b="0" lang="en" sz="2800" spc="-1" strike="noStrike">
                <a:solidFill>
                  <a:srgbClr val="000000"/>
                </a:solidFill>
                <a:latin typeface="Arial"/>
              </a:rPr>
              <a:t> – prevention is concentrated on those who are repeatedly victimised in order to achieve a more equitable distribution of crim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DFACF54-2DF1-4315-80A7-F2EDE663D2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a:solidFill>
                  <a:srgbClr val="000000"/>
                </a:solidFill>
                <a:latin typeface="Arial"/>
              </a:rPr>
              <a:t>Displacement Theory</a:t>
            </a:r>
            <a:endParaRPr b="0" lang="en-US" sz="4400" spc="-1" strike="noStrike">
              <a:solidFill>
                <a:srgbClr val="000000"/>
              </a:solidFill>
              <a:latin typeface="Arial"/>
            </a:endParaRPr>
          </a:p>
        </p:txBody>
      </p:sp>
      <p:sp>
        <p:nvSpPr>
          <p:cNvPr id="126"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Arial"/>
              </a:rPr>
              <a:t>Negative</a:t>
            </a:r>
            <a:r>
              <a:rPr b="0" lang="en" sz="3200" spc="-1" strike="noStrike">
                <a:solidFill>
                  <a:srgbClr val="000000"/>
                </a:solidFill>
                <a:latin typeface="Arial"/>
              </a:rPr>
              <a:t> – a crime is displaced to a more serious crime, a crime with greater reward or greater social cos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Arial"/>
              </a:rPr>
              <a:t>Attractive</a:t>
            </a:r>
            <a:r>
              <a:rPr b="0" lang="en" sz="3200" spc="-1" strike="noStrike">
                <a:solidFill>
                  <a:srgbClr val="000000"/>
                </a:solidFill>
                <a:latin typeface="Arial"/>
              </a:rPr>
              <a:t> – activities and/or places attract crime from other areas or activities (eg ‘red light’ districts attract customers from other areas, as well as other criminal activiti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3F44DB7-AA8D-4CA3-9682-1617FBB967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usion of Benefits</a:t>
            </a:r>
            <a:endParaRPr b="0" lang="en-US" sz="4400" spc="-1" strike="noStrike">
              <a:solidFill>
                <a:srgbClr val="000000"/>
              </a:solidFill>
              <a:latin typeface="Arial"/>
            </a:endParaRPr>
          </a:p>
        </p:txBody>
      </p:sp>
      <p:sp>
        <p:nvSpPr>
          <p:cNvPr id="128" name=""/>
          <p:cNvSpPr/>
          <p:nvPr/>
        </p:nvSpPr>
        <p:spPr>
          <a:xfrm>
            <a:off x="457200" y="1600200"/>
            <a:ext cx="8229600" cy="47242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ers looking for displacement have sometimes found the opposite.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her than finding that crime has been</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shed to some other place or time, they</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ve found that crime has been reduced</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re widely than expected.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A068A13D-0090-4D42-BC7C-F8C941B78A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EDFAD711-A118-4252-824B-18074817D8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108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One (CPTED) Response to Crime Places:</a:t>
            </a:r>
            <a:br>
              <a:rPr sz="2800"/>
            </a:br>
            <a:br>
              <a:rPr sz="2800"/>
            </a:br>
            <a:r>
              <a:rPr b="1" lang="en-US" sz="2800" spc="-1" strike="noStrike">
                <a:solidFill>
                  <a:srgbClr val="000000"/>
                </a:solidFill>
                <a:latin typeface="Arial"/>
              </a:rPr>
              <a:t>Closing Streets and Alleys to Reduce Crime</a:t>
            </a:r>
            <a:br>
              <a:rPr sz="2800"/>
            </a:br>
            <a:br>
              <a:rPr sz="2800"/>
            </a:br>
            <a:endParaRPr b="0" lang="en-US" sz="2800" spc="-1" strike="noStrike">
              <a:solidFill>
                <a:srgbClr val="000000"/>
              </a:solidFill>
              <a:latin typeface="Arial"/>
            </a:endParaRPr>
          </a:p>
        </p:txBody>
      </p:sp>
      <p:sp>
        <p:nvSpPr>
          <p:cNvPr id="131" name=""/>
          <p:cNvSpPr/>
          <p:nvPr/>
        </p:nvSpPr>
        <p:spPr>
          <a:xfrm>
            <a:off x="6161040" y="6477120"/>
            <a:ext cx="283068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 descr=""/>
          <p:cNvPicPr/>
          <p:nvPr/>
        </p:nvPicPr>
        <p:blipFill>
          <a:blip r:embed="rId1"/>
          <a:stretch/>
        </p:blipFill>
        <p:spPr>
          <a:xfrm>
            <a:off x="838080" y="0"/>
            <a:ext cx="7429680" cy="1359000"/>
          </a:xfrm>
          <a:prstGeom prst="rect">
            <a:avLst/>
          </a:prstGeom>
          <a:ln w="0">
            <a:noFill/>
          </a:ln>
        </p:spPr>
      </p:pic>
      <p:sp>
        <p:nvSpPr>
          <p:cNvPr id="3" name="PlaceHolder 2"/>
          <p:cNvSpPr>
            <a:spLocks noGrp="1"/>
          </p:cNvSpPr>
          <p:nvPr>
            <p:ph type="sldNum" idx="3"/>
          </p:nvPr>
        </p:nvSpPr>
        <p:spPr/>
        <p:txBody>
          <a:bodyPr/>
          <a:p>
            <a:fld id="{77EEB2E1-713A-4302-9985-DC5ABB1D66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oes Research Reveal About Street Access and Crime?</a:t>
            </a:r>
            <a:endParaRPr b="0" lang="en-US" sz="3600" spc="-1" strike="noStrike">
              <a:solidFill>
                <a:srgbClr val="000000"/>
              </a:solidFill>
              <a:latin typeface="Arial"/>
            </a:endParaRPr>
          </a:p>
        </p:txBody>
      </p:sp>
      <p:sp>
        <p:nvSpPr>
          <p:cNvPr id="134" name="PlaceHolder 2"/>
          <p:cNvSpPr>
            <a:spLocks noGrp="1"/>
          </p:cNvSpPr>
          <p:nvPr>
            <p:ph/>
          </p:nvPr>
        </p:nvSpPr>
        <p:spPr>
          <a:xfrm>
            <a:off x="304560" y="1523880"/>
            <a:ext cx="8458200" cy="50292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nders find targets in familiar territory.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nders are quick to recognize a closely knit neighborhood and the presence of people who might notice them.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glars avoid cul-de-sacs and prefer corner sites where neighbors are less likely to see the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4DB05DE-4B9D-4A2B-AA4A-3A03894AAB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oes Research Reveal About Street Access and Crime?</a:t>
            </a:r>
            <a:endParaRPr b="0" lang="en-US" sz="3600" spc="-1" strike="noStrike">
              <a:solidFill>
                <a:srgbClr val="000000"/>
              </a:solidFill>
              <a:latin typeface="Arial"/>
            </a:endParaRPr>
          </a:p>
        </p:txBody>
      </p:sp>
      <p:sp>
        <p:nvSpPr>
          <p:cNvPr id="136"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through-traffic by closing streets or alleys mean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minal outsiders are less likely to be familiar with the area;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s learn who doesn’t belong in the neighborhood, which helps them keep watch near their home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dents committing crime in their own neighborhood cannot easily blame outsiders and thus deflect suspicion from themselve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2692A07-8345-4062-8448-98669BD0DC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Place (Den) Problem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location problems that involve different offenders and different targets interacting at the same pla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 (Den) problems occur when new potential offenders and new potential targets encounter each other in a place where management is ineffectiv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2295CE1-05B5-4CAE-B184-E3DFC8EAE6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Does Research Reveal About Street Access and Crime?</a:t>
            </a:r>
            <a:endParaRPr b="0" lang="en-US" sz="3600" spc="-1" strike="noStrike">
              <a:solidFill>
                <a:srgbClr val="000000"/>
              </a:solidFill>
              <a:latin typeface="Arial"/>
            </a:endParaRPr>
          </a:p>
        </p:txBody>
      </p:sp>
      <p:sp>
        <p:nvSpPr>
          <p:cNvPr id="13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through-traffic by closing streets or alleys mea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rglars cannot so easily gain access to properties, especially from alleys behind hou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cape routes for robbers are blocked off; an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by shootings are prevented because cars cannot easily enter a street, or because they have to backtrack to escape, exposing them to retalia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31F77F5-DB30-4078-B6F9-226652C834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680"/>
            <a:ext cx="845820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Should You Meet the Concerns of Those Who Oppose Street/Alley Closures?</a:t>
            </a:r>
            <a:endParaRPr b="0" lang="en-US" sz="3200" spc="-1" strike="noStrike">
              <a:solidFill>
                <a:srgbClr val="000000"/>
              </a:solidFill>
              <a:latin typeface="Arial"/>
            </a:endParaRPr>
          </a:p>
        </p:txBody>
      </p:sp>
      <p:sp>
        <p:nvSpPr>
          <p:cNvPr id="140" name="PlaceHolder 2"/>
          <p:cNvSpPr>
            <a:spLocks noGrp="1"/>
          </p:cNvSpPr>
          <p:nvPr>
            <p:ph/>
          </p:nvPr>
        </p:nvSpPr>
        <p:spPr>
          <a:xfrm>
            <a:off x="456840" y="1752120"/>
            <a:ext cx="8077320" cy="487692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dents </a:t>
            </a:r>
            <a:endParaRPr b="0" lang="en-US" sz="3200" spc="-1" strike="noStrike">
              <a:solidFill>
                <a:srgbClr val="000000"/>
              </a:solidFill>
              <a:latin typeface="Arial"/>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arby neighborhoods </a:t>
            </a:r>
            <a:endParaRPr b="0" lang="en-US" sz="3200" spc="-1" strike="noStrike">
              <a:solidFill>
                <a:srgbClr val="000000"/>
              </a:solidFill>
              <a:latin typeface="Arial"/>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y Officials and Essential Service Providers (sanitation, fire, EMS)</a:t>
            </a:r>
            <a:endParaRPr b="0" lang="en-US" sz="3200" spc="-1" strike="noStrike">
              <a:solidFill>
                <a:srgbClr val="000000"/>
              </a:solidFill>
              <a:latin typeface="Arial"/>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blic at large, the media, and politician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A48BA0C-F569-45B8-90BE-13CD61CE7C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Should You Meet the Concerns of Those Who Oppose Closures?</a:t>
            </a:r>
            <a:endParaRPr b="0" lang="en-US" sz="3600" spc="-1" strike="noStrike">
              <a:solidFill>
                <a:srgbClr val="000000"/>
              </a:solidFill>
              <a:latin typeface="Arial"/>
            </a:endParaRPr>
          </a:p>
        </p:txBody>
      </p:sp>
      <p:pic>
        <p:nvPicPr>
          <p:cNvPr id="142" name="" descr=""/>
          <p:cNvPicPr/>
          <p:nvPr/>
        </p:nvPicPr>
        <p:blipFill>
          <a:blip r:embed="rId1"/>
          <a:srcRect l="19532" t="15549" r="21876" b="17655"/>
          <a:stretch/>
        </p:blipFill>
        <p:spPr>
          <a:xfrm>
            <a:off x="304920" y="1324080"/>
            <a:ext cx="8534160" cy="5503680"/>
          </a:xfrm>
          <a:prstGeom prst="rect">
            <a:avLst/>
          </a:prstGeom>
          <a:ln w="0">
            <a:noFill/>
          </a:ln>
        </p:spPr>
      </p:pic>
      <p:sp>
        <p:nvSpPr>
          <p:cNvPr id="3" name="PlaceHolder 2"/>
          <p:cNvSpPr>
            <a:spLocks noGrp="1"/>
          </p:cNvSpPr>
          <p:nvPr>
            <p:ph type="sldNum" idx="3"/>
          </p:nvPr>
        </p:nvSpPr>
        <p:spPr/>
        <p:txBody>
          <a:bodyPr/>
          <a:p>
            <a:fld id="{D80C0A17-03F0-41E1-A43C-324652BC2A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SARA Process </a:t>
            </a:r>
            <a:br>
              <a:rPr sz="4000"/>
            </a:br>
            <a:r>
              <a:rPr b="1" lang="en-US" sz="4000" spc="-1" strike="noStrike">
                <a:solidFill>
                  <a:srgbClr val="000000"/>
                </a:solidFill>
                <a:latin typeface="Arial"/>
              </a:rPr>
              <a:t>and Street Closures</a:t>
            </a:r>
            <a:endParaRPr b="0" lang="en-US" sz="4000" spc="-1" strike="noStrike">
              <a:solidFill>
                <a:srgbClr val="000000"/>
              </a:solidFill>
              <a:latin typeface="Arial"/>
            </a:endParaRPr>
          </a:p>
        </p:txBody>
      </p:sp>
      <p:sp>
        <p:nvSpPr>
          <p:cNvPr id="144" name="PlaceHolder 2"/>
          <p:cNvSpPr>
            <a:spLocks noGrp="1"/>
          </p:cNvSpPr>
          <p:nvPr>
            <p:ph/>
          </p:nvPr>
        </p:nvSpPr>
        <p:spPr>
          <a:xfrm>
            <a:off x="838080" y="1600200"/>
            <a:ext cx="7925040" cy="495288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dentify and Select the Problem Area</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alyzing the Problem</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tting Suppor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ementing the Closures</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ing Effectivenes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CFFF678-B24E-4DC5-B3ED-C18E7055FC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alyzing the Proble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6" name="PlaceHolder 2"/>
          <p:cNvSpPr>
            <a:spLocks noGrp="1"/>
          </p:cNvSpPr>
          <p:nvPr>
            <p:ph/>
          </p:nvPr>
        </p:nvSpPr>
        <p:spPr>
          <a:xfrm>
            <a:off x="304560" y="1219320"/>
            <a:ext cx="8839080" cy="5333760"/>
          </a:xfrm>
          <a:prstGeom prst="rect">
            <a:avLst/>
          </a:prstGeom>
          <a:noFill/>
          <a:ln w="0">
            <a:noFill/>
          </a:ln>
        </p:spPr>
        <p:txBody>
          <a:bodyPr lIns="90000" rIns="90000" tIns="46800" bIns="46800" anchor="t">
            <a:normAutofit fontScale="95000"/>
          </a:bodyPr>
          <a:p>
            <a:pPr marL="434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4160" indent="-4341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neighborhood’s boundaries clearly defined?</a:t>
            </a:r>
            <a:endParaRPr b="0" lang="en-US" sz="2800" spc="-1" strike="noStrike">
              <a:solidFill>
                <a:srgbClr val="000000"/>
              </a:solidFill>
              <a:latin typeface="Arial"/>
            </a:endParaRPr>
          </a:p>
          <a:p>
            <a:pPr marL="434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4160" indent="-4341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reliable data about types of crime or disorder that are the concern? </a:t>
            </a:r>
            <a:endParaRPr b="0" lang="en-US" sz="2800" spc="-1" strike="noStrike">
              <a:solidFill>
                <a:srgbClr val="000000"/>
              </a:solidFill>
              <a:latin typeface="Arial"/>
            </a:endParaRPr>
          </a:p>
          <a:p>
            <a:pPr marL="434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4160" indent="-4341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roportion of crimes are committed by outsiders? </a:t>
            </a:r>
            <a:endParaRPr b="0" lang="en-US" sz="2800" spc="-1" strike="noStrike">
              <a:solidFill>
                <a:srgbClr val="000000"/>
              </a:solidFill>
              <a:latin typeface="Arial"/>
            </a:endParaRPr>
          </a:p>
          <a:p>
            <a:pPr marL="434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95960" indent="-361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they reach the neighborhood (by car or on foot)? </a:t>
            </a:r>
            <a:endParaRPr b="0" lang="en-US" sz="2400" spc="-1" strike="noStrike">
              <a:solidFill>
                <a:srgbClr val="000000"/>
              </a:solidFill>
              <a:latin typeface="Arial"/>
            </a:endParaRPr>
          </a:p>
          <a:p>
            <a:pPr marL="434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95960" indent="-361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know whether they go to the neighborhood specifically to commit crimes, or whether they just do so when passing through? </a:t>
            </a:r>
            <a:endParaRPr b="0" lang="en-US" sz="2400" spc="-1" strike="noStrike">
              <a:solidFill>
                <a:srgbClr val="000000"/>
              </a:solidFill>
              <a:latin typeface="Arial"/>
            </a:endParaRPr>
          </a:p>
          <a:p>
            <a:pPr marL="434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9280113-B474-4C49-92E6-621B20F14E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alyzing the Problem</a:t>
            </a: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crime will the barriers preven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alternatives to street closures (e.g., CCTV, neighborhood watch, crackdowns, target-harden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could these alternatives not adequately substitute for closur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FDAEE8E-D453-467D-99CC-E0679056D6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tting Suppor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0" name="PlaceHolder 2"/>
          <p:cNvSpPr>
            <a:spLocks noGrp="1"/>
          </p:cNvSpPr>
          <p:nvPr>
            <p:ph/>
          </p:nvPr>
        </p:nvSpPr>
        <p:spPr>
          <a:xfrm>
            <a:off x="380880" y="1219320"/>
            <a:ext cx="8382240" cy="5333760"/>
          </a:xfrm>
          <a:prstGeom prst="rect">
            <a:avLst/>
          </a:prstGeom>
          <a:noFill/>
          <a:ln w="0">
            <a:noFill/>
          </a:ln>
        </p:spPr>
        <p:txBody>
          <a:bodyPr lIns="90000" rIns="90000" tIns="46800" bIns="46800" anchor="t">
            <a:normAutofit fontScale="97000"/>
          </a:bodyPr>
          <a:p>
            <a:pPr marL="443160" indent="-443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support from police district commanders, the chief, and other key city officials (e.g., traffic engineer)?</a:t>
            </a:r>
            <a:endParaRPr b="0" lang="en-US" sz="2400" spc="-1" strike="noStrike">
              <a:solidFill>
                <a:srgbClr val="000000"/>
              </a:solidFill>
              <a:latin typeface="Arial"/>
            </a:endParaRPr>
          </a:p>
          <a:p>
            <a:pPr marL="44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3160" indent="-443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clear mandate from residents and elected representatives to proceed?</a:t>
            </a:r>
            <a:endParaRPr b="0" lang="en-US" sz="2400" spc="-1" strike="noStrike">
              <a:solidFill>
                <a:srgbClr val="000000"/>
              </a:solidFill>
              <a:latin typeface="Arial"/>
            </a:endParaRPr>
          </a:p>
          <a:p>
            <a:pPr marL="44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3160" indent="-443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residents content with the barriers’ appearance?</a:t>
            </a:r>
            <a:endParaRPr b="0" lang="en-US" sz="2400" spc="-1" strike="noStrike">
              <a:solidFill>
                <a:srgbClr val="000000"/>
              </a:solidFill>
              <a:latin typeface="Arial"/>
            </a:endParaRPr>
          </a:p>
          <a:p>
            <a:pPr marL="44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3160" indent="-443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re resident concerns about neighborhood stigmatization?</a:t>
            </a:r>
            <a:endParaRPr b="0" lang="en-US" sz="2400" spc="-1" strike="noStrike">
              <a:solidFill>
                <a:srgbClr val="000000"/>
              </a:solidFill>
              <a:latin typeface="Arial"/>
            </a:endParaRPr>
          </a:p>
          <a:p>
            <a:pPr marL="44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3160" indent="-443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have keys (if keys are needed)?</a:t>
            </a:r>
            <a:endParaRPr b="0" lang="en-US" sz="2400" spc="-1" strike="noStrike">
              <a:solidFill>
                <a:srgbClr val="000000"/>
              </a:solidFill>
              <a:latin typeface="Arial"/>
            </a:endParaRPr>
          </a:p>
          <a:p>
            <a:pPr marL="44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3160" indent="-4431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bout the concerns of nearby communities about displaced traffic and crime?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5D66834-B364-4203-97AE-9EDB2F68EE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tting Support</a:t>
            </a:r>
            <a:endParaRPr b="0" lang="en-US" sz="4400" spc="-1" strike="noStrike">
              <a:solidFill>
                <a:srgbClr val="000000"/>
              </a:solidFill>
              <a:latin typeface="Arial"/>
            </a:endParaRPr>
          </a:p>
        </p:txBody>
      </p:sp>
      <p:sp>
        <p:nvSpPr>
          <p:cNvPr id="152"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re concerns from emergency service providers (fire, ambulance, and police)?</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plan acceptable to garbage pickup, snow removal, and mail delivery service provider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plan accommodate any special needs of public transport or school buses serving the neighborhood?</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the plan avoid excessive difficulties for delivery and cab driver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local media briefed about the need for closure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plan for dealing with public opposi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17EC3AA-39A8-43C2-997C-88358024A1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lementing the Closur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4" name="PlaceHolder 2"/>
          <p:cNvSpPr>
            <a:spLocks noGrp="1"/>
          </p:cNvSpPr>
          <p:nvPr>
            <p:ph/>
          </p:nvPr>
        </p:nvSpPr>
        <p:spPr>
          <a:xfrm>
            <a:off x="228600" y="1219320"/>
            <a:ext cx="8610480" cy="5333760"/>
          </a:xfrm>
          <a:prstGeom prst="rect">
            <a:avLst/>
          </a:prstGeom>
          <a:noFill/>
          <a:ln w="0">
            <a:noFill/>
          </a:ln>
        </p:spPr>
        <p:txBody>
          <a:bodyPr lIns="90000" rIns="90000" tIns="46800" bIns="46800" anchor="t">
            <a:normAutofit/>
          </a:bodyPr>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many streets and/or alleys will be closed?</a:t>
            </a:r>
            <a:endParaRPr b="0" lang="en-US" sz="2600" spc="-1" strike="noStrike">
              <a:solidFill>
                <a:srgbClr val="000000"/>
              </a:solidFill>
              <a:latin typeface="Arial"/>
            </a:endParaRPr>
          </a:p>
          <a:p>
            <a:pPr marL="4572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there a map showing where the closures will be made?</a:t>
            </a:r>
            <a:endParaRPr b="0" lang="en-US" sz="2600" spc="-1" strike="noStrike">
              <a:solidFill>
                <a:srgbClr val="000000"/>
              </a:solidFill>
              <a:latin typeface="Arial"/>
            </a:endParaRPr>
          </a:p>
          <a:p>
            <a:pPr marL="4572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there an explanation regarding the effect on neighborhood access and traffic patterns?</a:t>
            </a:r>
            <a:endParaRPr b="0" lang="en-US" sz="2600" spc="-1" strike="noStrike">
              <a:solidFill>
                <a:srgbClr val="000000"/>
              </a:solidFill>
              <a:latin typeface="Arial"/>
            </a:endParaRPr>
          </a:p>
          <a:p>
            <a:pPr marL="4572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kind of barriers will be installed? </a:t>
            </a:r>
            <a:endParaRPr b="0" lang="en-US" sz="2600" spc="-1" strike="noStrike">
              <a:solidFill>
                <a:srgbClr val="000000"/>
              </a:solidFill>
              <a:latin typeface="Arial"/>
            </a:endParaRPr>
          </a:p>
          <a:p>
            <a:pPr marL="4572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much will the barriers cos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99C3110-B57B-40A7-BA67-5392C03E21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lementing the Closures</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9000"/>
          </a:bodyPr>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long will it take to install the barriers once agreement has been reached?</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will install the barriers?</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es the plan include a trial period? If so, is it long enough to assess the closures’ effect on crime?</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will it be decided whether to make the closures permanent?</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es the plan ensure that any legal requirements for implementing closures can be met?</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FD0F7E1-BFFC-44AD-B091-8239C0B404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172200" y="2971800"/>
            <a:ext cx="1981080" cy="1704960"/>
          </a:xfrm>
          <a:prstGeom prst="leftArrow">
            <a:avLst>
              <a:gd name="adj1" fmla="val 50000"/>
              <a:gd name="adj2" fmla="val 290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lace (DEN) Problems</a:t>
            </a:r>
            <a:endParaRPr b="0" lang="en-US" sz="4800" spc="-1" strike="noStrike">
              <a:solidFill>
                <a:srgbClr val="000000"/>
              </a:solidFill>
              <a:latin typeface="Arial"/>
            </a:endParaRPr>
          </a:p>
        </p:txBody>
      </p:sp>
      <p:pic>
        <p:nvPicPr>
          <p:cNvPr id="59" name="" descr=""/>
          <p:cNvPicPr/>
          <p:nvPr/>
        </p:nvPicPr>
        <p:blipFill>
          <a:blip r:embed="rId1"/>
          <a:stretch/>
        </p:blipFill>
        <p:spPr>
          <a:xfrm>
            <a:off x="914400" y="1752480"/>
            <a:ext cx="4648320" cy="4469040"/>
          </a:xfrm>
          <a:prstGeom prst="rect">
            <a:avLst/>
          </a:prstGeom>
          <a:ln w="0">
            <a:noFill/>
          </a:ln>
        </p:spPr>
      </p:pic>
      <p:sp>
        <p:nvSpPr>
          <p:cNvPr id="3" name="PlaceHolder 2"/>
          <p:cNvSpPr>
            <a:spLocks noGrp="1"/>
          </p:cNvSpPr>
          <p:nvPr>
            <p:ph type="sldNum" idx="3"/>
          </p:nvPr>
        </p:nvSpPr>
        <p:spPr/>
        <p:txBody>
          <a:bodyPr/>
          <a:p>
            <a:fld id="{D9A1F78C-5DEF-4ABB-88A4-B2545C7985E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essing Effectivenes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8" name="PlaceHolder 2"/>
          <p:cNvSpPr>
            <a:spLocks noGrp="1"/>
          </p:cNvSpPr>
          <p:nvPr>
            <p:ph/>
          </p:nvPr>
        </p:nvSpPr>
        <p:spPr>
          <a:xfrm>
            <a:off x="380520" y="1219320"/>
            <a:ext cx="8534520" cy="5333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it possible to compare neighborhood crime or disorder before the closures with that after the closures?</a:t>
            </a:r>
            <a:endParaRPr b="0" lang="en-US" sz="3200" spc="-1" strike="noStrike">
              <a:solidFill>
                <a:srgbClr val="000000"/>
              </a:solidFill>
              <a:latin typeface="Arial"/>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the before-and-after time periods be comparable?</a:t>
            </a:r>
            <a:endParaRPr b="0" lang="en-US" sz="3200" spc="-1" strike="noStrike">
              <a:solidFill>
                <a:srgbClr val="000000"/>
              </a:solidFill>
              <a:latin typeface="Arial"/>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it possible to directly compare the proportions of crime committed by </a:t>
            </a:r>
            <a:r>
              <a:rPr b="0" i="1" lang="en-US" sz="3200" spc="-1" strike="noStrike">
                <a:solidFill>
                  <a:srgbClr val="000000"/>
                </a:solidFill>
                <a:latin typeface="Arial"/>
              </a:rPr>
              <a:t>outsiders</a:t>
            </a:r>
            <a:r>
              <a:rPr b="0" lang="en-US" sz="3200" spc="-1" strike="noStrike">
                <a:solidFill>
                  <a:srgbClr val="000000"/>
                </a:solidFill>
                <a:latin typeface="Arial"/>
              </a:rPr>
              <a:t> in the before-and-after period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48C151A-8137-4D11-9304-35C3DD282A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essing Effectiveness</a:t>
            </a:r>
            <a:endParaRPr b="0" lang="en-US" sz="4400" spc="-1" strike="noStrike">
              <a:solidFill>
                <a:srgbClr val="000000"/>
              </a:solidFill>
              <a:latin typeface="Arial"/>
            </a:endParaRPr>
          </a:p>
        </p:txBody>
      </p:sp>
      <p:sp>
        <p:nvSpPr>
          <p:cNvPr id="16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s it possible to compare before-and-after crime trends in the neighborhood with those in nearby neighborhoods?</a:t>
            </a:r>
            <a:endParaRPr b="0" lang="en-US" sz="3500" spc="-1" strike="noStrike">
              <a:solidFill>
                <a:srgbClr val="000000"/>
              </a:solidFill>
              <a:latin typeface="Arial"/>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endParaRPr b="0" lang="en-US" sz="3500" spc="-1" strike="noStrike">
              <a:solidFill>
                <a:srgbClr val="000000"/>
              </a:solidFill>
              <a:latin typeface="Arial"/>
            </a:endParaRPr>
          </a:p>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s it possible to examine possible displacement/diffusion?</a:t>
            </a:r>
            <a:endParaRPr b="0" lang="en-US" sz="3500" spc="-1" strike="noStrike">
              <a:solidFill>
                <a:srgbClr val="000000"/>
              </a:solidFill>
              <a:latin typeface="Arial"/>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34308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s it possible to estimate barrier cost-effectiveness?</a:t>
            </a:r>
            <a:endParaRPr b="0" lang="en-US" sz="3500" spc="-1" strike="noStrike">
              <a:solidFill>
                <a:srgbClr val="000000"/>
              </a:solidFill>
              <a:latin typeface="Arial"/>
            </a:endParaRPr>
          </a:p>
        </p:txBody>
      </p:sp>
      <p:sp>
        <p:nvSpPr>
          <p:cNvPr id="4" name="PlaceHolder 3"/>
          <p:cNvSpPr>
            <a:spLocks noGrp="1"/>
          </p:cNvSpPr>
          <p:nvPr>
            <p:ph type="sldNum" idx="3"/>
          </p:nvPr>
        </p:nvSpPr>
        <p:spPr/>
        <p:txBody>
          <a:bodyPr/>
          <a:p>
            <a:fld id="{0E77F3F8-F33A-401E-BDA2-106F7BA585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ass Exercise</a:t>
            </a:r>
            <a:endParaRPr b="0" lang="en-US" sz="4400" spc="-1" strike="noStrike">
              <a:solidFill>
                <a:srgbClr val="000000"/>
              </a:solidFill>
              <a:latin typeface="Arial"/>
            </a:endParaRPr>
          </a:p>
        </p:txBody>
      </p:sp>
      <p:sp>
        <p:nvSpPr>
          <p:cNvPr id="162"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one study from the last three slides, summarize the findings, and present the results to your cla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your own conclusions – was the project successfu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6B6D7CE-AA96-49B0-9F51-8E3FCA8FCC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aduate Exercise</a:t>
            </a:r>
            <a:endParaRPr b="0" lang="en-US" sz="4400" spc="-1" strike="noStrike">
              <a:solidFill>
                <a:srgbClr val="000000"/>
              </a:solidFill>
              <a:latin typeface="Arial"/>
            </a:endParaRPr>
          </a:p>
        </p:txBody>
      </p:sp>
      <p:sp>
        <p:nvSpPr>
          <p:cNvPr id="164" name="PlaceHolder 2"/>
          <p:cNvSpPr>
            <a:spLocks noGrp="1"/>
          </p:cNvSpPr>
          <p:nvPr>
            <p:ph/>
          </p:nvPr>
        </p:nvSpPr>
        <p:spPr>
          <a:xfrm>
            <a:off x="228600" y="1371600"/>
            <a:ext cx="86104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research from the next three slides, summarize findings for the street/alley closure studies that addressed property, violent, drug-related, and traffic offens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your assessments of the methodological strengths and weaknesses of the various research desig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conclusions about the effectiveness of street/alley closures within these specific crime categorie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D0A1F68-1EA9-4B00-A081-D45DF1930D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fficer Exercise</a:t>
            </a:r>
            <a:endParaRPr b="0" lang="en-US" sz="4400" spc="-1" strike="noStrike">
              <a:solidFill>
                <a:srgbClr val="000000"/>
              </a:solidFill>
              <a:latin typeface="Arial"/>
            </a:endParaRPr>
          </a:p>
        </p:txBody>
      </p:sp>
      <p:sp>
        <p:nvSpPr>
          <p:cNvPr id="166" name="PlaceHolder 2"/>
          <p:cNvSpPr>
            <a:spLocks noGrp="1"/>
          </p:cNvSpPr>
          <p:nvPr>
            <p:ph/>
          </p:nvPr>
        </p:nvSpPr>
        <p:spPr>
          <a:xfrm>
            <a:off x="228600" y="1981080"/>
            <a:ext cx="86868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a street/alley or a number of streets/alleys that might be likely targets for closure in your jurisdic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a plan/project that includes an assessment phas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the strategy and evaluate the resul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194EDCA-2498-41A6-AB2B-6A868F9DF0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28600"/>
            <a:ext cx="91440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Effective Are Street</a:t>
            </a:r>
            <a:br>
              <a:rPr sz="3600"/>
            </a:br>
            <a:r>
              <a:rPr b="1" lang="en-US" sz="3600" spc="-1" strike="noStrike">
                <a:solidFill>
                  <a:srgbClr val="000000"/>
                </a:solidFill>
                <a:latin typeface="Arial"/>
              </a:rPr>
              <a:t>and Alley Closures?</a:t>
            </a:r>
            <a:endParaRPr b="0" lang="en-US" sz="3600" spc="-1" strike="noStrike">
              <a:solidFill>
                <a:srgbClr val="000000"/>
              </a:solidFill>
              <a:latin typeface="Arial"/>
            </a:endParaRPr>
          </a:p>
        </p:txBody>
      </p:sp>
      <p:pic>
        <p:nvPicPr>
          <p:cNvPr id="168" name="" descr=""/>
          <p:cNvPicPr/>
          <p:nvPr/>
        </p:nvPicPr>
        <p:blipFill>
          <a:blip r:embed="rId1"/>
          <a:srcRect l="14844" t="13117" r="17188" b="15627"/>
          <a:stretch/>
        </p:blipFill>
        <p:spPr>
          <a:xfrm>
            <a:off x="0" y="1295280"/>
            <a:ext cx="9144000" cy="5513400"/>
          </a:xfrm>
          <a:prstGeom prst="rect">
            <a:avLst/>
          </a:prstGeom>
          <a:ln w="0">
            <a:noFill/>
          </a:ln>
        </p:spPr>
      </p:pic>
      <p:sp>
        <p:nvSpPr>
          <p:cNvPr id="3" name="PlaceHolder 2"/>
          <p:cNvSpPr>
            <a:spLocks noGrp="1"/>
          </p:cNvSpPr>
          <p:nvPr>
            <p:ph type="sldNum" idx="3"/>
          </p:nvPr>
        </p:nvSpPr>
        <p:spPr/>
        <p:txBody>
          <a:bodyPr/>
          <a:p>
            <a:fld id="{3E7100FA-B7B5-4983-AD06-902C72B4BF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Effective Are Street</a:t>
            </a:r>
            <a:br>
              <a:rPr sz="3600"/>
            </a:br>
            <a:r>
              <a:rPr b="1" lang="en-US" sz="3600" spc="-1" strike="noStrike">
                <a:solidFill>
                  <a:srgbClr val="000000"/>
                </a:solidFill>
                <a:latin typeface="Arial"/>
              </a:rPr>
              <a:t>and Alley Closures?</a:t>
            </a:r>
            <a:endParaRPr b="0" lang="en-US" sz="3600" spc="-1" strike="noStrike">
              <a:solidFill>
                <a:srgbClr val="000000"/>
              </a:solidFill>
              <a:latin typeface="Arial"/>
            </a:endParaRPr>
          </a:p>
        </p:txBody>
      </p:sp>
      <p:pic>
        <p:nvPicPr>
          <p:cNvPr id="170" name="" descr=""/>
          <p:cNvPicPr/>
          <p:nvPr/>
        </p:nvPicPr>
        <p:blipFill>
          <a:blip r:embed="rId1"/>
          <a:srcRect l="14844" t="23985" r="16405" b="25683"/>
          <a:stretch/>
        </p:blipFill>
        <p:spPr>
          <a:xfrm>
            <a:off x="0" y="1486080"/>
            <a:ext cx="9144000" cy="5371920"/>
          </a:xfrm>
          <a:prstGeom prst="rect">
            <a:avLst/>
          </a:prstGeom>
          <a:ln w="0">
            <a:noFill/>
          </a:ln>
        </p:spPr>
      </p:pic>
      <p:sp>
        <p:nvSpPr>
          <p:cNvPr id="3" name="PlaceHolder 2"/>
          <p:cNvSpPr>
            <a:spLocks noGrp="1"/>
          </p:cNvSpPr>
          <p:nvPr>
            <p:ph type="sldNum" idx="3"/>
          </p:nvPr>
        </p:nvSpPr>
        <p:spPr/>
        <p:txBody>
          <a:bodyPr/>
          <a:p>
            <a:fld id="{EA9D156E-0896-448F-B15A-042207F5A0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Effective Are Street</a:t>
            </a:r>
            <a:br>
              <a:rPr sz="3600"/>
            </a:br>
            <a:r>
              <a:rPr b="1" lang="en-US" sz="3600" spc="-1" strike="noStrike">
                <a:solidFill>
                  <a:srgbClr val="000000"/>
                </a:solidFill>
                <a:latin typeface="Arial"/>
              </a:rPr>
              <a:t>and Alley Closures?</a:t>
            </a:r>
            <a:endParaRPr b="0" lang="en-US" sz="3600" spc="-1" strike="noStrike">
              <a:solidFill>
                <a:srgbClr val="000000"/>
              </a:solidFill>
              <a:latin typeface="Arial"/>
            </a:endParaRPr>
          </a:p>
        </p:txBody>
      </p:sp>
      <p:pic>
        <p:nvPicPr>
          <p:cNvPr id="172" name="" descr=""/>
          <p:cNvPicPr/>
          <p:nvPr/>
        </p:nvPicPr>
        <p:blipFill>
          <a:blip r:embed="rId1"/>
          <a:srcRect l="15412" t="17138" r="17753" b="33337"/>
          <a:stretch/>
        </p:blipFill>
        <p:spPr>
          <a:xfrm>
            <a:off x="76320" y="1479600"/>
            <a:ext cx="8991360" cy="5378400"/>
          </a:xfrm>
          <a:prstGeom prst="rect">
            <a:avLst/>
          </a:prstGeom>
          <a:ln w="0">
            <a:noFill/>
          </a:ln>
        </p:spPr>
      </p:pic>
      <p:sp>
        <p:nvSpPr>
          <p:cNvPr id="3" name="PlaceHolder 2"/>
          <p:cNvSpPr>
            <a:spLocks noGrp="1"/>
          </p:cNvSpPr>
          <p:nvPr>
            <p:ph type="sldNum" idx="3"/>
          </p:nvPr>
        </p:nvSpPr>
        <p:spPr/>
        <p:txBody>
          <a:bodyPr/>
          <a:p>
            <a:fld id="{A577EDFF-B9DE-438C-8C78-74DBCA9897ED}"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es the 80-20 Rule Apply?</a:t>
            </a:r>
            <a:endParaRPr b="0" lang="en-US" sz="4400" spc="-1" strike="noStrike">
              <a:solidFill>
                <a:srgbClr val="000000"/>
              </a:solidFill>
              <a:latin typeface="Arial"/>
            </a:endParaRPr>
          </a:p>
        </p:txBody>
      </p:sp>
      <p:sp>
        <p:nvSpPr>
          <p:cNvPr id="61" name="PlaceHolder 2"/>
          <p:cNvSpPr>
            <a:spLocks noGrp="1"/>
          </p:cNvSpPr>
          <p:nvPr>
            <p:ph/>
          </p:nvPr>
        </p:nvSpPr>
        <p:spPr>
          <a:xfrm>
            <a:off x="457200" y="18288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Repeat Offenders</a:t>
            </a:r>
            <a:endParaRPr b="0" lang="en-US" sz="2800" spc="-1" strike="noStrike">
              <a:solidFill>
                <a:srgbClr val="000000"/>
              </a:solidFill>
              <a:latin typeface="Arial"/>
            </a:endParaRPr>
          </a:p>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Repeat Victims</a:t>
            </a:r>
            <a:endParaRPr b="0" lang="en-US" sz="2800" spc="-1" strike="noStrike">
              <a:solidFill>
                <a:srgbClr val="000000"/>
              </a:solidFill>
              <a:latin typeface="Arial"/>
            </a:endParaRPr>
          </a:p>
          <a:p>
            <a:pPr marL="343080" indent="-343080">
              <a:lnSpc>
                <a:spcPct val="8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eat Places or Hot Spots</a:t>
            </a:r>
            <a:endParaRPr b="0" lang="en-US" sz="4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ther “Crime” Concentration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Hot Products</a:t>
            </a:r>
            <a:endParaRPr b="0" lang="en-US" sz="2800" spc="-1" strike="noStrike">
              <a:solidFill>
                <a:srgbClr val="000000"/>
              </a:solidFill>
              <a:latin typeface="Arial"/>
            </a:endParaRPr>
          </a:p>
          <a:p>
            <a:pPr marL="343080" indent="-343080">
              <a:lnSpc>
                <a:spcPct val="8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sky Facilities</a:t>
            </a:r>
            <a:endParaRPr b="0" lang="en-US" sz="4400" spc="-1" strike="noStrike">
              <a:solidFill>
                <a:srgbClr val="000000"/>
              </a:solidFill>
              <a:latin typeface="Arial"/>
            </a:endParaRPr>
          </a:p>
          <a:p>
            <a:pPr marL="343080" indent="-343080">
              <a:lnSpc>
                <a:spcPct val="8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Tim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F346DF6-007C-4DB1-B0FA-E3DA2537B9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152280" y="0"/>
          <a:ext cx="8991720" cy="6886080"/>
        </p:xfrm>
        <a:graphic>
          <a:graphicData uri="http://schemas.openxmlformats.org/drawingml/2006/table">
            <a:tbl>
              <a:tblPr/>
              <a:tblGrid>
                <a:gridCol w="449280"/>
                <a:gridCol w="2173320"/>
                <a:gridCol w="1198800"/>
                <a:gridCol w="1274760"/>
                <a:gridCol w="1198440"/>
                <a:gridCol w="1272960"/>
                <a:gridCol w="1424160"/>
              </a:tblGrid>
              <a:tr h="9619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ea typeface="Arial"/>
                        </a:rPr>
                        <a:t>Addres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ea typeface="Arial"/>
                        </a:rPr>
                        <a:t>No.  Robberi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ea typeface="Arial"/>
                        </a:rPr>
                        <a:t>% Robberi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ea typeface="Arial"/>
                        </a:rPr>
                        <a:t>Cum. % Robberi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ea typeface="Arial"/>
                        </a:rPr>
                        <a:t>% Addresses (N=10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ea typeface="Arial"/>
                        </a:rPr>
                        <a:t>Cum. % Address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91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34 E Main S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2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2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2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54 S Clover Av</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2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5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012 N Grand Blv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5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1.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8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1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210 N Grand Blv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6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4.7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7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430 E Main S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3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8.0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7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65 W Haverty R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3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1.3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6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1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401 N Staple D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9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4.3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6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10 S Daisy R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5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6.9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5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1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598 N Roan R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8.7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4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32 E Main S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0.5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4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1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dresses with 4 (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3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7.9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7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4.1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18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dresses with 3 (1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6.6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4.5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4.1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8.3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5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dresses with 2 (2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4.7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9.3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8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7.1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1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dresses with 1 (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6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2.8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9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ota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7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
          <p:cNvSpPr/>
          <p:nvPr/>
        </p:nvSpPr>
        <p:spPr>
          <a:xfrm>
            <a:off x="5029200" y="4191120"/>
            <a:ext cx="175248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543800" y="4191120"/>
            <a:ext cx="175248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41360" y="6513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E953791-53ED-4B2E-B78B-0CA2E860D416}"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63"/>
                                        </p:tgtEl>
                                        <p:attrNameLst>
                                          <p:attrName>style.visibility</p:attrName>
                                        </p:attrNameLst>
                                      </p:cBhvr>
                                      <p:to>
                                        <p:strVal val="visible"/>
                                      </p:to>
                                    </p:set>
                                    <p:animEffect filter="barn(inHorizontal)" transition="in">
                                      <p:cBhvr additive="repl">
                                        <p:cTn id="7" dur="500"/>
                                        <p:tgtEl>
                                          <p:spTgt spid="63"/>
                                        </p:tgtEl>
                                      </p:cBhvr>
                                    </p:animEffect>
                                  </p:childTnLst>
                                </p:cTn>
                              </p:par>
                            </p:childTnLst>
                          </p:cTn>
                        </p:par>
                        <p:par>
                          <p:cTn id="8" fill="hold">
                            <p:stCondLst>
                              <p:cond delay="500"/>
                            </p:stCondLst>
                            <p:childTnLst>
                              <p:par>
                                <p:cTn id="9" nodeType="afterEffect" fill="hold" presetClass="entr" presetID="16" presetSubtype="26">
                                  <p:stCondLst>
                                    <p:cond delay="0"/>
                                  </p:stCondLst>
                                  <p:childTnLst>
                                    <p:set>
                                      <p:cBhvr>
                                        <p:cTn id="10" dur="1" fill="hold">
                                          <p:stCondLst>
                                            <p:cond delay="0"/>
                                          </p:stCondLst>
                                        </p:cTn>
                                        <p:tgtEl>
                                          <p:spTgt spid="64"/>
                                        </p:tgtEl>
                                        <p:attrNameLst>
                                          <p:attrName>style.visibility</p:attrName>
                                        </p:attrNameLst>
                                      </p:cBhvr>
                                      <p:to>
                                        <p:strVal val="visible"/>
                                      </p:to>
                                    </p:set>
                                    <p:animEffect filter="barn(inHorizontal)" transition="in">
                                      <p:cBhvr additive="repl">
                                        <p:cTn id="11"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at is a “Hot Spot?”</a:t>
            </a:r>
            <a:endParaRPr b="0" lang="en-US" sz="4800" spc="-1" strike="noStrike">
              <a:solidFill>
                <a:srgbClr val="000000"/>
              </a:solidFill>
              <a:latin typeface="Arial"/>
            </a:endParaRPr>
          </a:p>
        </p:txBody>
      </p:sp>
      <p:sp>
        <p:nvSpPr>
          <p:cNvPr id="67" name="PlaceHolder 2"/>
          <p:cNvSpPr>
            <a:spLocks noGrp="1"/>
          </p:cNvSpPr>
          <p:nvPr>
            <p:ph/>
          </p:nvPr>
        </p:nvSpPr>
        <p:spPr>
          <a:xfrm>
            <a:off x="228600" y="2057400"/>
            <a:ext cx="8686800" cy="4068720"/>
          </a:xfrm>
          <a:prstGeom prst="rect">
            <a:avLst/>
          </a:prstGeom>
          <a:noFill/>
          <a:ln w="0">
            <a:noFill/>
          </a:ln>
        </p:spPr>
        <p:txBody>
          <a:bodyPr lIns="90000" rIns="90000" tIns="46800" bIns="46800" anchor="t">
            <a:normAutofit/>
          </a:bodyPr>
          <a:p>
            <a:pPr marL="34308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geographic concept; a place (or</a:t>
            </a:r>
            <a:endParaRPr b="0" lang="en-US" sz="3800" spc="-1" strike="noStrike">
              <a:solidFill>
                <a:srgbClr val="000000"/>
              </a:solidFill>
              <a:latin typeface="Arial"/>
            </a:endParaRPr>
          </a:p>
          <a:p>
            <a:pPr marL="34308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ddress) that has a disproportionately</a:t>
            </a:r>
            <a:endParaRPr b="0" lang="en-US" sz="3800" spc="-1" strike="noStrike">
              <a:solidFill>
                <a:srgbClr val="000000"/>
              </a:solidFill>
              <a:latin typeface="Arial"/>
            </a:endParaRPr>
          </a:p>
          <a:p>
            <a:pPr marL="34308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igh rate of reported crimes or calls for</a:t>
            </a:r>
            <a:endParaRPr b="0" lang="en-US" sz="3800" spc="-1" strike="noStrike">
              <a:solidFill>
                <a:srgbClr val="000000"/>
              </a:solidFill>
              <a:latin typeface="Arial"/>
            </a:endParaRPr>
          </a:p>
          <a:p>
            <a:pPr marL="34308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olice assistance.  </a:t>
            </a:r>
            <a:endParaRPr b="0" lang="en-US" sz="3800" spc="-1" strike="noStrike">
              <a:solidFill>
                <a:srgbClr val="000000"/>
              </a:solidFill>
              <a:latin typeface="Arial"/>
            </a:endParaRPr>
          </a:p>
        </p:txBody>
      </p:sp>
      <p:sp>
        <p:nvSpPr>
          <p:cNvPr id="4" name="PlaceHolder 3"/>
          <p:cNvSpPr>
            <a:spLocks noGrp="1"/>
          </p:cNvSpPr>
          <p:nvPr>
            <p:ph type="sldNum" idx="3"/>
          </p:nvPr>
        </p:nvSpPr>
        <p:spPr/>
        <p:txBody>
          <a:bodyPr/>
          <a:p>
            <a:fld id="{3905D36E-66E8-4346-A040-92352E7E73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Makes Hot Spots Hot?</a:t>
            </a:r>
            <a:endParaRPr b="0" lang="en-US" sz="4400" spc="-1" strike="noStrike">
              <a:solidFill>
                <a:srgbClr val="000000"/>
              </a:solidFill>
              <a:latin typeface="Arial"/>
            </a:endParaRPr>
          </a:p>
        </p:txBody>
      </p:sp>
      <p:sp>
        <p:nvSpPr>
          <p:cNvPr id="69" name=""/>
          <p:cNvSpPr/>
          <p:nvPr/>
        </p:nvSpPr>
        <p:spPr>
          <a:xfrm>
            <a:off x="457200" y="1600200"/>
            <a:ext cx="4038480" cy="44956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t Spots – “Busy or dangerous places or location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what makes spots hot (lots of dots) may determine the success in reducing them</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is important for SARA proce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 descr=""/>
          <p:cNvPicPr/>
          <p:nvPr/>
        </p:nvPicPr>
        <p:blipFill>
          <a:blip r:embed="rId1"/>
          <a:stretch/>
        </p:blipFill>
        <p:spPr>
          <a:xfrm>
            <a:off x="4800600" y="1600200"/>
            <a:ext cx="4043520" cy="4800600"/>
          </a:xfrm>
          <a:prstGeom prst="rect">
            <a:avLst/>
          </a:prstGeom>
          <a:ln w="0">
            <a:noFill/>
          </a:ln>
        </p:spPr>
      </p:pic>
      <p:sp>
        <p:nvSpPr>
          <p:cNvPr id="2" name="PlaceHolder 1"/>
          <p:cNvSpPr>
            <a:spLocks noGrp="1"/>
          </p:cNvSpPr>
          <p:nvPr>
            <p:ph type="sldNum" idx="3"/>
          </p:nvPr>
        </p:nvSpPr>
        <p:spPr/>
        <p:txBody>
          <a:bodyPr/>
          <a:p>
            <a:fld id="{BC64CD14-7C99-41C0-857D-EED05CB76D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6T16:11:17Z</dcterms:created>
  <dc:creator>Joe Kuhns</dc:creator>
  <dc:description/>
  <dc:language>en-US</dc:language>
  <cp:lastModifiedBy>Joe Kuhns</cp:lastModifiedBy>
  <dcterms:modified xsi:type="dcterms:W3CDTF">2006-12-18T19:25:28Z</dcterms:modified>
  <cp:revision>164</cp:revision>
  <dc:subject/>
  <dc:title>Slide 1</dc:title>
</cp:coreProperties>
</file>