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E49E-095F-4A6B-B99E-B4C257FBF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This slide is repeated here to use as a reference for the previous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25techniqu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a long tradition in criminal justice research of interviewing active offenders, but little of this research has focused specifically on police problem solving.  This is unfortunate because active offenders provide substantial amounts of information about each of the elements of the crime triangle: victims, offenders, and pl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information should prove useful for strategic problem-solving interventions, because it yields information about crime patterns in general that may not be obvious when examining one case at a time. The information from such interviews may enhance existing problem-solving projects or generate new ones. The information can also improve officer safe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istinction between offenses and offenders is important because it highlights the two different kinds of knowledge–strategic and tactical–that can be gleaned from interviews of active offe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1) You can learn about one important leg of the crime triangle by studying </a:t>
            </a:r>
            <a:r>
              <a:rPr b="0" i="1" lang="en-US" sz="800" spc="-1" strike="noStrike">
                <a:solidFill>
                  <a:srgbClr val="000000"/>
                </a:solidFill>
                <a:latin typeface="Arial"/>
              </a:rPr>
              <a:t>offenders.</a:t>
            </a:r>
            <a:r>
              <a:rPr b="0" lang="en-US" sz="800" spc="-1" strike="noStrike">
                <a:solidFill>
                  <a:srgbClr val="000000"/>
                </a:solidFill>
                <a:latin typeface="Arial"/>
              </a:rPr>
              <a:t> Information from such interviews provides </a:t>
            </a:r>
            <a:r>
              <a:rPr b="0" lang="en-US" sz="800" spc="-1" strike="noStrike">
                <a:solidFill>
                  <a:srgbClr val="000000"/>
                </a:solidFill>
                <a:latin typeface="Arial"/>
              </a:rPr>
              <a:t>	</a:t>
            </a:r>
            <a:r>
              <a:rPr b="0" lang="en-US" sz="800" spc="-1" strike="noStrike">
                <a:solidFill>
                  <a:srgbClr val="000000"/>
                </a:solidFill>
                <a:latin typeface="Arial"/>
              </a:rPr>
              <a:t>important tactical information for responding to one specific individual or specific patterns of behavior. Such information is useful in </a:t>
            </a:r>
            <a:r>
              <a:rPr b="0" lang="en-US" sz="800" spc="-1" strike="noStrike">
                <a:solidFill>
                  <a:srgbClr val="000000"/>
                </a:solidFill>
                <a:latin typeface="Arial"/>
              </a:rPr>
              <a:t>	</a:t>
            </a:r>
            <a:r>
              <a:rPr b="0" lang="en-US" sz="800" spc="-1" strike="noStrike">
                <a:solidFill>
                  <a:srgbClr val="000000"/>
                </a:solidFill>
                <a:latin typeface="Arial"/>
              </a:rPr>
              <a:t>responding to that individual and others who may behave like this pers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 Studying </a:t>
            </a:r>
            <a:r>
              <a:rPr b="0" i="1" lang="en-US" sz="800" spc="-1" strike="noStrike">
                <a:solidFill>
                  <a:srgbClr val="000000"/>
                </a:solidFill>
                <a:latin typeface="Arial"/>
              </a:rPr>
              <a:t>offenses</a:t>
            </a:r>
            <a:r>
              <a:rPr b="0" lang="en-US" sz="800" spc="-1" strike="noStrike">
                <a:solidFill>
                  <a:srgbClr val="000000"/>
                </a:solidFill>
                <a:latin typeface="Arial"/>
              </a:rPr>
              <a:t> provides information of strategic value for responding to patterns and trends in general. This guide attempts to </a:t>
            </a:r>
            <a:r>
              <a:rPr b="0" lang="en-US" sz="800" spc="-1" strike="noStrike">
                <a:solidFill>
                  <a:srgbClr val="000000"/>
                </a:solidFill>
                <a:latin typeface="Arial"/>
              </a:rPr>
              <a:t>	</a:t>
            </a:r>
            <a:r>
              <a:rPr b="0" lang="en-US" sz="800" spc="-1" strike="noStrike">
                <a:solidFill>
                  <a:srgbClr val="000000"/>
                </a:solidFill>
                <a:latin typeface="Arial"/>
              </a:rPr>
              <a:t>bridge the gap between police and researchers by underscoring the common purposes both groups have, and pointing out the problem-</a:t>
            </a:r>
            <a:r>
              <a:rPr b="0" lang="en-US" sz="800" spc="-1" strike="noStrike">
                <a:solidFill>
                  <a:srgbClr val="000000"/>
                </a:solidFill>
                <a:latin typeface="Arial"/>
              </a:rPr>
              <a:t>	</a:t>
            </a:r>
            <a:r>
              <a:rPr b="0" lang="en-US" sz="800" spc="-1" strike="noStrike">
                <a:solidFill>
                  <a:srgbClr val="000000"/>
                </a:solidFill>
                <a:latin typeface="Arial"/>
              </a:rPr>
              <a:t>solving value to be gained from interviewing active offe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from active offenders is particularly important because in some cases, it comes from offenders who have not been caught. In other cases, information from active offenders can inform you about offenses other than those for which the offender was arrested. Robbery provides an excellent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s with active armed robbers revealed that these offenders experienced a large number of victimizations that they did not report to the police.  Often these victimizations were retaliation for earlier robberies and sometimes produced an escalating series of crime sprees. However, these victimizations have implications for the broader community because these offenders often "take matters into their own hands" and retaliate for their victimization, harming innocent members of the community, making the community less safe in general, and greatly increasing fear of cr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key element of the SARA model as it more fully elaborates on the nature of crime problems and their gene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http://popcenter.org/Tools/tool-interviewingOffenders.htm</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popcenter.org/Tools/tool-interviewingOffender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enders are versatile. </a:t>
            </a:r>
            <a:r>
              <a:rPr b="0" lang="en-US" sz="800" spc="-1" strike="noStrike">
                <a:solidFill>
                  <a:srgbClr val="000000"/>
                </a:solidFill>
                <a:latin typeface="Arial"/>
              </a:rPr>
              <a:t>There are few specialists out there. Most offenders employ a cafeteria-style approach to offending, that is, offenders engage in a variety of offenses and are opportunists. This is particularly important for narcotics investigations where interviews with active offenders have demonstrated that drug offenders are involved in multiple offenses. Indeed, there may be no group that is more versatile than drug involved offender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ending has peaks and valleys. </a:t>
            </a:r>
            <a:r>
              <a:rPr b="0" lang="en-US" sz="800" spc="-1" strike="noStrike">
                <a:solidFill>
                  <a:srgbClr val="000000"/>
                </a:solidFill>
                <a:latin typeface="Arial"/>
              </a:rPr>
              <a:t>Even the most active offender takes periods of time away from offending. In addition, there are cycles in the offending careers of individual offenders as well as in the overall patterns of offending. These patterns vary by day of week, time of day, nature of companionship, age, gender, and economic conditions.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re are several keys to understanding the motives of active offenders. </a:t>
            </a:r>
            <a:r>
              <a:rPr b="0" lang="en-US" sz="800" spc="-1" strike="noStrike">
                <a:solidFill>
                  <a:srgbClr val="000000"/>
                </a:solidFill>
                <a:latin typeface="Arial"/>
              </a:rPr>
              <a:t>These include partying, keeping up outward appearances, group processes, self protection and retaliation. Few crimes are committed to meet pressing economic needs such as rent or car payments. Co-offending is a constant to most offending, particularly among youth whose crimes are overwhelmingly committed in a group contex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http://popcenter.org/Tools/tool-interviewingOffenders.htm</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festyle plays an important role in offending. </a:t>
            </a:r>
            <a:r>
              <a:rPr b="0" lang="en-US" sz="1000" spc="-1" strike="noStrike">
                <a:solidFill>
                  <a:srgbClr val="000000"/>
                </a:solidFill>
                <a:latin typeface="Arial"/>
              </a:rPr>
              <a:t>Interviews and observations with active offenders hold the promise of uncovering more of that lifestyle than simply interviewing offenders in prison. In particular, the "code of the street," a set of values about being tough, not backing down, and protecting one's reputation; is much more evident in interviews with active offenders than it is in interviews conducted in prison, or in reviewing police and court records.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ctimization among offenders is very high and motivates much offending. </a:t>
            </a:r>
            <a:r>
              <a:rPr b="0" lang="en-US" sz="1000" spc="-1" strike="noStrike">
                <a:solidFill>
                  <a:srgbClr val="000000"/>
                </a:solidFill>
                <a:latin typeface="Arial"/>
              </a:rPr>
              <a:t>There is little loyalty among offenders, many of whom victimize each other or don't partner well with each other for the long term.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nders do respond to sanctions or the threat of sanctions, but only in a limited way and under certain circumstances. </a:t>
            </a:r>
            <a:r>
              <a:rPr b="0" lang="en-US" sz="1000" spc="-1" strike="noStrike">
                <a:solidFill>
                  <a:srgbClr val="000000"/>
                </a:solidFill>
                <a:latin typeface="Arial"/>
              </a:rPr>
              <a:t>The viability of threats is linked to lifestyle issues and limited rationality. Traditional methods of deterrence rarely work among committed offenders, and innovative techniques such as those used in the Boston Gun Project or the Indianapolis VIPER initiative are necessary.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ender careers have a beginning and an end. </a:t>
            </a:r>
            <a:r>
              <a:rPr b="0" lang="en-US" sz="1000" spc="-1" strike="noStrike">
                <a:solidFill>
                  <a:srgbClr val="000000"/>
                </a:solidFill>
                <a:latin typeface="Arial"/>
              </a:rPr>
              <a:t>Hastening the end, postponing the beginning, and reducing the peaks each require different strategies but each will pay dividends. The age-crime curve comes in to play here, and understanding the lifecycle of offenders is important.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http://popcenter.org/Tools/tool-interviewingOffenders.htm</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The Goals of Offender Intervie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oal of interviewing active offender is to gain information that can help solve or prevent crimes. Things are not always as straightforward as they se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decision to make is whether the goal of the interviews is to provide either tactical or strategic information.  In tactical situations, information is gathered to meet short-term needs or ongoing investigations or activities.  For strategic purposes, information from active offenders can be most useful in understanding motives, target selection, co-offending, or disposing of stolen goo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ying what to ask can be the most important part of the process. The first place to start is with questionnaires that may have been used for a similar purpose.  Most researchers are willing to share their questionnaires.  It is important to consult someone experienced in making up such a questionnaire for advice on ordering of questions, how to ask questions, how to use "probes," and follow-up questions. It is also important to pre-test the questionnaire with several subjects before it is used for re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Who to Interview</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rmining who to interview is important as well. Not every suspect, person of interest, or arrestee can be interviewed; there simply isn't enough time or personnel available.  High-rate offenders, particularly when they are not in a custody situation, can be among the most useful sources of information for strategic purposes.  The field is an excellent site to conduct such interviews.  Some custody situations, particularly shortly before release on bond or on municipal warrants, can also be produc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y offenders may offer more information after conviction, perhaps under conditions of community supervision, regarding other offenses than prior to conviction.  It is important that interviews not focus simply on the characteristics of the current offense. Many burglars know a good deal about drug markets, the fencing of goods, and other forms of street crime. It is important to glean this information from them before they are relea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ing active offenders provides a much closer look at offending than prison interviews. The offenders who end up in prison are a selective group, in a sense they are the "failures," the criminals who get caught.  Interviewing active offenders makes it much more likely that the information about motives, techniques, and associations will be closer to the offense, and therefore more vali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Who Should Conduct the Interview</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wo primary choices are to have police conduct the interviews in-house and contract with another group to conduct the interviews.  There are advantages to both. For example, the police may be skilled at interviewing and have knowledge of details that could lead them to probe offenders in more detail. On the other hand, skilled outsiders may present less of a threat to offenders and gain more information. If you contract the interviews to a research firm or university-based team, clear and specific instructions regarding what is expected should be provided, and a questionnaire should be negotiated between the parties. The advantages of partnering with researchers to learn more should not be ignored.  Ethical concerns may dictate that non-sworn personnel conduct the interviews in cases where officers are involved in active cases that include potential interview subjec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hoice of interviewer is as important as the choice of the subject to be interviewed.  Clearly, the value of subject knowledge is critical on the part of the interviewer. Equally important is the commitment to and ability to think strategically, searching for the appropriate applications of the information gleaned in the interview. The ability to probe for in-depth information, challenge a subject on inconsistencies or apparent falsehoods, and link across different kinds of crime are important qualities in an interviewer. Typically, these qualities are found in a veteran detective, though not always.  Matching the race and gender of interviewer and subject is not critical, though it is desir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How to Find Appropriate Subjects</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olice typically have no shortage of appropriate subjects: offenders with long histories of offending or subjects who associate with such offenders.  However, you may want to expand the area where you search for appropriate subjects. Bodegas, convenience stores, car washes, fast food restaurants, vacant lots, street corners, areas in and around emergency room waiting areas, probation offices, alleys, and basketball courts may be appropriate "catchment" areas for you to seek out such potential subjects. In a sense, this advice represents an exhortation to meet offenders "on their own turf," where they are likely to feel more comfortable, and more importantly, be more likely to coope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Convincing Subjects to Participate</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of the successful research with active offenders has offered them incentives to participate, either in the form of cash (which seems to work best) or vouchers.  In the research community, the principles of informed consent and Human Subjects Protection must guide such activities.  Typically, the police are not in a position to offer such incentives. The tradition of offering some compensation for information has a long history in policing in the use of confidential informants, but there can be other avenues in which enticements to discuss offending can be offered. You should consult with local legal counsel to ensure that any inducements offered to offenders do not violate laws, policies, or professional ethic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Informed Cons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enders interviewed should understand the purposes of the questions being put to them; the likely consequences to them for answering, refusing to answer, or answering falsely the questions; what, if anything, they will receive for their cooperation; their right to refuse to participate; and any other information that will enable them to provide informed consent to particip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Maintaining Field Rel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offenders have agreed to talk and provide information about crime patterns and techniques, it is important that communication be kept open. Some researchers reported that offenders would show up at their university after hearing from a friend that a study of burglary, robbery, or gang members was ongoing. Keeping subjects involved in an ongoing basis can pay particular dividends when the need for tactical information regarding a specific offense arises, and such subjects can play helpful roles in such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http://popcenter.org/Tools/tool-interviewingOffender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Conducting Interviews</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hat as much information be recorded in an interview as possib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researchers tape record their conversations with offenders and have them transcribed for analysis at a later tim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also important that the location in which the full interview is conducted does not place offenders at undue ris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ducting interviews in plainclothes may allay some offenders' fears, and it certainly will not tip off the offender to others as an inform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researchers have found that doing interviews in public places was counterproductive, and some degree of privacy provided a safer and more useful set of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s can be conducted in groups, following a focus group methodology, or individually.  There are some who argue that when offenders are interviewed in a group setting that there is less bragging and exaggeration, because others in the group will contradict someone who exaggerates. In addition, group interviews, particularly in a custody setting, can dispel fears about being labeled a "snitch" or a "stool pigeon." Others have found that interviewing one individual at a time is more likely to provide in-depth information and allows for a more "orderly" interview. There is no correct answer to this dilemma, however some advice can be offered. First, if the nature of questions is about group offending, such as gang activity or burglary, group interviews may make more sense. If the activity is more likely to be committed by one individual, then individual interviews may suffi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Sorting Out the Truth</a:t>
            </a: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ers are sensitive to the claims that offenders may not always be truthful, by either bragging about offenses they did not commit or concealing offenses they did commit. Researchers generally have been careful to try and find means by which they can validate what they are told. This has been done several wa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times this is done through repeated interviews and observations with the same research subject to look for the consistency of what the subject has sai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other occasions, interviews with different individuals regarding the same event are compared to determine the extent to which they are telling the same "story."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ird method of validating responses is to compare offender responses to what is known from other groups regarding their behavior. Other groups can include police (using arrest records or field interview cards), schools, juvenile court workers, and other adults in the community.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servations can be combined with interview techniques to determine whether a set of responses corresponds to other things that the researcher learns through observation.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some instances, researchers have used official records, lie detectors, or urinalysis to assess the extent to which their subjects were telling them the truth. What has generally been found from such validation efforts is that like most people, offenders are not always truthful in reporting their behavior. In some instances offenders reported more crime and more arrests than official records checks revealed.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bility of researchers to obtain valid information is enhanced by a number of factors. The first factor is the ability to enter the interview or observation setting with some knowledge of the behavior or community that they are trying to study. A second factor that enhances the reliability of such information is the use of multiple measures of the same concept. For example, an offender may be asked about gun ownership in a number of ways and on a number of occasions. The combined information will likely yield the most valid picture of gun ownership. Researchers can also rely on what is known from other sources of information about the specific behavior of interest. In this manner, crime reports, previous research, and a broader set of interviews with associates of the individual of interest may prove fruitfu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alyzing the Interview Resul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view results from a single offender are often quite useful. The real benefit from such interviews comes when several of them can be pieced together to form a larger picture of an offense. For example, the work by Wright and Decker (1994) with active residential burglars established patterns by which burglars got rid of the proceeds of their crimes, demonstrating the main categories of action as well as the variation within those disposal types. There are a number of software packages that can be used quite easily to sort through interview results, determine patterns, and create classifications.  Such software can be used to analyze the text of police reports, where such reports exist in computerized text format. Here is an area where assistance from crime analysts can greatly enhance the utility of the analysis. These tools can help you to wring the greatest utility from information that can be costly to coll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senting the Find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important things to do with information collected from active offenders is to transmit it to others within the police department, as well as other police departments and agencies of the justice system. Probation, parole, and prosecution may all find some utility in such information in the monitoring of offenders or preparation of cases. It is likely that police agencies face, to a large degree, some common issues. The goal of collecting such information is to end up with a product that is useful and can be applied in a wide variety of circumstances. Nothing detracts from the utility of information like having it presented in an unintelligible or overly complicated manner. Summaries with key points in bulleted form, a simple graph or two, and suggestions about action steps are the surest way to ensure that information becomes ac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any analysis, findings should be presented around key concepts and themes. These concepts and themes should be drawn from the focus of the problem-solving initiative. Summaries of what an individual subject said are generally less helpful than summaries of what all the subjects said about a particular subject. Many researchers have found that discussing their findings and conclusion among themselves, and then with their research subjects has been very producti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pplying the Interview Results to Tactical and Strategic Problem Solv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oducts of interviews with active offenders can be quite useful. As noted above, one of the key issues that has been learned from these interviews is the role that lifestyle plays in offending. Interviews and observations hold the promise of uncovering more of that lifestyle than simply interviewing offenders in prison. Such interviews and observations are important because they paint a different picture of offending than emerges from solely relying on law enforcement sources. In addition, interviews have shown that offenders do not always perceive the cues in ways that we expect. Determining their perceptions can be the key to successful interven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o, Texas police department provides a good example.  Having determined that underage drinking was a problem in Plano, an officer assigned to problem-solving conducted interviews with clerks in package stores. These interviews revealed a lack of fear of being caught for underage drinking, coupled with limited knowledge of the laws governing sale of alcohol to underage minors. This information was used to pilot an informational campaign to raise awareness of the law and penalties attached to the laws against the sale of alcohol to minors. Sales to minors decreased significa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Lancashire, Great Britain, police officers observed a serious problem with cocaine and crack use. Interviews were conducted with the 10 individuals most involved in such drug use and offending such as robbery, burglary, and auto crimes. These interviews determined that there was a lack of connections between offenders and treatment. As a consequence, police worked to fix the gaps in the system of linking offenders to treatment services, as well as hold these individuals accountable for their behavior. A 30 percent reduction in crime was recor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uccessful </a:t>
            </a:r>
            <a:r>
              <a:rPr b="1" lang="en-US" sz="800" spc="-1" strike="noStrike">
                <a:solidFill>
                  <a:srgbClr val="000000"/>
                </a:solidFill>
                <a:latin typeface="Arial"/>
              </a:rPr>
              <a:t>Boston Operation Ceasefire</a:t>
            </a:r>
            <a:r>
              <a:rPr b="0" lang="en-US" sz="800" spc="-1" strike="noStrike">
                <a:solidFill>
                  <a:srgbClr val="000000"/>
                </a:solidFill>
                <a:latin typeface="Arial"/>
              </a:rPr>
              <a:t> (see following slides) used interviews with active gang members to determine preferences for guns and assess the role of drug dealing in gangs.  The results from these interviews changed the focus in gun interdiction strategies and led to the use of directed patrol against gang drug sales when shootings erup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erous other examples include use of interviews with prostitutes in the Lancashire Constabulary, with "johns" and prostitutes in Buffalo, and with burglars in Chula Vista, California.  In each case, these projects illustrate the feasibility as well as the impact of such an approach. Interviewing active offenders can enhance existing POP projects or generate new ones. In either case, the information gleaned from active offenders can provide important strategic information to change interven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http://popcenter.org/Tools/tool-interviewingOffender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ston gun project was a problem-oriented policing enterprise expressly aimed at taking on a serous large-scale crime problem---homicide victimization among young people in Bost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s:</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Braga, A., Kennedy, D., Waring, A. &amp; Piehl, A. (2001).  Problem-Oriented Policing, Deterrence, and Youth Violence: An Evaluation of Boston’s Operation Ceasefire.  </a:t>
            </a:r>
            <a:r>
              <a:rPr b="0" i="1" lang="en-US" sz="1200" spc="-1" strike="noStrike">
                <a:solidFill>
                  <a:srgbClr val="000000"/>
                </a:solidFill>
                <a:latin typeface="Arial"/>
              </a:rPr>
              <a:t>Journal of Research in Crime and Delinquency</a:t>
            </a:r>
            <a:r>
              <a:rPr b="0" lang="en-US" sz="1200" spc="-1" strike="noStrike">
                <a:solidFill>
                  <a:srgbClr val="000000"/>
                </a:solidFill>
                <a:latin typeface="Arial"/>
              </a:rPr>
              <a:t>.  38(3): 195-2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ee - http://www.ncjrs.gov/pdffiles1/nij/188741.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www.popcenter.o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80-20 rule</a:t>
            </a:r>
            <a:r>
              <a:rPr b="0" lang="en-US" sz="1000" spc="-1" strike="noStrike">
                <a:solidFill>
                  <a:srgbClr val="000000"/>
                </a:solidFill>
                <a:latin typeface="Arial"/>
              </a:rPr>
              <a:t> – A very important principle of crime prevention is that crime is highly concentrated on particular people, </a:t>
            </a:r>
            <a:r>
              <a:rPr b="1" lang="en-US" sz="1000" spc="-1" strike="noStrike">
                <a:solidFill>
                  <a:srgbClr val="000000"/>
                </a:solidFill>
                <a:latin typeface="Arial"/>
              </a:rPr>
              <a:t>places</a:t>
            </a:r>
            <a:r>
              <a:rPr b="0" lang="en-US" sz="1000" spc="-1" strike="noStrike">
                <a:solidFill>
                  <a:srgbClr val="000000"/>
                </a:solidFill>
                <a:latin typeface="Arial"/>
              </a:rPr>
              <a:t> and things.   This suggests that focusing resources where crime is concentrated will yield the greatest preventative benefit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concentrations have attracted labels: Repeat Offenders, Repeat Victims,  </a:t>
            </a:r>
            <a:r>
              <a:rPr b="1" lang="en-US" sz="1000" spc="-1" strike="noStrike">
                <a:solidFill>
                  <a:srgbClr val="000000"/>
                </a:solidFill>
                <a:latin typeface="Arial"/>
              </a:rPr>
              <a:t>Repeat Places or Hot Spots</a:t>
            </a:r>
            <a:r>
              <a:rPr b="0" lang="en-US" sz="1000" spc="-1" strike="noStrike">
                <a:solidFill>
                  <a:srgbClr val="000000"/>
                </a:solidFill>
                <a:latin typeface="Arial"/>
              </a:rPr>
              <a:t>, Hot Products, </a:t>
            </a:r>
            <a:r>
              <a:rPr b="1" lang="en-US" sz="1000" spc="-1" strike="noStrike">
                <a:solidFill>
                  <a:srgbClr val="000000"/>
                </a:solidFill>
                <a:latin typeface="Arial"/>
              </a:rPr>
              <a:t>Risky Fac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s: </a:t>
            </a:r>
            <a:r>
              <a:rPr b="0" lang="en-US" sz="1000" spc="-1" strike="noStrike">
                <a:solidFill>
                  <a:srgbClr val="000000"/>
                </a:solidFill>
                <a:latin typeface="Arial"/>
              </a:rPr>
              <a:t> Clarke R.V. and Eck, J.E. (2005). Crime Analysis for Problem-Solvers in 60 Small Steps.  Washington, DC. Office of Community Oriented Policing Services. (See Step 18).</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lfgang, M., Figlio, R., &amp; Sellin, T. (1972).  </a:t>
            </a:r>
            <a:r>
              <a:rPr b="0" lang="en-US" sz="1000" spc="-1" strike="noStrike" u="sng">
                <a:solidFill>
                  <a:srgbClr val="000000"/>
                </a:solidFill>
                <a:uFillTx/>
                <a:latin typeface="Arial"/>
              </a:rPr>
              <a:t>Delinquency in a Birth Cohort</a:t>
            </a:r>
            <a:r>
              <a:rPr b="0" lang="en-US" sz="1000" spc="-1" strike="noStrike">
                <a:solidFill>
                  <a:srgbClr val="000000"/>
                </a:solidFill>
                <a:latin typeface="Arial"/>
              </a:rPr>
              <a:t>. Chicago: The University of Chicago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see Thornberry, T., Huizinga, D., &amp; Loeber, R. (1995).  The prevention of serious delinquency and violence: Implications from the program of research on the causes and correlates of delinquency.  In Howell, J., Krisberg, B., Hawkins, D. &amp; Wilson, J. (Eds.) </a:t>
            </a:r>
            <a:r>
              <a:rPr b="0" lang="en-US" sz="1000" spc="-1" strike="noStrike" u="sng">
                <a:solidFill>
                  <a:srgbClr val="000000"/>
                </a:solidFill>
                <a:uFillTx/>
                <a:latin typeface="Arial"/>
              </a:rPr>
              <a:t>Source book on Serious Violent and Chronic Juvenile Offenders</a:t>
            </a:r>
            <a:r>
              <a:rPr b="0" lang="en-US" sz="1000" spc="-1" strike="noStrike">
                <a:solidFill>
                  <a:srgbClr val="000000"/>
                </a:solidFill>
                <a:latin typeface="Arial"/>
              </a:rPr>
              <a:t>. Thousand Oaks, CA: Sage Publication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iott, D., Huizinga, D., &amp; Ageton, S. (1985).  </a:t>
            </a:r>
            <a:r>
              <a:rPr b="0" lang="en-US" sz="1000" spc="-1" strike="noStrike" u="sng">
                <a:solidFill>
                  <a:srgbClr val="000000"/>
                </a:solidFill>
                <a:uFillTx/>
                <a:latin typeface="Arial"/>
              </a:rPr>
              <a:t>Explaining delinquency and drug use</a:t>
            </a:r>
            <a:r>
              <a:rPr b="0" lang="en-US" sz="1000" spc="-1" strike="noStrike">
                <a:solidFill>
                  <a:srgbClr val="000000"/>
                </a:solidFill>
                <a:latin typeface="Arial"/>
              </a:rPr>
              <a:t>.  Beverly Hills: Sag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find rational choice theory helpful in thinking about offender activities and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 of the theory is misleading because the theory does not assume that offenders plan their crimes carefully; it assumes only that they are seeking to benefit by their crimes which is rational en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ory does not even assume that offenders succeed in obtaining the benefits they seek.  This is because they rarely have all the information they need, they do not devote  enough time to planning their actions, they take risks, and they make mistakes.  This is how we all behave in everyday decision-making and is what theorists call limited or bounded ra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undamental facts of criminology is that a small proportion of individuals commit a large proportion of the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explanations for repeat off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mpulsive individuals with weak social attachments to others tend to get into trouble more frequently than less impulsive and more attached individ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eople exposed to more crime and disorder opportunities take advantage of the opportunities and adjust accord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facilitators help offenders commit crimes or acts of disor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facilitators</a:t>
            </a:r>
            <a:r>
              <a:rPr b="0" lang="en-US" sz="1000" spc="-1" strike="noStrike">
                <a:solidFill>
                  <a:srgbClr val="000000"/>
                </a:solidFill>
                <a:latin typeface="Arial"/>
              </a:rPr>
              <a:t> are things that augment offenders’ capabilities or help to overcome prevention measures. Example:  Trucks extend offenders’ capacity to move stolen goods, telephones allow people to make obscene phone calls, and firearms help overcome resistance to robber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facilitators</a:t>
            </a:r>
            <a:r>
              <a:rPr b="0" lang="en-US" sz="1000" spc="-1" strike="noStrike">
                <a:solidFill>
                  <a:srgbClr val="000000"/>
                </a:solidFill>
                <a:latin typeface="Arial"/>
              </a:rPr>
              <a:t> stimulate crime or disorder by enhancing the rewards for crime, legitimating excuses to offend, or by encouraging offending.  Example:  Groups of young men can provide the social atmosphere that encourages rowdy behavior at sporting events.  Gangs and organized criminal networks facilitate criminal activity by their member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mical facilitators</a:t>
            </a:r>
            <a:r>
              <a:rPr b="0" lang="en-US" sz="1000" spc="-1" strike="noStrike">
                <a:solidFill>
                  <a:srgbClr val="000000"/>
                </a:solidFill>
                <a:latin typeface="Arial"/>
              </a:rPr>
              <a:t> increase offenders’ abilities to ignore risks or moral prohibitions. Example:  Some offenders drink heavily or use drugs before a crime in order to decrease their nervousnes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larke R.V. and Eck, J.E. (2005). Crime Analysis for Problem-Solvers in 60 Small Steps.  Washington, DC. Office of Community Oriented Policing 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0D91E-3D98-4565-804C-4157C700F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AECC2-03CC-4A08-9D01-FFF82E17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9F817-148B-49AD-ABEC-A4C4318E3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1AEC3-CF5B-4C4B-8F90-DB627E863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DD971-5BA9-4DAB-914C-49412F583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C879F-5EE7-42C4-AAC9-2B017E744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7CEDA-6671-4AF3-B49B-A08E20C5A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96AFB-D636-46D0-AC95-AA1D6E6A8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05C09-8C1A-407B-B221-787F8707E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B3606-D61F-46B0-B75E-7047EB2CD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93C10-8698-4CEB-A2BB-50847FC9B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AC0E9-5736-4B18-8691-82A10AF21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0C17-DDC0-4CEF-B7C8-275593931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1</a:t>
            </a:r>
            <a:endParaRPr b="0" lang="en-US" sz="4000" spc="-1" strike="noStrike">
              <a:solidFill>
                <a:srgbClr val="000000"/>
              </a:solidFill>
              <a:latin typeface="Arial"/>
            </a:endParaRPr>
          </a:p>
        </p:txBody>
      </p:sp>
      <p:sp>
        <p:nvSpPr>
          <p:cNvPr id="49" name=""/>
          <p:cNvSpPr/>
          <p:nvPr/>
        </p:nvSpPr>
        <p:spPr>
          <a:xfrm>
            <a:off x="1219320" y="4419720"/>
            <a:ext cx="7162560" cy="220968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ing and Responding to Offenders</a:t>
            </a:r>
            <a:endParaRPr b="0" lang="en-US" sz="40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9F080AB3-57A0-461A-9B7D-9EC62335B4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t of Class Exercis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25 techniques, identify and discuss the SCP techniques that can be used to respond to repeat offend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think like an offender!  Go out on campus and “case” an area.  Where are the crime opportunities, what crimes might you engage in, and how might you do 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up your “crime plan” but please do not implement i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A56778-E9BD-4BD7-93FE-29CD584CF5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
          <p:cNvGraphicFramePr/>
          <p:nvPr/>
        </p:nvGraphicFramePr>
        <p:xfrm>
          <a:off x="0" y="-33480"/>
          <a:ext cx="9144000" cy="6855120"/>
        </p:xfrm>
        <a:graphic>
          <a:graphicData uri="http://schemas.openxmlformats.org/presentationml/2006/ole">
            <p:oleObj r:id="rId1" spid="">
              <p:embed/>
              <p:pic>
                <p:nvPicPr>
                  <p:cNvPr id="71" name="" descr=""/>
                  <p:cNvPicPr/>
                  <p:nvPr/>
                </p:nvPicPr>
                <p:blipFill>
                  <a:blip r:embed="rId2"/>
                  <a:stretch/>
                </p:blipFill>
                <p:spPr>
                  <a:xfrm>
                    <a:off x="0" y="-33480"/>
                    <a:ext cx="9144000" cy="6855120"/>
                  </a:xfrm>
                  <a:prstGeom prst="rect">
                    <a:avLst/>
                  </a:prstGeom>
                  <a:ln w="0">
                    <a:noFill/>
                  </a:ln>
                </p:spPr>
              </p:pic>
            </p:oleObj>
          </a:graphicData>
        </a:graphic>
      </p:graphicFrame>
      <p:sp>
        <p:nvSpPr>
          <p:cNvPr id="2" name="PlaceHolder 1"/>
          <p:cNvSpPr>
            <a:spLocks noGrp="1"/>
          </p:cNvSpPr>
          <p:nvPr>
            <p:ph type="sldNum" idx="3"/>
          </p:nvPr>
        </p:nvSpPr>
        <p:spPr/>
        <p:txBody>
          <a:bodyPr/>
          <a:p>
            <a:fld id="{B7687EC1-1465-4B42-8982-461D0527C6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ender Interviews</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7078528-27D9-4CE6-863E-ABB09B6DA8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80880"/>
            <a:ext cx="8458200" cy="193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with active offenders </a:t>
            </a:r>
            <a:br>
              <a:rPr sz="4000"/>
            </a:br>
            <a:r>
              <a:rPr b="1" lang="en-US" sz="4000" spc="-1" strike="noStrike">
                <a:solidFill>
                  <a:srgbClr val="000000"/>
                </a:solidFill>
                <a:latin typeface="Arial"/>
              </a:rPr>
              <a:t>has focused on five categories</a:t>
            </a:r>
            <a:br>
              <a:rPr sz="4000"/>
            </a:br>
            <a:r>
              <a:rPr b="1" lang="en-US" sz="4000" spc="-1" strike="noStrike">
                <a:solidFill>
                  <a:srgbClr val="000000"/>
                </a:solidFill>
                <a:latin typeface="Arial"/>
              </a:rPr>
              <a:t> of offenders:</a:t>
            </a:r>
            <a:br>
              <a:rPr sz="4000"/>
            </a:br>
            <a:endParaRPr b="0" lang="en-US" sz="4000" spc="-1" strike="noStrike">
              <a:solidFill>
                <a:srgbClr val="000000"/>
              </a:solidFill>
              <a:latin typeface="Arial"/>
            </a:endParaRPr>
          </a:p>
        </p:txBody>
      </p:sp>
      <p:sp>
        <p:nvSpPr>
          <p:cNvPr id="75" name="PlaceHolder 2"/>
          <p:cNvSpPr>
            <a:spLocks noGrp="1"/>
          </p:cNvSpPr>
          <p:nvPr>
            <p:ph/>
          </p:nvPr>
        </p:nvSpPr>
        <p:spPr>
          <a:xfrm>
            <a:off x="457200" y="2209680"/>
            <a:ext cx="8229600" cy="4267440"/>
          </a:xfrm>
          <a:prstGeom prst="rect">
            <a:avLst/>
          </a:prstGeom>
          <a:noFill/>
          <a:ln w="0">
            <a:noFill/>
          </a:ln>
        </p:spPr>
        <p:txBody>
          <a:bodyPr lIns="90000" rIns="90000" tIns="46800" bIns="46800" anchor="t">
            <a:normAutofit fontScale="96000"/>
          </a:bodyPr>
          <a:p>
            <a:pPr marL="585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dealers and users</a:t>
            </a:r>
            <a:endParaRPr b="0" lang="en-US" sz="2800" spc="-1" strike="noStrike">
              <a:solidFill>
                <a:srgbClr val="000000"/>
              </a:solidFill>
              <a:latin typeface="Arial"/>
            </a:endParaRPr>
          </a:p>
          <a:p>
            <a:pPr lvl="1" marL="950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ial burglars</a:t>
            </a:r>
            <a:endParaRPr b="0" lang="en-US" sz="2800" spc="-1" strike="noStrike">
              <a:solidFill>
                <a:srgbClr val="000000"/>
              </a:solidFill>
              <a:latin typeface="Arial"/>
            </a:endParaRPr>
          </a:p>
          <a:p>
            <a:pPr lvl="1" marL="950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ed robbers</a:t>
            </a:r>
            <a:endParaRPr b="0" lang="en-US" sz="2800" spc="-1" strike="noStrike">
              <a:solidFill>
                <a:srgbClr val="000000"/>
              </a:solidFill>
              <a:latin typeface="Arial"/>
            </a:endParaRPr>
          </a:p>
          <a:p>
            <a:pPr lvl="1" marL="950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ng members</a:t>
            </a:r>
            <a:endParaRPr b="0" lang="en-US" sz="2800" spc="-1" strike="noStrike">
              <a:solidFill>
                <a:srgbClr val="000000"/>
              </a:solidFill>
              <a:latin typeface="Arial"/>
            </a:endParaRPr>
          </a:p>
          <a:p>
            <a:pPr lvl="1" marL="95076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50760" indent="-511920">
              <a:lnSpc>
                <a:spcPct val="8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n offenders</a:t>
            </a:r>
            <a:endParaRPr b="0" lang="en-US" sz="2800" spc="-1" strike="noStrike">
              <a:solidFill>
                <a:srgbClr val="000000"/>
              </a:solidFill>
              <a:latin typeface="Arial"/>
            </a:endParaRPr>
          </a:p>
          <a:p>
            <a:pPr marL="5850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2543C9-5BFF-4FDF-BC64-409CA5CF1A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Research Findings </a:t>
            </a:r>
            <a:br>
              <a:rPr sz="3600"/>
            </a:br>
            <a:r>
              <a:rPr b="1" lang="en-US" sz="3600" spc="-1" strike="noStrike">
                <a:solidFill>
                  <a:srgbClr val="000000"/>
                </a:solidFill>
                <a:latin typeface="Arial"/>
              </a:rPr>
              <a:t>from Offender Interviews</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ers are versati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ing has peaks and valleys in time and frequen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es - partying, keeping up outward appearances, group processes, self protection and retali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9C2861B-8B18-40BB-8008-08AFF47676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of Research Findings </a:t>
            </a:r>
            <a:br>
              <a:rPr sz="3600"/>
            </a:br>
            <a:r>
              <a:rPr b="1" lang="en-US" sz="3600" spc="-1" strike="noStrike">
                <a:solidFill>
                  <a:srgbClr val="000000"/>
                </a:solidFill>
                <a:latin typeface="Arial"/>
              </a:rPr>
              <a:t>from Offender Interviews</a:t>
            </a: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is importa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timization among offenders is very high and motivates much offen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s do typically respond to sanctions or the threat of sa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 careers have a beginning and an e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184934-BF2A-4747-ACAD-FDA9A4BEDD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ucting Offender Interview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ing the goals of interview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ing offenders to interview.</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ing who should conduct the interview.</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ppropriate subject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incing subjects to participate.</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field rel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1441D9-7E0D-4633-8A77-AA4C8BEE76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ender Interview Questions</a:t>
            </a:r>
            <a:br>
              <a:rPr sz="2400"/>
            </a:br>
            <a:r>
              <a:rPr b="1" lang="en-US" sz="2400" spc="-1" strike="noStrike">
                <a:solidFill>
                  <a:srgbClr val="000000"/>
                </a:solidFill>
                <a:latin typeface="Arial"/>
              </a:rPr>
              <a:t>Example from Port St. Lucie, FL (Construction Site Burglary)</a:t>
            </a:r>
            <a:endParaRPr b="0" lang="en-US" sz="2400" spc="-1" strike="noStrike">
              <a:solidFill>
                <a:srgbClr val="000000"/>
              </a:solidFill>
              <a:latin typeface="Arial"/>
            </a:endParaRPr>
          </a:p>
        </p:txBody>
      </p:sp>
      <p:sp>
        <p:nvSpPr>
          <p:cNvPr id="83" name=""/>
          <p:cNvSpPr/>
          <p:nvPr/>
        </p:nvSpPr>
        <p:spPr>
          <a:xfrm>
            <a:off x="457200" y="1600200"/>
            <a:ext cx="8229600" cy="487692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y did you select this particular location?</a:t>
            </a: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have any previous knowledge concerning this location?</a:t>
            </a: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survey the location prior to committing the offense?</a:t>
            </a: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the offense planned or spontaneous?  Explain.</a:t>
            </a: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91120" indent="-591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have an outlet to fence the materials prior to committing the offense?</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FEBCDA9F-19A1-4C60-86E4-7586EF972A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fender Interview Questions</a:t>
            </a:r>
            <a:br>
              <a:rPr sz="2400"/>
            </a:br>
            <a:r>
              <a:rPr b="1" lang="en-US" sz="2400" spc="-1" strike="noStrike">
                <a:solidFill>
                  <a:srgbClr val="000000"/>
                </a:solidFill>
                <a:latin typeface="Arial"/>
              </a:rPr>
              <a:t>Example from Port St. Lucie, FL (Construction Site Burglary)</a:t>
            </a:r>
            <a:endParaRPr b="0" lang="en-US" sz="2400" spc="-1" strike="noStrike">
              <a:solidFill>
                <a:srgbClr val="000000"/>
              </a:solidFill>
              <a:latin typeface="Arial"/>
            </a:endParaRPr>
          </a:p>
        </p:txBody>
      </p:sp>
      <p:sp>
        <p:nvSpPr>
          <p:cNvPr id="8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notice anything about the neighborhood that you felt would make the offense easier to commit?</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ou remember the physical lay-out (environment) of the target location?</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you act alone?  Did anyone else plan to benefit from your crime(s)?</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ou have any construction/building experience?  If so, how much and what type?</a:t>
            </a:r>
            <a:endParaRPr b="0" lang="en-US" sz="2600" spc="-1" strike="noStrike">
              <a:solidFill>
                <a:srgbClr val="000000"/>
              </a:solidFill>
              <a:latin typeface="Arial"/>
            </a:endParaRPr>
          </a:p>
          <a:p>
            <a:pPr marL="3121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onfident were you that you would not get caught?  Why?</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29DD80B-19F9-488F-BDC2-CBF50E1F27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ducting Offender Interview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87"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ng interview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ing out the trut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ing the interview resul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ing the finding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the interview results to tactical and strategic problem-solving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EA0E398-EF9F-4BD9-97E6-885F8A3741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11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nd Acting Like an Offen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Offender Interviews to Inform Police Problem Solv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Example of an Offender-based Respo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0309DB1-6602-4F85-AAF4-48DB04946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600200"/>
            <a:ext cx="7772400" cy="2000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ender-Based Response: The Boston Gun Project</a:t>
            </a:r>
            <a:endParaRPr b="0" lang="en-US" sz="4400" spc="-1" strike="noStrike">
              <a:solidFill>
                <a:srgbClr val="000000"/>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Operation Ceasefi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EBF4C55-0496-462F-A9F0-52B0F1625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 Epidemic of Youth Homicide</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late 1980s to the early 1990s, homicide in Boston increased by 230% among those 24 and under - from 22 victims in 1987 to 73 victims in 199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verage of 44 youth homicides per year were committed from 1991-199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harp rise in homicides was viewed as an “epidemic.”</a:t>
            </a:r>
            <a:endParaRPr b="0" lang="en-US" sz="2800" spc="-1" strike="noStrike">
              <a:solidFill>
                <a:srgbClr val="000000"/>
              </a:solidFill>
              <a:latin typeface="Arial"/>
            </a:endParaRPr>
          </a:p>
        </p:txBody>
      </p:sp>
      <p:sp>
        <p:nvSpPr>
          <p:cNvPr id="92" name=""/>
          <p:cNvSpPr/>
          <p:nvPr/>
        </p:nvSpPr>
        <p:spPr>
          <a:xfrm>
            <a:off x="4114800" y="63244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303E97-EAE5-423D-A1C0-F29D34AEBE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an Epidemic?</a:t>
            </a:r>
            <a:endParaRPr b="0" lang="en-US" sz="4400" spc="-1" strike="noStrike">
              <a:solidFill>
                <a:srgbClr val="000000"/>
              </a:solidFill>
              <a:latin typeface="Arial"/>
            </a:endParaRPr>
          </a:p>
        </p:txBody>
      </p:sp>
      <p:sp>
        <p:nvSpPr>
          <p:cNvPr id="9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Merriam-Webster dictionary, an epidemic is a phenomenon that is “excessively prevalent” or “contagiou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 is the study of epidemics.  Usually we think of epidemiologists as studying the outbreaks of disea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minology and police strategy can both benefit from the insights of epidemiolog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ston Gun Project was a “Problem-Oriented Policing” project that focused heavily on the epidemiology of youth firearms violenc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744B2C9-0A8B-4202-A949-B018773E56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Beginning of the</a:t>
            </a:r>
            <a:br>
              <a:rPr sz="4000"/>
            </a:br>
            <a:r>
              <a:rPr b="1" lang="en-US" sz="4000" spc="-1" strike="noStrike">
                <a:solidFill>
                  <a:srgbClr val="000000"/>
                </a:solidFill>
                <a:latin typeface="Arial"/>
              </a:rPr>
              <a:t> Boston Gun Project</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IJ sponsored project carried out by a team of researchers at Harvard University.  The primary components included:</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embling an interagency working group of largely line-level criminal justice and other practitioners.</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lying quantitative and qualitative research techniques to assess the nature of and dynamics driving youth violenc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eveloping an intervention designed to have a substantial near-term impact on youth homicide.</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d adapting the intervention.</a:t>
            </a:r>
            <a:endParaRPr b="0" lang="en-US" sz="2200" spc="-1" strike="noStrike">
              <a:solidFill>
                <a:srgbClr val="000000"/>
              </a:solidFill>
              <a:latin typeface="Arial"/>
            </a:endParaRPr>
          </a:p>
          <a:p>
            <a:pPr marL="339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ng the intervention's impact.</a:t>
            </a:r>
            <a:endParaRPr b="0" lang="en-US" sz="2200" spc="-1" strike="noStrike">
              <a:solidFill>
                <a:srgbClr val="000000"/>
              </a:solidFill>
              <a:latin typeface="Arial"/>
            </a:endParaRPr>
          </a:p>
        </p:txBody>
      </p:sp>
      <p:sp>
        <p:nvSpPr>
          <p:cNvPr id="97"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D133BA9-904A-4701-BA2F-56E8F94DED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Boston Gun Project Working Group</a:t>
            </a:r>
            <a:endParaRPr b="0" lang="en-US" sz="3800" spc="-1" strike="noStrike">
              <a:solidFill>
                <a:srgbClr val="000000"/>
              </a:solidFill>
              <a:latin typeface="Arial"/>
            </a:endParaRPr>
          </a:p>
        </p:txBody>
      </p:sp>
      <p:sp>
        <p:nvSpPr>
          <p:cNvPr id="99"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meeting in January 199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its initial analysis of the problem and created a sketch of the intervention (“Operation Ceasefire”) by Fall 1995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ed the Intervention by early 1996</a:t>
            </a:r>
            <a:endParaRPr b="0" lang="en-US" sz="3200" spc="-1" strike="noStrike">
              <a:solidFill>
                <a:srgbClr val="000000"/>
              </a:solidFill>
              <a:latin typeface="Arial"/>
            </a:endParaRPr>
          </a:p>
        </p:txBody>
      </p:sp>
      <p:sp>
        <p:nvSpPr>
          <p:cNvPr id="100"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1401B5-B534-4795-9426-814326655C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Major Strategic Elements</a:t>
            </a:r>
            <a:endParaRPr b="0" lang="en-US" sz="4400" spc="-1" strike="noStrike">
              <a:solidFill>
                <a:srgbClr val="000000"/>
              </a:solidFill>
              <a:latin typeface="Arial"/>
            </a:endParaRPr>
          </a:p>
        </p:txBody>
      </p:sp>
      <p:sp>
        <p:nvSpPr>
          <p:cNvPr id="102"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creased Firearms Enforc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focus on firearms trafficking, with a particular focus on traffickers specializing in firearms preferred by the most violent gang member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analysis of serial numbers on confiscated gu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n tracing</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D78E67-DA43-4CE9-8174-061A58915F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Major Strategic Elements</a:t>
            </a:r>
            <a:endParaRPr b="0" lang="en-US" sz="4400" spc="-1" strike="noStrike">
              <a:solidFill>
                <a:srgbClr val="000000"/>
              </a:solidFill>
              <a:latin typeface="Arial"/>
            </a:endParaRPr>
          </a:p>
        </p:txBody>
      </p:sp>
      <p:sp>
        <p:nvSpPr>
          <p:cNvPr id="105" name="PlaceHolder 2"/>
          <p:cNvSpPr>
            <a:spLocks noGrp="1"/>
          </p:cNvSpPr>
          <p:nvPr>
            <p:ph/>
          </p:nvPr>
        </p:nvSpPr>
        <p:spPr>
          <a:xfrm>
            <a:off x="304920" y="1599840"/>
            <a:ext cx="8534160" cy="4876920"/>
          </a:xfrm>
          <a:prstGeom prst="rect">
            <a:avLst/>
          </a:prstGeom>
          <a:noFill/>
          <a:ln w="0">
            <a:noFill/>
          </a:ln>
        </p:spPr>
        <p:txBody>
          <a:bodyPr lIns="90000" rIns="90000" tIns="46800" bIns="46800" anchor="t">
            <a:normAutofit fontScale="95000"/>
          </a:bodyPr>
          <a:p>
            <a:pPr marL="578880" indent="-578880">
              <a:lnSpc>
                <a:spcPct val="8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erring Violent Behavior of Chronic Gang Offenders (the “Pulling Levers” Strategy)</a:t>
            </a:r>
            <a:endParaRPr b="0" lang="en-US" sz="2800" spc="-1" strike="noStrike">
              <a:solidFill>
                <a:srgbClr val="000000"/>
              </a:solidFill>
              <a:latin typeface="Arial"/>
            </a:endParaRPr>
          </a:p>
          <a:p>
            <a:pPr marL="578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argeting gangs engaged in violent behavior.</a:t>
            </a:r>
            <a:endParaRPr b="0" lang="en-US" sz="2600" spc="-1" strike="noStrike">
              <a:solidFill>
                <a:srgbClr val="000000"/>
              </a:solidFill>
              <a:latin typeface="Arial"/>
            </a:endParaRPr>
          </a:p>
          <a:p>
            <a:pPr marL="578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ching out directly to members of targeted gangs.</a:t>
            </a:r>
            <a:endParaRPr b="0" lang="en-US" sz="2600" spc="-1" strike="noStrike">
              <a:solidFill>
                <a:srgbClr val="000000"/>
              </a:solidFill>
              <a:latin typeface="Arial"/>
            </a:endParaRPr>
          </a:p>
          <a:p>
            <a:pPr marL="578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ivering an explicit message that violence would not be tolerated.</a:t>
            </a:r>
            <a:endParaRPr b="0" lang="en-US" sz="2600" spc="-1" strike="noStrike">
              <a:solidFill>
                <a:srgbClr val="000000"/>
              </a:solidFill>
              <a:latin typeface="Arial"/>
            </a:endParaRPr>
          </a:p>
          <a:p>
            <a:pPr marL="578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ing up the message by "pulling every lever" (i.e., applying appropriate sanctions) when violence occurre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1C4E9F6-8BDC-4D4C-8437-BA4B90D3DF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60" y="380520"/>
            <a:ext cx="8915400" cy="62485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Boston Police Department] was devoted, in conjunction with its partners in other agencies, to disrupting the gang and discommoding its members in any legal way possible.</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Violence Strike Force officers enforced every law they could against gang members, shutting down street drug sales and making arrests for trespassing, public drinking, overt drug use, and disorder offenses.</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an gang members' names against an extensive database of outstanding warrants, found many, and served them. A Registry of Motor Vehicles search revealed that gang members had no drivers' licenses so YVSF took their unregistered cars away.</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tion officers focused Night Light [police-probation partnership] visits and other street probation enforcement on gang members…”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BE27354-5CE6-4B37-9A61-A60E1F6696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t Quite a “Normal” Crackdown</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re here because of the shooting," the authorities had said. "We're not going to leave until it stops. And until it does, nobody is going to so much as jaywalk, nor make any money, nor have any fu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ppeared to be an indiscriminate crackdown was actually very focused – on reducing shootings and gun homicid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47EC0B-3CA3-483B-835C-6085B63565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ject Impact</a:t>
            </a: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igorous impact evaluation concluded that Operation Ceasefire was associated with 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63% decrease in the monthly number of youth homicides in Boston.</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32% decrease in the monthly number of citywide shots-fired call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5% decrease in the monthly number of citywide all-age gun assault inciden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44% decrease in the monthly number of District B-2 youth gun assault incidents.</a:t>
            </a:r>
            <a:endParaRPr b="0" lang="en-US" sz="2400" spc="-1" strike="noStrike">
              <a:solidFill>
                <a:srgbClr val="000000"/>
              </a:solidFill>
              <a:latin typeface="Arial"/>
            </a:endParaRPr>
          </a:p>
        </p:txBody>
      </p:sp>
      <p:sp>
        <p:nvSpPr>
          <p:cNvPr id="113" name=""/>
          <p:cNvSpPr/>
          <p:nvPr/>
        </p:nvSpPr>
        <p:spPr>
          <a:xfrm>
            <a:off x="5181480" y="640080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12F59A1-7D6A-43F0-8E12-2E99D84E1F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743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3200" spc="-1" strike="noStrike">
                <a:solidFill>
                  <a:srgbClr val="000000"/>
                </a:solidFill>
                <a:latin typeface="Arial"/>
              </a:rPr>
              <a:t>Offender (RAVENOUS WOLF) Problems</a:t>
            </a:r>
            <a:endParaRPr b="0" lang="en-US" sz="3200" spc="-1" strike="noStrike">
              <a:solidFill>
                <a:srgbClr val="000000"/>
              </a:solidFill>
              <a:latin typeface="Arial"/>
            </a:endParaRPr>
          </a:p>
        </p:txBody>
      </p:sp>
      <p:sp>
        <p:nvSpPr>
          <p:cNvPr id="54"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offending problems involve offenders attacking different targets at different pla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 (RAVENOUS Wolf) problems occur when offenders are able to locate temporarily vulnerable targets and pla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lers for these targets may act to prevent future attacks, but offenders move on to the targets and plac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89FE267-A87B-454D-B144-A7C86B687A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Lessons from Boston and </a:t>
            </a:r>
            <a:br>
              <a:rPr sz="3800"/>
            </a:br>
            <a:r>
              <a:rPr b="1" lang="en-US" sz="3800" spc="-1" strike="noStrike">
                <a:solidFill>
                  <a:srgbClr val="000000"/>
                </a:solidFill>
                <a:latin typeface="Arial"/>
              </a:rPr>
              <a:t>Other Cities</a:t>
            </a:r>
            <a:endParaRPr b="0" lang="en-US" sz="3800" spc="-1" strike="noStrike">
              <a:solidFill>
                <a:srgbClr val="000000"/>
              </a:solidFill>
              <a:latin typeface="Arial"/>
            </a:endParaRPr>
          </a:p>
        </p:txBody>
      </p:sp>
      <p:sp>
        <p:nvSpPr>
          <p:cNvPr id="115"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pidemiology of youth violence is unique to each c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anned” approaches do not wor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violence reduction interventions need to be tailored to each city and its unique offending patter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of an effective intervention starts with analy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of effective analysis starts with good dat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FCD188E-8C58-4CC0-992D-D0D5FDCF43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P strategies are being used to address a number of different community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how law enforcement agencies are using repeat offender strategies to tackle drunk driving, youth crime, or drug offen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your findings to the cla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04AE34-6CE9-4AA0-9BDC-6D60D5B07FC3}"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ender (RAVENOUS WOLF) Problems</a:t>
            </a:r>
            <a:endParaRPr b="0" lang="en-US" sz="3200" spc="-1" strike="noStrike">
              <a:solidFill>
                <a:srgbClr val="000000"/>
              </a:solidFill>
              <a:latin typeface="Arial"/>
            </a:endParaRPr>
          </a:p>
        </p:txBody>
      </p:sp>
      <p:pic>
        <p:nvPicPr>
          <p:cNvPr id="56" name="" descr=""/>
          <p:cNvPicPr/>
          <p:nvPr/>
        </p:nvPicPr>
        <p:blipFill>
          <a:blip r:embed="rId1"/>
          <a:stretch/>
        </p:blipFill>
        <p:spPr>
          <a:xfrm>
            <a:off x="2286000" y="1447920"/>
            <a:ext cx="4648320" cy="4468680"/>
          </a:xfrm>
          <a:prstGeom prst="rect">
            <a:avLst/>
          </a:prstGeom>
          <a:ln w="0">
            <a:noFill/>
          </a:ln>
        </p:spPr>
      </p:pic>
      <p:sp>
        <p:nvSpPr>
          <p:cNvPr id="57" name=""/>
          <p:cNvSpPr/>
          <p:nvPr/>
        </p:nvSpPr>
        <p:spPr>
          <a:xfrm>
            <a:off x="457200" y="2286000"/>
            <a:ext cx="2057400" cy="1247760"/>
          </a:xfrm>
          <a:prstGeom prst="rightArrow">
            <a:avLst>
              <a:gd name="adj1" fmla="val 50000"/>
              <a:gd name="adj2" fmla="val 41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B767BE2-5152-4D7C-8F4A-20BAE443E8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es the 80-20 Rule Apply?</a:t>
            </a:r>
            <a:endParaRPr b="0" lang="en-US" sz="4400" spc="-1" strike="noStrike">
              <a:solidFill>
                <a:srgbClr val="000000"/>
              </a:solidFill>
              <a:latin typeface="Arial"/>
            </a:endParaRPr>
          </a:p>
        </p:txBody>
      </p:sp>
      <p:sp>
        <p:nvSpPr>
          <p:cNvPr id="59"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peat Offenders</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number of individuals commit a large proportion of the cri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972 Philadelphia cohort study suggested that around 5 percent of the offenders account for 40 percent of cri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recent studies often find similar results.</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660989-1F9D-4DF9-8549-9F4963CF27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83818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ut Yourself in the</a:t>
            </a:r>
            <a:br>
              <a:rPr sz="4800"/>
            </a:br>
            <a:r>
              <a:rPr b="1" lang="en-US" sz="4800" spc="-1" strike="noStrike">
                <a:solidFill>
                  <a:srgbClr val="000000"/>
                </a:solidFill>
                <a:latin typeface="Arial"/>
              </a:rPr>
              <a:t> Offender’s Shoes</a:t>
            </a:r>
            <a:endParaRPr b="0" lang="en-US" sz="4800" spc="-1" strike="noStrike">
              <a:solidFill>
                <a:srgbClr val="000000"/>
              </a:solidFill>
              <a:latin typeface="Arial"/>
            </a:endParaRPr>
          </a:p>
        </p:txBody>
      </p:sp>
      <p:sp>
        <p:nvSpPr>
          <p:cNvPr id="61"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ing </a:t>
            </a:r>
            <a:r>
              <a:rPr b="0" i="1" lang="en-US" sz="3200" spc="-1" strike="noStrike">
                <a:solidFill>
                  <a:srgbClr val="000000"/>
                </a:solidFill>
                <a:latin typeface="Arial"/>
              </a:rPr>
              <a:t>how</a:t>
            </a:r>
            <a:r>
              <a:rPr b="0" lang="en-US" sz="3200" spc="-1" strike="noStrike">
                <a:solidFill>
                  <a:srgbClr val="000000"/>
                </a:solidFill>
                <a:latin typeface="Arial"/>
              </a:rPr>
              <a:t> offenders commit crimes is as important as learning </a:t>
            </a:r>
            <a:r>
              <a:rPr b="0" i="1" lang="en-US" sz="3200" spc="-1" strike="noStrike">
                <a:solidFill>
                  <a:srgbClr val="000000"/>
                </a:solidFill>
                <a:latin typeface="Arial"/>
              </a:rPr>
              <a:t>why</a:t>
            </a:r>
            <a:r>
              <a:rPr b="0" lang="en-US" sz="3200" spc="-1" strike="noStrike">
                <a:solidFill>
                  <a:srgbClr val="000000"/>
                </a:solidFill>
                <a:latin typeface="Arial"/>
              </a:rPr>
              <a:t> they commit crim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 Choice Theory (see Module 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75C3CD-E5A2-48C1-89E9-01F3A9CEA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ect Offenders to Rea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ender Displacement</a:t>
            </a:r>
            <a:r>
              <a:rPr b="0" lang="en-US" sz="3200" spc="-1" strike="noStrike">
                <a:solidFill>
                  <a:srgbClr val="000000"/>
                </a:solidFill>
                <a:latin typeface="Arial"/>
              </a:rPr>
              <a:t> occurs when offenders change their behavior to thwart preventative actions or when offenders are arrested and new offenders take their place (e.g., drug deal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ender Adaptation</a:t>
            </a:r>
            <a:r>
              <a:rPr b="0" lang="en-US" sz="3200" spc="-1" strike="noStrike">
                <a:solidFill>
                  <a:srgbClr val="000000"/>
                </a:solidFill>
                <a:latin typeface="Arial"/>
              </a:rPr>
              <a:t> refers to a longer term process whereby the offender population as a whole discovers new crime opportun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40695A2-E226-4258-8AFB-508BCECE92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peat Offending</a:t>
            </a:r>
            <a:endParaRPr b="0" lang="en-US" sz="4000" spc="-1" strike="noStrike">
              <a:solidFill>
                <a:srgbClr val="000000"/>
              </a:solidFill>
              <a:latin typeface="Arial"/>
            </a:endParaRPr>
          </a:p>
        </p:txBody>
      </p:sp>
      <p:sp>
        <p:nvSpPr>
          <p:cNvPr id="65" name="PlaceHolder 2"/>
          <p:cNvSpPr>
            <a:spLocks noGrp="1"/>
          </p:cNvSpPr>
          <p:nvPr>
            <p:ph/>
          </p:nvPr>
        </p:nvSpPr>
        <p:spPr>
          <a:xfrm>
            <a:off x="380520" y="1371600"/>
            <a:ext cx="84582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cessful offending can lead to more offending w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s, like others, learn from do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s learn from each oth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ful offending can erode prevention, thus making subsequent offending easi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928C7F-9948-43AE-A891-366F172FCE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ender Facilitators</a:t>
            </a: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cal facilitators</a:t>
            </a:r>
            <a:r>
              <a:rPr b="0" lang="en-US" sz="2800" spc="-1" strike="noStrike">
                <a:solidFill>
                  <a:srgbClr val="000000"/>
                </a:solidFill>
                <a:latin typeface="Arial"/>
              </a:rPr>
              <a:t> are things that augment offenders’ capabilities or help to overcome prevention measur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cial facilitators</a:t>
            </a:r>
            <a:r>
              <a:rPr b="0" lang="en-US" sz="2800" spc="-1" strike="noStrike">
                <a:solidFill>
                  <a:srgbClr val="000000"/>
                </a:solidFill>
                <a:latin typeface="Arial"/>
              </a:rPr>
              <a:t> stimulate crime or disorder by enhancing the rewards for crime, legitimating excuses to offend, or by encouraging offendin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mical facilitators</a:t>
            </a:r>
            <a:r>
              <a:rPr b="0" lang="en-US" sz="2800" spc="-1" strike="noStrike">
                <a:solidFill>
                  <a:srgbClr val="000000"/>
                </a:solidFill>
                <a:latin typeface="Arial"/>
              </a:rPr>
              <a:t> increase offenders’ abilities to ignore risks or moral prohibi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5449470-D0C3-4D1C-B8CB-EFDDDB7F87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9T16:44:27Z</dcterms:modified>
  <cp:revision>191</cp:revision>
  <dc:subject/>
  <dc:title>Slide 1</dc:title>
</cp:coreProperties>
</file>