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3FD0-2DFC-49D6-95EA-1CB37D003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cjrs.gov/pdffiles/revictim.pdf" TargetMode="External"/><Relationship Id="rId2" Type="http://schemas.openxmlformats.org/officeDocument/2006/relationships/hyperlink" Target="http://www.ncjrs.gov/pdffiles/revictim.pdf"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se, Ken &amp; Laycock, Gloria (1996).  Revictimizations: Reducing the Heat on Hot Victims.  Washington D.C.: National Institute of Justice, U.S. Department of Justice.  Accessed at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ncjrs.gov/pdffiles/revictim.pdf</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some crimes, repeat victimization is related to other common crime patter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t spots</a:t>
            </a:r>
            <a:r>
              <a:rPr b="0" i="1" lang="en-US" sz="800" spc="-1" strike="noStrike">
                <a:solidFill>
                  <a:srgbClr val="000000"/>
                </a:solidFill>
                <a:latin typeface="Arial"/>
              </a:rPr>
              <a:t> </a:t>
            </a:r>
            <a:r>
              <a:rPr b="0" lang="en-US" sz="800" spc="-1" strike="noStrike">
                <a:solidFill>
                  <a:srgbClr val="000000"/>
                </a:solidFill>
                <a:latin typeface="Arial"/>
              </a:rPr>
              <a:t>are geographic areas in which crime is clustered. Hot spots may be hot because of the frequency of the same type of crime, such as burglaries, or hot spots may include different types of crimes. For many crimes, repeat victimization contributes to hot spo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t products</a:t>
            </a:r>
            <a:r>
              <a:rPr b="0" lang="en-US" sz="800" spc="-1" strike="noStrike">
                <a:solidFill>
                  <a:srgbClr val="000000"/>
                </a:solidFill>
                <a:latin typeface="Arial"/>
              </a:rPr>
              <a:t> are goods that are frequently stolen, and their desirability may underlie repeat victimization. Stores that sell CDs, beer, or gasoline may suffer repeat victimization. Some products, including vehicles, become hot products because of the product's vulnerability-for example, vehicles with locks that are easy to defeat.</a:t>
            </a:r>
            <a:r>
              <a:rPr b="0" i="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eat offenders</a:t>
            </a:r>
            <a:r>
              <a:rPr b="0" lang="en-US" sz="800" spc="-1" strike="noStrike">
                <a:solidFill>
                  <a:srgbClr val="000000"/>
                </a:solidFill>
                <a:latin typeface="Arial"/>
              </a:rPr>
              <a:t> are individuals who commit multiple crimes. Some offenders specialize in a single crime type, while others commit complementary offenses-such as breaking into a house and stealing a vehicle to transport the goods, or stealing a license plate to be used in the commission of another crime, such as a commercial robbe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ime series</a:t>
            </a:r>
            <a:r>
              <a:rPr b="0" lang="en-US" sz="800" spc="-1" strike="noStrike">
                <a:solidFill>
                  <a:srgbClr val="000000"/>
                </a:solidFill>
                <a:latin typeface="Arial"/>
              </a:rPr>
              <a:t> are offenses of one crime type that appear to be the work of the same offender. The offenses may be clustered in space or time, or reflect a distinctive </a:t>
            </a:r>
            <a:r>
              <a:rPr b="0" i="1" lang="en-US" sz="800" spc="-1" strike="noStrike">
                <a:solidFill>
                  <a:srgbClr val="000000"/>
                </a:solidFill>
                <a:latin typeface="Arial"/>
              </a:rPr>
              <a:t>modus operandi, </a:t>
            </a:r>
            <a:r>
              <a:rPr b="0" lang="en-US" sz="800" spc="-1" strike="noStrike">
                <a:solidFill>
                  <a:srgbClr val="000000"/>
                </a:solidFill>
                <a:latin typeface="Arial"/>
              </a:rPr>
              <a:t>such as a serial rapist who targets college students. Common series involve property crime at similar targets, such as robberies of convenience stor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sky facilities</a:t>
            </a:r>
            <a:r>
              <a:rPr b="0" i="1" lang="en-US" sz="800" spc="-1" strike="noStrike">
                <a:solidFill>
                  <a:srgbClr val="000000"/>
                </a:solidFill>
                <a:latin typeface="Arial"/>
              </a:rPr>
              <a:t> </a:t>
            </a:r>
            <a:r>
              <a:rPr b="0" lang="en-US" sz="800" spc="-1" strike="noStrike">
                <a:solidFill>
                  <a:srgbClr val="000000"/>
                </a:solidFill>
                <a:latin typeface="Arial"/>
              </a:rPr>
              <a:t>are locations such as colleges or shopping areas that routinely attract or generate a disproportionate amount of crime. For example, lots where students routinely park may generate more larcenies from vehicles because the vehicles of students may routinely contain desirable electronic equip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crime patterns are not mutually exclusive and may intersect or overlap; the detection of repeat victimization, however, routinely provides important clues about the reasons for recurrence and permits police to focus on avenues for preven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an agency undertakes analysis of repeat victimization and determines the prevalence and time course of repeats by offense type, the crime pattern can be used as a tool for developing responses to reduce revictimization. Focusing on victims raises a number of special concerns that police should consid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laming the victim - </a:t>
            </a:r>
            <a:r>
              <a:rPr b="0" lang="en-US" sz="800" spc="-1" strike="noStrike">
                <a:solidFill>
                  <a:srgbClr val="000000"/>
                </a:solidFill>
                <a:latin typeface="Arial"/>
              </a:rPr>
              <a:t>Victims may be vulnerable because they are unable, or have failed to secure their property, or have placed themselves in high-risk settings. The behaviors of individuals-such as using poor judgment while under the influence of drugs or alcohol-may contribute to victimization. In most cases, police should provide information to the victim about the increased risk of victimization but must be careful about implying bla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creasing fearfulness - </a:t>
            </a:r>
            <a:r>
              <a:rPr b="0" lang="en-US" sz="800" spc="-1" strike="noStrike">
                <a:solidFill>
                  <a:srgbClr val="000000"/>
                </a:solidFill>
                <a:latin typeface="Arial"/>
              </a:rPr>
              <a:t>For offenses such as burglary that are unlikely to be solved, the primary role of police is often to comfort victims. Warning victims about the likelihood of being revictimized may make victims more fear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olating privacy of victims - </a:t>
            </a:r>
            <a:r>
              <a:rPr b="0" lang="en-US" sz="800" spc="-1" strike="noStrike">
                <a:solidFill>
                  <a:srgbClr val="000000"/>
                </a:solidFill>
                <a:latin typeface="Arial"/>
              </a:rPr>
              <a:t>Although victimization increases the risk of revictimization to the original victim, it also increases the risks to persons and properties that are either nearby or virtually identical to the initial victim. While police may be concerned about violating the privacy of an initial victim by warning others, this information may prevent other vulnerable persons or places from being victimiz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placing crime - </a:t>
            </a:r>
            <a:r>
              <a:rPr b="0" lang="en-US" sz="800" spc="-1" strike="noStrike">
                <a:solidFill>
                  <a:srgbClr val="000000"/>
                </a:solidFill>
                <a:latin typeface="Arial"/>
              </a:rPr>
              <a:t>It is often</a:t>
            </a:r>
            <a:r>
              <a:rPr b="1" lang="en-US" sz="800" spc="-1" strike="noStrike">
                <a:solidFill>
                  <a:srgbClr val="000000"/>
                </a:solidFill>
                <a:latin typeface="Arial"/>
              </a:rPr>
              <a:t> </a:t>
            </a:r>
            <a:r>
              <a:rPr b="0" lang="en-US" sz="800" spc="-1" strike="noStrike">
                <a:solidFill>
                  <a:srgbClr val="000000"/>
                </a:solidFill>
                <a:latin typeface="Arial"/>
              </a:rPr>
              <a:t>believed that thwarting one offense will result in a motivated offender simply picking another target. Unless there are virtual victims, the likelihood of displacement is low.  For example, preventing repeat domestic violence is unlikely to result in the displacement of violence to another victim. If there are virtual victims available-such as similar nearby houses to be burglarized or similar unsecured parking lots for vehicle theft-police should consider these as candidates for similar crime prevention strategies. Rather than causing displacement, crime prevention efforts focused on victims are just as likely to produce bonus effects. For example, reducing opportunities for vehicle theft may also reduce theft from vehic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ntended consequences - </a:t>
            </a:r>
            <a:r>
              <a:rPr b="0" lang="en-US" sz="800" spc="-1" strike="noStrike">
                <a:solidFill>
                  <a:srgbClr val="000000"/>
                </a:solidFill>
                <a:latin typeface="Arial"/>
              </a:rPr>
              <a:t>Focusing on repeat victimization to reduce offending </a:t>
            </a:r>
            <a:r>
              <a:rPr b="0" i="1" lang="en-US" sz="800" spc="-1" strike="noStrike">
                <a:solidFill>
                  <a:srgbClr val="000000"/>
                </a:solidFill>
                <a:latin typeface="Arial"/>
              </a:rPr>
              <a:t>may</a:t>
            </a:r>
            <a:r>
              <a:rPr b="0" lang="en-US" sz="800" spc="-1" strike="noStrike">
                <a:solidFill>
                  <a:srgbClr val="000000"/>
                </a:solidFill>
                <a:latin typeface="Arial"/>
              </a:rPr>
              <a:t> have unintended consequences. In a study in New York City, researchers found that follow-up visits and educational services to victims of domestic violence resulted in </a:t>
            </a:r>
            <a:r>
              <a:rPr b="0" i="1" lang="en-US" sz="800" spc="-1" strike="noStrike">
                <a:solidFill>
                  <a:srgbClr val="000000"/>
                </a:solidFill>
                <a:latin typeface="Arial"/>
              </a:rPr>
              <a:t>increased</a:t>
            </a:r>
            <a:r>
              <a:rPr b="0" lang="en-US" sz="800" spc="-1" strike="noStrike">
                <a:solidFill>
                  <a:srgbClr val="000000"/>
                </a:solidFill>
                <a:latin typeface="Arial"/>
              </a:rPr>
              <a:t> calls for police service, and mandatory</a:t>
            </a:r>
            <a:r>
              <a:rPr b="1" lang="en-US" sz="800" spc="-1" strike="noStrike">
                <a:solidFill>
                  <a:srgbClr val="000000"/>
                </a:solidFill>
                <a:latin typeface="Arial"/>
              </a:rPr>
              <a:t> </a:t>
            </a:r>
            <a:r>
              <a:rPr b="0" lang="en-US" sz="800" spc="-1" strike="noStrike">
                <a:solidFill>
                  <a:srgbClr val="000000"/>
                </a:solidFill>
                <a:latin typeface="Arial"/>
              </a:rPr>
              <a:t>arrest for </a:t>
            </a:r>
            <a:r>
              <a:rPr b="0" i="1" lang="en-US" sz="800" spc="-1" strike="noStrike">
                <a:solidFill>
                  <a:srgbClr val="000000"/>
                </a:solidFill>
                <a:latin typeface="Arial"/>
              </a:rPr>
              <a:t>some</a:t>
            </a:r>
            <a:r>
              <a:rPr b="0" lang="en-US" sz="800" spc="-1" strike="noStrike">
                <a:solidFill>
                  <a:srgbClr val="000000"/>
                </a:solidFill>
                <a:latin typeface="Arial"/>
              </a:rPr>
              <a:t> domestic violence offenders</a:t>
            </a:r>
            <a:r>
              <a:rPr b="0" i="1" lang="en-US" sz="800" spc="-1" strike="noStrike">
                <a:solidFill>
                  <a:srgbClr val="000000"/>
                </a:solidFill>
                <a:latin typeface="Arial"/>
              </a:rPr>
              <a:t> increases </a:t>
            </a:r>
            <a:r>
              <a:rPr b="0" lang="en-US" sz="800" spc="-1" strike="noStrike">
                <a:solidFill>
                  <a:srgbClr val="000000"/>
                </a:solidFill>
                <a:latin typeface="Arial"/>
              </a:rPr>
              <a:t>re-vic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 NOTE – </a:t>
            </a:r>
            <a:r>
              <a:rPr b="0" lang="en-US" sz="1200" spc="-1" strike="noStrike">
                <a:solidFill>
                  <a:srgbClr val="000000"/>
                </a:solidFill>
                <a:latin typeface="Arial"/>
              </a:rPr>
              <a:t>The following three slides might be best suited for graduate students or office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 NOTE – </a:t>
            </a:r>
            <a:r>
              <a:rPr b="0" lang="en-US" sz="800" spc="-1" strike="noStrike">
                <a:solidFill>
                  <a:srgbClr val="000000"/>
                </a:solidFill>
                <a:latin typeface="Arial"/>
              </a:rPr>
              <a:t>This slide might be best suited for graduate students or offi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lecting Data - </a:t>
            </a:r>
            <a:r>
              <a:rPr b="0" lang="en-US" sz="800" spc="-1" strike="noStrike">
                <a:solidFill>
                  <a:srgbClr val="000000"/>
                </a:solidFill>
                <a:latin typeface="Arial"/>
              </a:rPr>
              <a:t>Existing police data, such as crime reports, are most often used to document repeat victimization. In selecting data, attention should be given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the appropriate time frame - </a:t>
            </a:r>
            <a:r>
              <a:rPr b="0" lang="en-US" sz="800" spc="-1" strike="noStrike">
                <a:solidFill>
                  <a:srgbClr val="000000"/>
                </a:solidFill>
                <a:latin typeface="Arial"/>
              </a:rPr>
              <a:t>For most crime problems, it is best to use at least three calendar years of data. You can then define repeat victims as persons or places victimized more than once during the three years. If you use only a single year of data, an address burglarized in December will not be identified as a repeat if the next burglary at the address occurred in January. Shorter time periods of data will generally underestimate the amount of repeat victimiz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data sufficiency - </a:t>
            </a:r>
            <a:r>
              <a:rPr b="0" lang="en-US" sz="800" spc="-1" strike="noStrike">
                <a:solidFill>
                  <a:srgbClr val="000000"/>
                </a:solidFill>
                <a:latin typeface="Arial"/>
              </a:rPr>
              <a:t>As a general rule, it can be easier to detect repeat victimization for offenses that are common than for offenses that are rare. While the magnitude of problems varies from one jurisdiction to another, it may be useful to have 100 offenses or more per year to detect repeats. While one may find repeats even among 10 bank robberies per year in a small town, analyzing a larger number of robberies will produce more reliable findings. When there are few offenses of one type, you can increase the amount of data by incorporating multiple years, up to ten years or more, or by broadening the geographic scope of analysis, such as incorporating offenses that occur in neighboring jurisdic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oosing a denominator - </a:t>
            </a:r>
            <a:r>
              <a:rPr b="0" lang="en-US" sz="800" spc="-1" strike="noStrike">
                <a:solidFill>
                  <a:srgbClr val="000000"/>
                </a:solidFill>
                <a:latin typeface="Arial"/>
              </a:rPr>
              <a:t>To best calculate repeat victimization, it is useful to know the population or number of possible victims of a similar type. For example, if you want to determine the number of repeat robberies of convenience stores, it is helpful to know the number of convenience stores. For demographic information, such as households, such data can be found in the U.S. Census; for other denominators, sources such as business licenses or tax records can be used to determine the popul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ying key variables - </a:t>
            </a:r>
            <a:r>
              <a:rPr b="0" lang="en-US" sz="800" spc="-1" strike="noStrike">
                <a:solidFill>
                  <a:srgbClr val="000000"/>
                </a:solidFill>
                <a:latin typeface="Arial"/>
              </a:rPr>
              <a:t>Data should routinely include victim name, address (including street number, building name or number, apartment or suite number, and direction), and date and time of the offense. If the victim is a business, the business name and the type of business should be examined. Variables examined should also include the outcome such as the type or value of property taken or damaged, whether the offense was attempted or completed, the amount of force used in the offense, the level of harm, and so forth. Additional variables may be useful, and you can identify these by reading the literature on the specific type of problem being consider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data limitations - </a:t>
            </a:r>
            <a:r>
              <a:rPr b="0" lang="en-US" sz="800" spc="-1" strike="noStrike">
                <a:solidFill>
                  <a:srgbClr val="000000"/>
                </a:solidFill>
                <a:latin typeface="Arial"/>
              </a:rPr>
              <a:t>Police data routinely have limitations, including underreporting, delayed reporting, data errors, and imprecise address information. When selecting data, you should identify the limitations of the data you will use, think through the implications of these limitations, and determine whether the data can be improved with a reasonable amount of effo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 NOTE – </a:t>
            </a:r>
            <a:r>
              <a:rPr b="0" lang="en-US" sz="800" spc="-1" strike="noStrike">
                <a:solidFill>
                  <a:srgbClr val="000000"/>
                </a:solidFill>
                <a:latin typeface="Arial"/>
              </a:rPr>
              <a:t>This slide might be best suited for graduate students or offi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ic analysis for repeat victimization is straightforward and rarely requires any complex statistical procedures. Data are typically contained in a spreadsheet with a range of descriptive variables; the data are then sorted based on a particular variable so all related victims are grouped toge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pping locations - </a:t>
            </a:r>
            <a:r>
              <a:rPr b="0" lang="en-US" sz="800" spc="-1" strike="noStrike">
                <a:solidFill>
                  <a:srgbClr val="000000"/>
                </a:solidFill>
                <a:latin typeface="Arial"/>
              </a:rPr>
              <a:t>Many types of re-victimization can initially be detected with point maps. These maps place dots or points on the locations of offenses, calls for service, and arrests for crimes such as burglaries, robberies, and assaults. Points that are scaled in size to reflect the number of incidents occurring at individual addresses are useful. Point maps are less useful in areas of high-rise apartments or office buildings where the population is dense. Point maps are also less useful in rural areas or areas with few addresses such as parks, farms, and large parking lots, unless global positioning system (GPS) coordinates have been established for these loc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rting offense data by address - </a:t>
            </a:r>
            <a:r>
              <a:rPr b="0" lang="en-US" sz="800" spc="-1" strike="noStrike">
                <a:solidFill>
                  <a:srgbClr val="000000"/>
                </a:solidFill>
                <a:latin typeface="Arial"/>
              </a:rPr>
              <a:t>Mapping is essentially a method of putting a chart or table onto a spatial layer. We can accomplish the same task by sorting data by address-by sorting the street names and numb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rting offense data by victim name - </a:t>
            </a:r>
            <a:r>
              <a:rPr b="0" lang="en-US" sz="800" spc="-1" strike="noStrike">
                <a:solidFill>
                  <a:srgbClr val="000000"/>
                </a:solidFill>
                <a:latin typeface="Arial"/>
              </a:rPr>
              <a:t>Police data can be sorted by victim name as the primary sorting characteristic, using address, and other unique information to verify and resolve any apparent errors in the database. Both calls-for-service and offense data can be analyzed in this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unting victims and offenses - </a:t>
            </a:r>
            <a:r>
              <a:rPr b="0" lang="en-US" sz="800" spc="-1" strike="noStrike">
                <a:solidFill>
                  <a:srgbClr val="000000"/>
                </a:solidFill>
                <a:latin typeface="Arial"/>
              </a:rPr>
              <a:t>Once data are sorted and matched, most electronic databases such as Microsoft</a:t>
            </a:r>
            <a:r>
              <a:rPr b="1" lang="en-US" sz="800" spc="-1" strike="noStrike">
                <a:solidFill>
                  <a:srgbClr val="000000"/>
                </a:solidFill>
                <a:latin typeface="Arial"/>
              </a:rPr>
              <a:t>®</a:t>
            </a:r>
            <a:r>
              <a:rPr b="0" lang="en-US" sz="800" spc="-1" strike="noStrike">
                <a:solidFill>
                  <a:srgbClr val="000000"/>
                </a:solidFill>
                <a:latin typeface="Arial"/>
              </a:rPr>
              <a:t> Excel and SPSS</a:t>
            </a:r>
            <a:r>
              <a:rPr b="1" lang="en-US" sz="800" spc="-1" strike="noStrike">
                <a:solidFill>
                  <a:srgbClr val="000000"/>
                </a:solidFill>
                <a:latin typeface="Arial"/>
              </a:rPr>
              <a:t>®</a:t>
            </a:r>
            <a:r>
              <a:rPr b="0" lang="en-US" sz="800" spc="-1" strike="noStrike">
                <a:solidFill>
                  <a:srgbClr val="000000"/>
                </a:solidFill>
                <a:latin typeface="Arial"/>
              </a:rPr>
              <a:t> contain a procedure for counting the number of unique addresses or nam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eaning data - </a:t>
            </a:r>
            <a:r>
              <a:rPr b="0" lang="en-US" sz="800" spc="-1" strike="noStrike">
                <a:solidFill>
                  <a:srgbClr val="000000"/>
                </a:solidFill>
                <a:latin typeface="Arial"/>
              </a:rPr>
              <a:t>Sorting and matching data reveals many errors. These may appear trivial (for example when road type is listed in one record as "avenue" and in another as "street") but such errors may reduce the number of matches and lead to underestimations of repeat victimization. The errors can typically be repaired by using another variable to sort and verify the correct vers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culating time course - </a:t>
            </a:r>
            <a:r>
              <a:rPr b="0" lang="en-US" sz="800" spc="-1" strike="noStrike">
                <a:solidFill>
                  <a:srgbClr val="000000"/>
                </a:solidFill>
                <a:latin typeface="Arial"/>
              </a:rPr>
              <a:t>The amount of time between an initial offense and a subsequent offense (or between the second and third, or third and fourth) is called the time course. Most software can easily compute the time course in days by subtracting the date of the second offense from the date of the first offense. The procedure is only slightly more complicated when the data set exceeds 12 months, because the calculation of year must be converted so the software interprets Jan. 1, 2001, as 365 days later than Jan. 1, 2000. Descriptive statistics are typically used to report time course-the average number of days between repeat events, the range of least and most time between events, and percentiles such as the proportion of repeat events occurring within one week, 30 days, six months, or 12 months. The choice of the time period for reporting percentiles should be based upon natural or meaningful breaks in the temporal distribution of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culating rate - </a:t>
            </a:r>
            <a:r>
              <a:rPr b="0" lang="en-US" sz="800" spc="-1" strike="noStrike">
                <a:solidFill>
                  <a:srgbClr val="000000"/>
                </a:solidFill>
                <a:latin typeface="Arial"/>
              </a:rPr>
              <a:t>For many crime problems, the amount of victimization and repeat victimization will relate to exposure. </a:t>
            </a:r>
            <a:r>
              <a:rPr b="0" lang="en-US" sz="1200" spc="-1" strike="noStrike">
                <a:solidFill>
                  <a:srgbClr val="000000"/>
                </a:solidFill>
                <a:latin typeface="Arial"/>
              </a:rPr>
              <a:t>For example, if there are 118 convenience stores in a city and 75 of these are Handy Andy</a:t>
            </a:r>
            <a:r>
              <a:rPr b="1" lang="en-US" sz="1200" spc="-1" strike="noStrike">
                <a:solidFill>
                  <a:srgbClr val="000000"/>
                </a:solidFill>
                <a:latin typeface="Arial"/>
              </a:rPr>
              <a:t>®</a:t>
            </a:r>
            <a:r>
              <a:rPr b="0" lang="en-US" sz="1200" spc="-1" strike="noStrike">
                <a:solidFill>
                  <a:srgbClr val="000000"/>
                </a:solidFill>
                <a:latin typeface="Arial"/>
              </a:rPr>
              <a:t> stores, there are likely to be more robberies of Handy Andy than any other store. Exposure may also be increased by longer operating hours, more residents, more vehicular or foot traffic, and so 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STRUCTOR NOTE – </a:t>
            </a:r>
            <a:r>
              <a:rPr b="0" lang="en-US" sz="800" spc="-1" strike="noStrike">
                <a:solidFill>
                  <a:srgbClr val="000000"/>
                </a:solidFill>
                <a:latin typeface="Arial"/>
              </a:rPr>
              <a:t>This slide might be best suited for graduate students or offic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 Further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analysis of repeat victimization, its concentration, and time course may clearly point to specific responses that will eliminate or reduce a problem; however, it is likely that further analysis will be necessary. Without further analysis, most police will attempt to conduct surveillance or undercover operations to apprehend one or more offenders at the location of repeat victimization. This response may be appropriate when repeat victimization relates to the repeat offending but such efforts may require extensive resources and will not necessarily change the general conditions of properties or behaviors of persons who face higher risk of vic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lecting additional information - </a:t>
            </a:r>
            <a:r>
              <a:rPr b="0" lang="en-US" sz="800" spc="-1" strike="noStrike">
                <a:solidFill>
                  <a:srgbClr val="000000"/>
                </a:solidFill>
                <a:latin typeface="Arial"/>
              </a:rPr>
              <a:t>The initial analysis of repeat victimization may shed light on obvious vulnerabilities related to repeat victims. Such vulnerabilities may relate to characteristics for which data will need to be collected: store hours, age of victims (elderly or youth), environmental conditions, management practices, crime prevention devices used, victim behaviors, and so forth. All analysis should relate to factors that could be modified through some action on the part of the police or others. Patrol officers and investigators will often have insight into factors that contribute to high rates of repeat victim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amining victim-suspect relationships - </a:t>
            </a:r>
            <a:r>
              <a:rPr b="0" lang="en-US" sz="800" spc="-1" strike="noStrike">
                <a:solidFill>
                  <a:srgbClr val="000000"/>
                </a:solidFill>
                <a:latin typeface="Arial"/>
              </a:rPr>
              <a:t>For some offenses, the relationship between victim and suspect will shed light on the nature of re-victimization and on the nature of the police response. These relationships may explain many repeats for personal and property victimization of individu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termining the role of boosts - </a:t>
            </a:r>
            <a:r>
              <a:rPr b="0" lang="en-US" sz="800" spc="-1" strike="noStrike">
                <a:solidFill>
                  <a:srgbClr val="000000"/>
                </a:solidFill>
                <a:latin typeface="Arial"/>
              </a:rPr>
              <a:t>Some offenses such as domestic violence will tend to involve the same offender over time but the role of repeat offenders may not be immediately obvious. For analysis of repeat victimization, efforts should be made to determine the contribution of repeat offenders. If a single prolific offender-an employee, family member, or someone else-underlies much re-victimization, this information will guide efforts to determine the most effective response such as a panic or other temporary alarm, or increased short-term surveillance. Repeat victimization that continues after an offender is apprehended reflects flag rather than boost explan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aring victims and non-victims - </a:t>
            </a:r>
            <a:r>
              <a:rPr b="0" lang="en-US" sz="800" spc="-1" strike="noStrike">
                <a:solidFill>
                  <a:srgbClr val="000000"/>
                </a:solidFill>
                <a:latin typeface="Arial"/>
              </a:rPr>
              <a:t>Focusing on repeat victimization often highlights the differences between victims and non-victims, or between one-time victims and those who are repeatedly and even chronically victimized. Although convenience store robberies may be numerous, some stores are never robbed; crime in budget motels is not distributed across all such businesses, and factors such as management practices probably explain more variation than does location. Comparisons can reveal the average number of offenses for particular groups of businesses, locations, or victi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risk of repeat victimization is highest in the short-term, responses with the greatest potential for being effective have the following characteristics: Responses emphasize quick action-within 24 hours if possible-to prevent a subsequent of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priority is accorded repeat victims with the most victimization, and these victims receive an increased level or amount of the response. This type of graded response deploys the easiest or least expensive measures to first-time victims and increases the intensity of the response if subsequent victimizations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es to repeat victimization may be temporary since the increased risk of re-victimization is most acute in the short-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tecting Victim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1" lang="en-US" sz="900" spc="-1" strike="noStrike">
                <a:solidFill>
                  <a:srgbClr val="000000"/>
                </a:solidFill>
                <a:latin typeface="Arial"/>
              </a:rPr>
              <a:t>Quickly blocking visual signs of victimization - </a:t>
            </a:r>
            <a:r>
              <a:rPr b="0" lang="en-US" sz="900" spc="-1" strike="noStrike">
                <a:solidFill>
                  <a:srgbClr val="000000"/>
                </a:solidFill>
                <a:latin typeface="Arial"/>
              </a:rPr>
              <a:t>Obvious signs of property damage should be removed immediately to block visual signs of vulnerability. Needy victims may need assistance in quickly securing propert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proving physical security - </a:t>
            </a:r>
            <a:r>
              <a:rPr b="0" lang="en-US" sz="900" spc="-1" strike="noStrike">
                <a:solidFill>
                  <a:srgbClr val="000000"/>
                </a:solidFill>
                <a:latin typeface="Arial"/>
              </a:rPr>
              <a:t>While it is not practical to provide security surveys to </a:t>
            </a:r>
            <a:r>
              <a:rPr b="0" i="1" lang="en-US" sz="900" spc="-1" strike="noStrike">
                <a:solidFill>
                  <a:srgbClr val="000000"/>
                </a:solidFill>
                <a:latin typeface="Arial"/>
              </a:rPr>
              <a:t>all </a:t>
            </a:r>
            <a:r>
              <a:rPr b="0" lang="en-US" sz="900" spc="-1" strike="noStrike">
                <a:solidFill>
                  <a:srgbClr val="000000"/>
                </a:solidFill>
                <a:latin typeface="Arial"/>
              </a:rPr>
              <a:t>potential victims, properties that have been victimized once or more should be assessed for vulnerability, and protective actions should be taken rapid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rget hardening - </a:t>
            </a:r>
            <a:r>
              <a:rPr b="0" lang="en-US" sz="900" spc="-1" strike="noStrike">
                <a:solidFill>
                  <a:srgbClr val="000000"/>
                </a:solidFill>
                <a:latin typeface="Arial"/>
              </a:rPr>
              <a:t>Improved security, such as hardware, can be installed; lighting can be improved; security lighting installed; visibility improved such as by removing obstructions of cash registers; and so for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apidly blocking access to targets - </a:t>
            </a:r>
            <a:r>
              <a:rPr b="0" lang="en-US" sz="900" spc="-1" strike="noStrike">
                <a:solidFill>
                  <a:srgbClr val="000000"/>
                </a:solidFill>
                <a:latin typeface="Arial"/>
              </a:rPr>
              <a:t>Installing bandit or anti</a:t>
            </a:r>
            <a:r>
              <a:rPr b="1" lang="en-US" sz="900" spc="-1" strike="noStrike">
                <a:solidFill>
                  <a:srgbClr val="000000"/>
                </a:solidFill>
                <a:latin typeface="Arial"/>
              </a:rPr>
              <a:t>-</a:t>
            </a:r>
            <a:r>
              <a:rPr b="0" lang="en-US" sz="900" spc="-1" strike="noStrike">
                <a:solidFill>
                  <a:srgbClr val="000000"/>
                </a:solidFill>
                <a:latin typeface="Arial"/>
              </a:rPr>
              <a:t>robbery screens at victimized properties; placing targeted products behind counters, in locked cases, or out of reach; and moving or removing targets such as telephone booths, signs, vending machines, or vehic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moving or protecting targets - </a:t>
            </a:r>
            <a:r>
              <a:rPr b="0" lang="en-US" sz="900" spc="-1" strike="noStrike">
                <a:solidFill>
                  <a:srgbClr val="000000"/>
                </a:solidFill>
                <a:latin typeface="Arial"/>
              </a:rPr>
              <a:t>Some targets cannot be physically moved but victimization can be reduced by installing driveway barriers where vehicles cannot be garaged; and obstructing access to alleys, walls, signs, or culverts using fences, gates, vegetation, baffles, or sprinkl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gulating or controlling access - </a:t>
            </a:r>
            <a:r>
              <a:rPr b="0" lang="en-US" sz="900" spc="-1" strike="noStrike">
                <a:solidFill>
                  <a:srgbClr val="000000"/>
                </a:solidFill>
                <a:latin typeface="Arial"/>
              </a:rPr>
              <a:t>Access to locations that are repeatedly victimized, such as parks, bathrooms, libraries, and schools can be controlled in different ways including fees, passes, identification cards, or parking permi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ifting Responsibility for Repeat Victimiza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rPr>
              <a:t>Educating victims or eliminating excuses for risky behaviors - </a:t>
            </a:r>
            <a:r>
              <a:rPr b="0" lang="en-US" sz="1000" spc="-1" strike="noStrike">
                <a:solidFill>
                  <a:srgbClr val="000000"/>
                </a:solidFill>
                <a:latin typeface="Arial"/>
              </a:rPr>
              <a:t>Victim behaviors, such as failing to secure property or walking alone, may contribute to victimization. Once victimized, victims can be educated about their risk of being victimized again. Services such as escorts for women walking alone on college campuses, access to shelters or protective custody for domestic violence victims, and crime prevention devices such as dead bolt locks can eliminate excuses for risky behavi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ing management practices - </a:t>
            </a:r>
            <a:r>
              <a:rPr b="0" lang="en-US" sz="1000" spc="-1" strike="noStrike">
                <a:solidFill>
                  <a:srgbClr val="000000"/>
                </a:solidFill>
                <a:latin typeface="Arial"/>
              </a:rPr>
              <a:t>Management practices, such as increasing the number of employees or adopting security features, may reduce repeat victimization. For example, access controls can be installed in parking lots, retail stores can require receipts for returned merchandise, apartment complexes can screen visitors, gasoline stations can adopt pre-pay policies, stores can limit and secure cash on hand, bars can monitor drinking, the number of customers can be limited, access to hot products can be controlled, or the number of employees can be increased during "hot tim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changes in management practices may be costly and inconvenient, some businesses might prefer to put up with repeat victimization as a "cost" of doing business. In such cases, police should consider steps to encourage the adoption of preventive strategies. Education and informal requests may convince some property owners to adopt protective measures. Since predictable repeat victimization reduces the amount of police service available to unwilling victims, some repeat victims may be persuaded to adopt crime prevention strategies through the application of publicity, user fees, or even civil a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creasing Risks to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n-US" sz="800" spc="-1" strike="noStrike">
                <a:solidFill>
                  <a:srgbClr val="000000"/>
                </a:solidFill>
                <a:latin typeface="Arial"/>
              </a:rPr>
              <a:t>Temporarily increasing surveillance - </a:t>
            </a:r>
            <a:r>
              <a:rPr b="0" lang="en-US" sz="800" spc="-1" strike="noStrike">
                <a:solidFill>
                  <a:srgbClr val="000000"/>
                </a:solidFill>
                <a:latin typeface="Arial"/>
              </a:rPr>
              <a:t>For victimized locations and people, informal and formal surveillance can be increased temporarily through police patrols, security guards, and employees for a wide range of offenses from vandalism to burglary to domestic violence. Temporary surveillance can be increased through "cocoon watch," a type of Neighborhood Watch in which nearby residents are informed of an offense and asked to be particularly vigil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surveillance, including CCTV and portable burglar alarms, can also be temporarily used in many settings.  (See http://popcenter.org/Responses/response-surveillance.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mestic violence victims may be provided with panic alarms to quickly contact police about repeat offen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ing rewards - </a:t>
            </a:r>
            <a:r>
              <a:rPr b="0" lang="en-US" sz="800" spc="-1" strike="noStrike">
                <a:solidFill>
                  <a:srgbClr val="000000"/>
                </a:solidFill>
                <a:latin typeface="Arial"/>
              </a:rPr>
              <a:t>To deter repeat offenders, the rewards associated with offending can be reduced by focusing on victimized locations, persons, or property.  Tracking devices, such as units temporarily placed in vehicles, can be used to detect offen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ing or etching property with identification makes it difficult to sell property, and ink packs in cash packs limit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sh control procedures in retail stores limit the amount to be stolen, and return policies can reduce shoplift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 repeat victimization - </a:t>
            </a:r>
            <a:r>
              <a:rPr b="0" lang="en-US" sz="800" spc="-1" strike="noStrike">
                <a:solidFill>
                  <a:srgbClr val="000000"/>
                </a:solidFill>
                <a:latin typeface="Arial"/>
              </a:rPr>
              <a:t>It is important to assign clear responsibility for identifying and monitoring repeat victimization. The responsibility for monitoring repeat victimization may vary by the type of offense and the prevalence of re-victimization. Call dispatchers, crime analysts, crime prevention personnel, specialists such as victims service personnel, responding officers, and investigators may all take a role in identifying and monitoring repeat victimization; while the assignment of responsibility may vary from one crime problem to another, the locus of responsibility should be clearly articula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isk of repeat victimisation increases with further victimisation. A three-time victim is more likely to experience a fourth victimisation than a first-time victim is a second.  This led to the introduction of graduated police respon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roject in Huddersfield pioneered the ‘Olympic System’ whereby first-time victims received a Bronze response, two-time victims received a Silver response, and victims of three or more crimes received a Gold respon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old response was the most sophisticated, requiring the most cost and resources, but, in turn, promising the greatest preventive returns. The graduated response is a further refinement of the allocation of resources according to ri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uise Nicholas&amp; Graham Farrell.  Midlands Centre for Criminology and Criminal Justice, Loughborough University, September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pared for T. Newburn and P. Neyroud (Eds.). 2007. </a:t>
            </a:r>
            <a:r>
              <a:rPr b="0" i="1" lang="en-GB" sz="1200" spc="-1" strike="noStrike">
                <a:solidFill>
                  <a:srgbClr val="000000"/>
                </a:solidFill>
                <a:latin typeface="Arial"/>
              </a:rPr>
              <a:t>Dictionary of Policing</a:t>
            </a:r>
            <a:r>
              <a:rPr b="0" lang="en-GB" sz="1200" spc="-1" strike="noStrike">
                <a:solidFill>
                  <a:srgbClr val="000000"/>
                </a:solidFill>
                <a:latin typeface="Arial"/>
              </a:rPr>
              <a:t>. Cullompton: Willan Publis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allows you to determine to what degree your efforts have succeeded and suggests how you might modify your responses if they are not producing the intende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take measures of your problem </a:t>
            </a:r>
            <a:r>
              <a:rPr b="0" i="1" lang="en-US" sz="1200" spc="-1" strike="noStrike">
                <a:solidFill>
                  <a:srgbClr val="000000"/>
                </a:solidFill>
                <a:latin typeface="Arial"/>
              </a:rPr>
              <a:t>before</a:t>
            </a:r>
            <a:r>
              <a:rPr b="0" lang="en-US" sz="1200" spc="-1" strike="noStrike">
                <a:solidFill>
                  <a:srgbClr val="000000"/>
                </a:solidFill>
                <a:latin typeface="Arial"/>
              </a:rPr>
              <a:t> you implement responses to determine how serious the problem is, and </a:t>
            </a:r>
            <a:r>
              <a:rPr b="0" i="1" lang="en-US" sz="1200" spc="-1" strike="noStrike">
                <a:solidFill>
                  <a:srgbClr val="000000"/>
                </a:solidFill>
                <a:latin typeface="Arial"/>
              </a:rPr>
              <a:t>after</a:t>
            </a:r>
            <a:r>
              <a:rPr b="0" lang="en-US" sz="1200" spc="-1" strike="noStrike">
                <a:solidFill>
                  <a:srgbClr val="000000"/>
                </a:solidFill>
                <a:latin typeface="Arial"/>
              </a:rPr>
              <a:t> you implement them to determine whether they have been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blems are geographic, measures should be taken for both a target group and the surrounding area to detect any spatial displacement and, if possible, a comparable area to provide a basis of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measures should be taken for the problem of interest and any problem to which offenses may be displaced, such as from residential burglaries to commercial burgla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ing to targets/victims focuses on the target/victim and guardian facets of the crim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www.popcenter.o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phenomenon of repeat victimization is well-established, it is easy to overlook the importance of repeat victimization in crime pattern analysis because most people and properties within a jurisdiction are not victimized by crime, particularly within a period of one or a few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are repeatedly victimized and, in conformity with the 80-20 rule, small proportion of victims account for a large proportion of all victim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 Pease and Graham Farrell carefully documented this fact in a seminal Home Office publication called “Once Bitten, Twice Bitten”.  Using British Crime Survey data, they showed that about 4% of people experience about 40% of all victimizations in one year.  They showed that repeat victimization occurs for a variety of crimes including domestic violence, sexual assault, burglary and car-related thefts.  They also showed that repeats occur quite quickly, often within a week of the first victimization, though this varies with the off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victimization is substantial and accounts for a large portion of all crime. While re-victimization occurs for virtually all crime problems, the precise amount of crime associated with repeat victimization varies between crime problems, over time, and across pla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tions reflect the local nature of crime and important differences in the type and amount of data used for computing repeat victimiz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rimary sources of information demonstrate that repeat victimization is prevalent across the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of victim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rviews with offenders;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ime repor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each of these sources has limitations, the prevalence of repeat victimization is consistent across these different sour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data from international victimization surveys show that repeat victimization is more common for violent crime such as assaults and robbery than for property crime.  Assault victims routinely feature a high rate of repeat victimization, and domestic violence is among the most predictable crimes for which a repeat will occu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a:t>
            </a:r>
            <a:r>
              <a:rPr b="0" lang="en-US" sz="12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ue Repeat Victims</a:t>
            </a:r>
            <a:r>
              <a:rPr b="0" lang="en-US" sz="1000" spc="-1" strike="noStrike">
                <a:solidFill>
                  <a:srgbClr val="000000"/>
                </a:solidFill>
                <a:latin typeface="Arial"/>
              </a:rPr>
              <a:t> – are the exact same targets that were initially victimized, such as the same house and the same occupants who were burglarized three times within a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 Victims</a:t>
            </a:r>
            <a:r>
              <a:rPr b="0" lang="en-US" sz="1000" spc="-1" strike="noStrike">
                <a:solidFill>
                  <a:srgbClr val="000000"/>
                </a:solidFill>
                <a:latin typeface="Arial"/>
              </a:rPr>
              <a:t> – are victims or targets that are physically close to the original victim and may be similar in important ways.  Apartments close to a burglarized unit will tend to contain similar goods, have similar physical vulnerabilities, and a common lay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Repeats</a:t>
            </a:r>
            <a:r>
              <a:rPr b="0" lang="en-US" sz="1000" spc="-1" strike="noStrike">
                <a:solidFill>
                  <a:srgbClr val="000000"/>
                </a:solidFill>
                <a:latin typeface="Arial"/>
              </a:rPr>
              <a:t> – are repeat victims that are virtually identical to the original victim in important ways.  Example:  A chain of convenience or fast food restaurants may have identical store layouts and management practices, such as having a single clerk on duty or informal cash handling proced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ronic Victims</a:t>
            </a:r>
            <a:r>
              <a:rPr b="0" lang="en-US" sz="1000" spc="-1" strike="noStrike">
                <a:solidFill>
                  <a:srgbClr val="000000"/>
                </a:solidFill>
                <a:latin typeface="Arial"/>
              </a:rPr>
              <a:t> – are repeat victims who suffer from different types of victimization over time—such as burglary, domestic violence and robbery.  This phenomenon is also known as multiple victimiz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a:t>
            </a:r>
            <a:r>
              <a:rPr b="0" lang="en-US" sz="1000" spc="-1" strike="noStrike">
                <a:solidFill>
                  <a:srgbClr val="000000"/>
                </a:solidFill>
                <a:latin typeface="Arial"/>
              </a:rPr>
              <a:t>  Weisel, Deborah (2004). Analyzing Repeat Victimization, Problem-Solving Tools Series, No. 2.  Washington DC: Office of Community Oriented Policing Services, U.S. Department of Justice. (accessible at http://popcenter.org/Tools/tool-repeatVictimization.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31C12-6C2C-4D39-BDF7-915DD5991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8B542-0A9E-4FD1-A9E3-76F1661EE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E7171-E0D6-4F80-A558-8F597D724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A7579-4B26-453F-951C-588F5BD18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980EE-C46E-40DE-A9D7-3B35374CF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3DB97-D4AE-4C21-81FD-50FC4A74B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045B9-A002-4196-917D-ADFEB2D8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05C98-2EA7-4EAA-9AE4-F416F899F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65915-9A84-4930-B1EF-6718FF7B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F4DB1-323A-4A31-8A27-D650D2DAF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E4C05-49AD-4C38-8FF3-491689B0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6FE5A-57B9-4E6F-A1E3-F2BC5B889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340F-82B3-421C-A4CA-DBECE54D87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popcenter.org/25techniques.htm"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12</a:t>
            </a:r>
            <a:endParaRPr b="0" lang="en-US" sz="4000" spc="-1" strike="noStrike">
              <a:solidFill>
                <a:srgbClr val="000000"/>
              </a:solidFill>
              <a:latin typeface="Arial"/>
            </a:endParaRPr>
          </a:p>
        </p:txBody>
      </p:sp>
      <p:sp>
        <p:nvSpPr>
          <p:cNvPr id="49" name=""/>
          <p:cNvSpPr/>
          <p:nvPr/>
        </p:nvSpPr>
        <p:spPr>
          <a:xfrm>
            <a:off x="533520" y="4648320"/>
            <a:ext cx="82296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ding to Targets/Victim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A9A0F95A-F850-412C-A14B-7BA16FFBEB6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ere</a:t>
            </a:r>
            <a:r>
              <a:rPr b="1" lang="en-US" sz="3600" spc="-1" strike="noStrike">
                <a:solidFill>
                  <a:srgbClr val="000000"/>
                </a:solidFill>
                <a:latin typeface="Arial"/>
              </a:rPr>
              <a:t> Repeat Victimization Occu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380880" y="16765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victimization is most common in high crime area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s and places in high crime areas face a greater risk of initial victimization and they may lack the means to block a subsequent victimiz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igh crime areas, crime is so concentrated among repeat victims that recurring offenses can create hot spots - relatively small geographic areas in which victims  are cluster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D17049-3D37-4E3D-A3D6-D9F46610CC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en</a:t>
            </a:r>
            <a:r>
              <a:rPr b="1" lang="en-US" sz="3600" spc="-1" strike="noStrike">
                <a:solidFill>
                  <a:srgbClr val="000000"/>
                </a:solidFill>
                <a:latin typeface="Arial"/>
              </a:rPr>
              <a:t> Repeat Victimization Occurs</a:t>
            </a:r>
            <a:endParaRPr b="0" lang="en-US" sz="3600" spc="-1" strike="noStrike">
              <a:solidFill>
                <a:srgbClr val="000000"/>
              </a:solidFill>
              <a:latin typeface="Arial"/>
            </a:endParaRPr>
          </a:p>
        </p:txBody>
      </p:sp>
      <p:sp>
        <p:nvSpPr>
          <p:cNvPr id="73" name=""/>
          <p:cNvSpPr/>
          <p:nvPr/>
        </p:nvSpPr>
        <p:spPr>
          <a:xfrm>
            <a:off x="457200" y="1523880"/>
            <a:ext cx="82296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victimization is sometimes most likely to occur very soon after the initial victimization (particularly for financially-based crim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tudies suggest that the chances of repeated burglary of homes increases in the year following the initial burglary</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y reflect an “insurance effect” whereby the thieves return to steal property that was recently replaced by insurance compa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A5AC2DC-B078-4C50-A0C3-7F3F77D61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nking Repeat Victimization to Other Crime Patterns</a:t>
            </a:r>
            <a:endParaRPr b="0" lang="en-US" sz="4000" spc="-1" strike="noStrike">
              <a:solidFill>
                <a:srgbClr val="000000"/>
              </a:solidFill>
              <a:latin typeface="Arial"/>
            </a:endParaRPr>
          </a:p>
        </p:txBody>
      </p:sp>
      <p:sp>
        <p:nvSpPr>
          <p:cNvPr id="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spots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 product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Offender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serie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y Facilit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7AD9254-C991-4F67-9B33-4B97F17131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cial Concerns</a:t>
            </a:r>
            <a:endParaRPr b="0" lang="en-US" sz="4400" spc="-1" strike="noStrike">
              <a:solidFill>
                <a:srgbClr val="000000"/>
              </a:solidFill>
              <a:latin typeface="Arial"/>
            </a:endParaRPr>
          </a:p>
        </p:txBody>
      </p:sp>
      <p:sp>
        <p:nvSpPr>
          <p:cNvPr id="77"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ming the victi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fearfuln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olating privacy of victim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lacing crim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ntended consequenc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FEEAEA3-CA28-4D0A-B2F7-EE742DD05D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808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derstanding The Local Repeat Victimization Pattern</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5A07F8E-8074-42E0-93F0-3CEB9A71E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lecting Dat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the appropriate time frame</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data sufficiency</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ing a denominator</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key variables</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data limita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C031874-43ED-430D-8DC8-D72114B548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alysis Task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pping Location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ing offense data by addres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rting offense data by victim nam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ing victims and offense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 data</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time cours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ng ra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C487069-53C9-42F0-A565-9A9618984B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ning Further Analyses</a:t>
            </a:r>
            <a:endParaRPr b="0" lang="en-US" sz="4400" spc="-1" strike="noStrike">
              <a:solidFill>
                <a:srgbClr val="000000"/>
              </a:solidFill>
              <a:latin typeface="Arial"/>
            </a:endParaRPr>
          </a:p>
        </p:txBody>
      </p:sp>
      <p:sp>
        <p:nvSpPr>
          <p:cNvPr id="8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additional information</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ing victim-suspect relationships</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the role of boosts</a:t>
            </a:r>
            <a:endParaRPr b="0"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ng victims and non-victim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8DD4E89-34A4-4901-B59E-8DDD8A84F7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1371240"/>
            <a:ext cx="82296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ponding to Repeat Victimization</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BA2FF1F-671A-4CFD-91F4-945EEC60EC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Primary Respons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ecting victims</a:t>
            </a:r>
            <a:r>
              <a:rPr b="0" lang="en-US" sz="3200" spc="-1" strike="noStrike">
                <a:solidFill>
                  <a:srgbClr val="000000"/>
                </a:solidFill>
                <a:latin typeface="Arial"/>
              </a:rPr>
              <a:t> by blocking future opportunities against these specific persons or plac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000000"/>
                </a:solidFill>
                <a:latin typeface="Arial"/>
              </a:rPr>
              <a:t>Shifting responsibility</a:t>
            </a:r>
            <a:r>
              <a:rPr b="0" lang="en-US" sz="3200" spc="-1" strike="noStrike">
                <a:solidFill>
                  <a:srgbClr val="000000"/>
                </a:solidFill>
                <a:latin typeface="Arial"/>
              </a:rPr>
              <a:t> for repeat victimizatio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000000"/>
                </a:solidFill>
                <a:latin typeface="Arial"/>
              </a:rPr>
              <a:t>Increasing actual or perceived risks</a:t>
            </a:r>
            <a:r>
              <a:rPr b="0" lang="en-US" sz="3200" spc="-1" strike="noStrike">
                <a:solidFill>
                  <a:srgbClr val="000000"/>
                </a:solidFill>
                <a:latin typeface="Arial"/>
              </a:rPr>
              <a:t> of apprehension for offenders, primarily for repeat offend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00FB1A-003D-4F77-807D-0170152FA7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dule 12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 Repeat Victimiz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Your Local Repeat Victimization Patter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ing to Repeat Victimiz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A52FE4A-FC28-4072-B573-CB0C854C3A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 Protecting Victims</a:t>
            </a:r>
            <a:endParaRPr b="0" lang="en-US" sz="4400" spc="-1" strike="noStrike">
              <a:solidFill>
                <a:srgbClr val="000000"/>
              </a:solidFill>
              <a:latin typeface="Arial"/>
            </a:endParaRPr>
          </a:p>
        </p:txBody>
      </p:sp>
      <p:sp>
        <p:nvSpPr>
          <p:cNvPr id="8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ly blocking visual signs of victimization</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physical security</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hardening</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ly blocking access to target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or protecting target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ng or controlling access</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FCED5DD-1D53-4B21-960C-05D74AF91F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Shifting Responsibility for Repeat Victimization</a:t>
            </a:r>
            <a:endParaRPr b="0" lang="en-US" sz="4000" spc="-1" strike="noStrike">
              <a:solidFill>
                <a:srgbClr val="000000"/>
              </a:solidFill>
              <a:latin typeface="Arial"/>
            </a:endParaRPr>
          </a:p>
        </p:txBody>
      </p:sp>
      <p:sp>
        <p:nvSpPr>
          <p:cNvPr id="9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ing victims or removing excuses for risky behaviors</a:t>
            </a:r>
            <a:endParaRPr b="0" lang="en-US" sz="4000" spc="-1" strike="noStrike">
              <a:solidFill>
                <a:srgbClr val="000000"/>
              </a:solidFill>
              <a:latin typeface="Arial"/>
            </a:endParaRPr>
          </a:p>
          <a:p>
            <a:pPr marL="343080" indent="-343080">
              <a:lnSpc>
                <a:spcPct val="2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ing management practic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B5C604FF-793E-4D47-B3C6-1AAE211E6C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asing Risks to Offenders</a:t>
            </a:r>
            <a:endParaRPr b="0" lang="en-US" sz="4000" spc="-1" strike="noStrike">
              <a:solidFill>
                <a:srgbClr val="000000"/>
              </a:solidFill>
              <a:latin typeface="Arial"/>
            </a:endParaRPr>
          </a:p>
        </p:txBody>
      </p:sp>
      <p:sp>
        <p:nvSpPr>
          <p:cNvPr id="93"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mporarily increasing surveillanc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ducing reward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nitoring repeat victimization</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6562C9F5-D948-4C83-91B3-B178D4AF9A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lympic” Response to</a:t>
            </a:r>
            <a:br>
              <a:rPr sz="4000"/>
            </a:br>
            <a:r>
              <a:rPr b="0" lang="en-US" sz="4000" spc="-1" strike="noStrike">
                <a:solidFill>
                  <a:srgbClr val="000000"/>
                </a:solidFill>
                <a:latin typeface="Arial"/>
              </a:rPr>
              <a:t>Repeat Victimization</a:t>
            </a:r>
            <a:endParaRPr b="0" lang="en-US" sz="4000" spc="-1" strike="noStrike">
              <a:solidFill>
                <a:srgbClr val="000000"/>
              </a:solidFill>
              <a:latin typeface="Arial"/>
            </a:endParaRPr>
          </a:p>
        </p:txBody>
      </p:sp>
      <p:sp>
        <p:nvSpPr>
          <p:cNvPr id="95" name="PlaceHolder 2"/>
          <p:cNvSpPr>
            <a:spLocks noGrp="1"/>
          </p:cNvSpPr>
          <p:nvPr>
            <p:ph/>
          </p:nvPr>
        </p:nvSpPr>
        <p:spPr>
          <a:xfrm>
            <a:off x="228240" y="1600200"/>
            <a:ext cx="8458200" cy="50292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of repeat victimisation increases with further victimisation.</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lympic System</a:t>
            </a:r>
            <a:r>
              <a:rPr b="0" lang="en-GB" sz="2800" spc="-1" strike="noStrike">
                <a:solidFill>
                  <a:srgbClr val="000000"/>
                </a:solidFill>
                <a:latin typeface="Arial"/>
              </a:rPr>
              <a:t>  - first-time victims received a Bronze response, two-time victims received a Silver response, and victims of three or more crimes received a Gold response.</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Gold response was the most sophisticated, requiring the most resources, but promising the greatest preventive retur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99A093E-8705-42F0-A603-02B1E98D9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asuring Effectiveness</a:t>
            </a:r>
            <a:endParaRPr b="0" lang="en-US" sz="4400" spc="-1" strike="noStrike">
              <a:solidFill>
                <a:srgbClr val="000000"/>
              </a:solidFill>
              <a:latin typeface="Arial"/>
            </a:endParaRPr>
          </a:p>
        </p:txBody>
      </p:sp>
      <p:sp>
        <p:nvSpPr>
          <p:cNvPr id="97" name="PlaceHolder 2"/>
          <p:cNvSpPr>
            <a:spLocks noGrp="1"/>
          </p:cNvSpPr>
          <p:nvPr>
            <p:ph/>
          </p:nvPr>
        </p:nvSpPr>
        <p:spPr>
          <a:xfrm>
            <a:off x="457200" y="1371600"/>
            <a:ext cx="82296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the number or frequency of reported incid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the proportion of repeat offens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the number or frequency of calls for ser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in repeat calls for servi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3286C6-8979-49D8-8095-2EAAC0FDFE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asuring Effectiveness</a:t>
            </a:r>
            <a:endParaRPr b="0" lang="en-US" sz="4400" spc="-1" strike="noStrike">
              <a:solidFill>
                <a:srgbClr val="000000"/>
              </a:solidFill>
              <a:latin typeface="Arial"/>
            </a:endParaRPr>
          </a:p>
        </p:txBody>
      </p:sp>
      <p:sp>
        <p:nvSpPr>
          <p:cNvPr id="99" name="PlaceHolder 2"/>
          <p:cNvSpPr>
            <a:spLocks noGrp="1"/>
          </p:cNvSpPr>
          <p:nvPr>
            <p:ph/>
          </p:nvPr>
        </p:nvSpPr>
        <p:spPr>
          <a:xfrm>
            <a:off x="380880" y="152352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the proportion of repeat victi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completed offe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of value of property taken or harm associated with offe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in arrests associated with offenses suffered by repeat victi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946B97-D9E2-4107-AC21-E4B9E87DA6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a:t>
            </a:r>
            <a:r>
              <a:rPr b="0" lang="en-US" sz="3200" spc="-1" strike="noStrike" u="sng">
                <a:solidFill>
                  <a:srgbClr val="009999"/>
                </a:solidFill>
                <a:uFillTx/>
                <a:latin typeface="Arial"/>
                <a:hlinkClick r:id="rId1"/>
              </a:rPr>
              <a:t>25 Techniques</a:t>
            </a:r>
            <a:r>
              <a:rPr b="0" lang="en-US" sz="3200" spc="-1" strike="noStrike" u="sng">
                <a:solidFill>
                  <a:srgbClr val="000000"/>
                </a:solidFill>
                <a:uFillTx/>
                <a:latin typeface="Arial"/>
              </a:rPr>
              <a:t>, provide one example for each technique and describe how it could be used to respond to targets/victi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5166BD-D2A3-4A8B-A39C-F2AB9093E7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2</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e a victim!  Evaluate your daily activities, lifestyle, and living environment.  Drawing from the readings, discuss your vulnerability to victimization and re-victimization (be specific in explaining what crime types and wh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identify what measures you should take to reduce your vulnerability.  You should consider previous literature on opportunity crime and situational and environmental preven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90C0476-1614-46E3-A70B-1F1EFC67BE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rcise 3</a:t>
            </a:r>
            <a:br>
              <a:rPr sz="4000"/>
            </a:br>
            <a:r>
              <a:rPr b="0" lang="en-US" sz="4000" spc="-1" strike="noStrike">
                <a:solidFill>
                  <a:srgbClr val="000000"/>
                </a:solidFill>
                <a:latin typeface="Arial"/>
              </a:rPr>
              <a:t>Keep a Crime Prevention Log</a:t>
            </a:r>
            <a:endParaRPr b="0" lang="en-US" sz="4000" spc="-1" strike="noStrike">
              <a:solidFill>
                <a:srgbClr val="000000"/>
              </a:solidFill>
              <a:latin typeface="Arial"/>
            </a:endParaRPr>
          </a:p>
        </p:txBody>
      </p:sp>
      <p:sp>
        <p:nvSpPr>
          <p:cNvPr id="105" name="PlaceHolder 2"/>
          <p:cNvSpPr>
            <a:spLocks noGrp="1"/>
          </p:cNvSpPr>
          <p:nvPr>
            <p:ph/>
          </p:nvPr>
        </p:nvSpPr>
        <p:spPr>
          <a:xfrm>
            <a:off x="0" y="1600200"/>
            <a:ext cx="9144000" cy="50292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For the next week, keep a daily log of </a:t>
            </a:r>
            <a:r>
              <a:rPr b="1" lang="en-US" sz="1600" spc="-1" strike="noStrike" u="sng">
                <a:solidFill>
                  <a:srgbClr val="000000"/>
                </a:solidFill>
                <a:uFillTx/>
                <a:latin typeface="Arial"/>
              </a:rPr>
              <a:t>all</a:t>
            </a:r>
            <a:r>
              <a:rPr b="1" lang="en-US" sz="1600" spc="-1" strike="noStrike">
                <a:solidFill>
                  <a:srgbClr val="000000"/>
                </a:solidFill>
                <a:latin typeface="Arial"/>
              </a:rPr>
              <a:t> the activities/behaviors you engage in to reduce crime or the perception of crime opportunity.  Use the following forma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	</a:t>
            </a:r>
            <a:r>
              <a:rPr b="0" lang="en-US" sz="1600" spc="-1" strike="noStrike" u="sng">
                <a:solidFill>
                  <a:srgbClr val="000000"/>
                </a:solidFill>
                <a:uFillTx/>
                <a:latin typeface="Arial"/>
              </a:rPr>
              <a:t>Day</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Time</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Location</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Behavior</a:t>
            </a:r>
            <a:r>
              <a:rPr b="0" lang="en-US" sz="1600" spc="-1" strike="noStrike" u="sng">
                <a:solidFill>
                  <a:srgbClr val="000000"/>
                </a:solidFill>
                <a:uFillTx/>
                <a:latin typeface="Arial"/>
              </a:rPr>
              <a:t>	</a:t>
            </a:r>
            <a:r>
              <a:rPr b="0" lang="en-US" sz="1600" spc="-1" strike="noStrike" u="sng">
                <a:solidFill>
                  <a:srgbClr val="000000"/>
                </a:solidFill>
                <a:uFillTx/>
                <a:latin typeface="Arial"/>
              </a:rPr>
              <a:t>	</a:t>
            </a:r>
            <a:r>
              <a:rPr b="0" lang="en-US" sz="1600" spc="-1" strike="noStrike" u="sng">
                <a:solidFill>
                  <a:srgbClr val="000000"/>
                </a:solidFill>
                <a:uFillTx/>
                <a:latin typeface="Arial"/>
              </a:rPr>
              <a:t>To Prevent           </a:t>
            </a: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a:t>
            </a:r>
            <a:r>
              <a:rPr b="0" lang="en-US" sz="1600" spc="-1" strike="noStrike">
                <a:solidFill>
                  <a:srgbClr val="000000"/>
                </a:solidFill>
                <a:latin typeface="Arial"/>
              </a:rPr>
              <a:t>	</a:t>
            </a:r>
            <a:r>
              <a:rPr b="0" lang="en-US" sz="1600" spc="-1" strike="noStrike">
                <a:solidFill>
                  <a:srgbClr val="000000"/>
                </a:solidFill>
                <a:latin typeface="Arial"/>
              </a:rPr>
              <a:t>7p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arking lot</a:t>
            </a:r>
            <a:r>
              <a:rPr b="0" lang="en-US" sz="1600" spc="-1" strike="noStrike">
                <a:solidFill>
                  <a:srgbClr val="000000"/>
                </a:solidFill>
                <a:latin typeface="Arial"/>
              </a:rPr>
              <a:t>	</a:t>
            </a:r>
            <a:r>
              <a:rPr b="0" lang="en-US" sz="1600" spc="-1" strike="noStrike">
                <a:solidFill>
                  <a:srgbClr val="000000"/>
                </a:solidFill>
                <a:latin typeface="Arial"/>
              </a:rPr>
              <a:t>Locked car</a:t>
            </a:r>
            <a:r>
              <a:rPr b="0" lang="en-US" sz="1600" spc="-1" strike="noStrike">
                <a:solidFill>
                  <a:srgbClr val="000000"/>
                </a:solidFill>
                <a:latin typeface="Arial"/>
              </a:rPr>
              <a:t>	</a:t>
            </a:r>
            <a:r>
              <a:rPr b="0" lang="en-US" sz="1600" spc="-1" strike="noStrike">
                <a:solidFill>
                  <a:srgbClr val="000000"/>
                </a:solidFill>
                <a:latin typeface="Arial"/>
              </a:rPr>
              <a:t>Theft from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ehicl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uto thef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esday</a:t>
            </a:r>
            <a:r>
              <a:rPr b="0" lang="en-US" sz="1600" spc="-1" strike="noStrike">
                <a:solidFill>
                  <a:srgbClr val="000000"/>
                </a:solidFill>
                <a:latin typeface="Arial"/>
              </a:rPr>
              <a:t>	</a:t>
            </a:r>
            <a:r>
              <a:rPr b="0" lang="en-US" sz="1600" spc="-1" strike="noStrike">
                <a:solidFill>
                  <a:srgbClr val="000000"/>
                </a:solidFill>
                <a:latin typeface="Arial"/>
              </a:rPr>
              <a:t>10p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AU Parking lot </a:t>
            </a:r>
            <a:r>
              <a:rPr b="0" lang="en-US" sz="1600" spc="-1" strike="noStrike">
                <a:solidFill>
                  <a:srgbClr val="000000"/>
                </a:solidFill>
                <a:latin typeface="Arial"/>
              </a:rPr>
              <a:t>	</a:t>
            </a:r>
            <a:r>
              <a:rPr b="0" lang="en-US" sz="1600" spc="-1" strike="noStrike">
                <a:solidFill>
                  <a:srgbClr val="000000"/>
                </a:solidFill>
                <a:latin typeface="Arial"/>
              </a:rPr>
              <a:t>Walked with</a:t>
            </a:r>
            <a:r>
              <a:rPr b="0" lang="en-US" sz="1600" spc="-1" strike="noStrike">
                <a:solidFill>
                  <a:srgbClr val="000000"/>
                </a:solidFill>
                <a:latin typeface="Arial"/>
              </a:rPr>
              <a:t>	</a:t>
            </a:r>
            <a:r>
              <a:rPr b="0" lang="en-US" sz="1600" spc="-1" strike="noStrike">
                <a:solidFill>
                  <a:srgbClr val="000000"/>
                </a:solidFill>
                <a:latin typeface="Arial"/>
              </a:rPr>
              <a:t>Assaul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ellow student to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arking lot</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dnesday</a:t>
            </a:r>
            <a:r>
              <a:rPr b="0" lang="en-US" sz="1600" spc="-1" strike="noStrike">
                <a:solidFill>
                  <a:srgbClr val="000000"/>
                </a:solidFill>
                <a:latin typeface="Arial"/>
              </a:rPr>
              <a:t>	</a:t>
            </a:r>
            <a:r>
              <a:rPr b="0" lang="en-US" sz="1600" spc="-1" strike="noStrike">
                <a:solidFill>
                  <a:srgbClr val="000000"/>
                </a:solidFill>
                <a:latin typeface="Arial"/>
              </a:rPr>
              <a:t>10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Gardens Mall</a:t>
            </a:r>
            <a:r>
              <a:rPr b="0" lang="en-US" sz="1600" spc="-1" strike="noStrike">
                <a:solidFill>
                  <a:srgbClr val="000000"/>
                </a:solidFill>
                <a:latin typeface="Arial"/>
              </a:rPr>
              <a:t>	</a:t>
            </a:r>
            <a:r>
              <a:rPr b="0" lang="en-US" sz="1600" spc="-1" strike="noStrike">
                <a:solidFill>
                  <a:srgbClr val="000000"/>
                </a:solidFill>
                <a:latin typeface="Arial"/>
              </a:rPr>
              <a:t>Got keys out of</a:t>
            </a:r>
            <a:r>
              <a:rPr b="0" lang="en-US" sz="1600" spc="-1" strike="noStrike">
                <a:solidFill>
                  <a:srgbClr val="000000"/>
                </a:solidFill>
                <a:latin typeface="Arial"/>
              </a:rPr>
              <a:t>	</a:t>
            </a:r>
            <a:r>
              <a:rPr b="0" lang="en-US" sz="1600" spc="-1" strike="noStrike">
                <a:solidFill>
                  <a:srgbClr val="000000"/>
                </a:solidFill>
                <a:latin typeface="Arial"/>
              </a:rPr>
              <a:t>Assaul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urse 20 feet</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efore vehicl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n in a list of entries for these seven days.  This can be hand written or typed.  Really pay attention to your actions in order to document ALL crime prevention behavior.  You will be graded on the format, quantity, and quality of your entries.</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B6CA117-00FA-43ED-BA87-A9AC3CDA45C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ctim (SITTING DUCK) Problem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victimization - victims repeatedly attacked by different offen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TING DUCK problems occur when victims continually interact with potential offenders at different places, but the victims do not increase their precautionary measures and their guardians are either absent or ineffective.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7EE51A6-356F-4ABA-A4F2-0B6F187665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ctim (SITTING DUCK) Problems</a:t>
            </a:r>
            <a:endParaRPr b="0" lang="en-US" sz="4400" spc="-1" strike="noStrike">
              <a:solidFill>
                <a:srgbClr val="000000"/>
              </a:solidFill>
              <a:latin typeface="Arial"/>
            </a:endParaRPr>
          </a:p>
        </p:txBody>
      </p:sp>
      <p:pic>
        <p:nvPicPr>
          <p:cNvPr id="56" name="" descr=""/>
          <p:cNvPicPr/>
          <p:nvPr/>
        </p:nvPicPr>
        <p:blipFill>
          <a:blip r:embed="rId1"/>
          <a:stretch/>
        </p:blipFill>
        <p:spPr>
          <a:xfrm>
            <a:off x="2286000" y="1295280"/>
            <a:ext cx="4267080" cy="4102200"/>
          </a:xfrm>
          <a:prstGeom prst="rect">
            <a:avLst/>
          </a:prstGeom>
          <a:ln w="0">
            <a:noFill/>
          </a:ln>
        </p:spPr>
      </p:pic>
      <p:sp>
        <p:nvSpPr>
          <p:cNvPr id="57" name=""/>
          <p:cNvSpPr/>
          <p:nvPr/>
        </p:nvSpPr>
        <p:spPr>
          <a:xfrm>
            <a:off x="3657600" y="5410080"/>
            <a:ext cx="1295280" cy="112896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329736A-A6BE-42AF-9474-4880B8F7D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Overlooking Repeat Victimiz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1990 study of 10,828 reported burglar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 of 300,000 addresses were not burglariz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3% of the addresses (8,116) were burglariz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repeat victimization appears minim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2% of the victims (6,616 addresses) suffered only one burglary during the yea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 of victims (1,500 addresses) suffered two or mo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is sheds further light on repeat victimiz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 of all burglaries (6,616) occurred at addresses with only one offen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of all burglaries (4,212) occurred at addresses with two or more offen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635D41-7171-4B69-B0BA-213ADDDE77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0-20 Rule and Repeat Victimization</a:t>
            </a:r>
            <a:endParaRPr b="0" lang="en-US" sz="4000" spc="-1" strike="noStrike">
              <a:solidFill>
                <a:srgbClr val="000000"/>
              </a:solidFill>
              <a:latin typeface="Arial"/>
            </a:endParaRPr>
          </a:p>
        </p:txBody>
      </p:sp>
      <p:graphicFrame>
        <p:nvGraphicFramePr>
          <p:cNvPr id="61" name=""/>
          <p:cNvGraphicFramePr/>
          <p:nvPr/>
        </p:nvGraphicFramePr>
        <p:xfrm>
          <a:off x="990720" y="1676520"/>
          <a:ext cx="7315200" cy="5087880"/>
        </p:xfrm>
        <a:graphic>
          <a:graphicData uri="http://schemas.openxmlformats.org/presentationml/2006/ole">
            <p:oleObj r:id="rId1" spid="">
              <p:embed/>
              <p:pic>
                <p:nvPicPr>
                  <p:cNvPr id="62" name="" descr=""/>
                  <p:cNvPicPr/>
                  <p:nvPr/>
                </p:nvPicPr>
                <p:blipFill>
                  <a:blip r:embed="rId2"/>
                  <a:stretch/>
                </p:blipFill>
                <p:spPr>
                  <a:xfrm>
                    <a:off x="990720" y="1676520"/>
                    <a:ext cx="7315200" cy="5087880"/>
                  </a:xfrm>
                  <a:prstGeom prst="rect">
                    <a:avLst/>
                  </a:prstGeom>
                  <a:ln w="0">
                    <a:noFill/>
                  </a:ln>
                </p:spPr>
              </p:pic>
            </p:oleObj>
          </a:graphicData>
        </a:graphic>
      </p:graphicFrame>
      <p:sp>
        <p:nvSpPr>
          <p:cNvPr id="3" name="PlaceHolder 2"/>
          <p:cNvSpPr>
            <a:spLocks noGrp="1"/>
          </p:cNvSpPr>
          <p:nvPr>
            <p:ph type="sldNum" idx="3"/>
          </p:nvPr>
        </p:nvSpPr>
        <p:spPr/>
        <p:txBody>
          <a:bodyPr/>
          <a:p>
            <a:fld id="{4979ED5D-D910-404F-BEBD-92699AD7B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Extent of Repeat Victimization</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64" name=""/>
          <p:cNvGraphicFramePr/>
          <p:nvPr/>
        </p:nvGraphicFramePr>
        <p:xfrm>
          <a:off x="990720" y="1209600"/>
          <a:ext cx="7086600" cy="5362560"/>
        </p:xfrm>
        <a:graphic>
          <a:graphicData uri="http://schemas.openxmlformats.org/presentationml/2006/ole">
            <p:oleObj r:id="rId1" spid="">
              <p:embed/>
              <p:pic>
                <p:nvPicPr>
                  <p:cNvPr id="65" name="" descr=""/>
                  <p:cNvPicPr/>
                  <p:nvPr/>
                </p:nvPicPr>
                <p:blipFill>
                  <a:blip r:embed="rId2"/>
                  <a:stretch/>
                </p:blipFill>
                <p:spPr>
                  <a:xfrm>
                    <a:off x="990720" y="1209600"/>
                    <a:ext cx="7086600" cy="5362560"/>
                  </a:xfrm>
                  <a:prstGeom prst="rect">
                    <a:avLst/>
                  </a:prstGeom>
                  <a:ln w="0">
                    <a:noFill/>
                  </a:ln>
                </p:spPr>
              </p:pic>
            </p:oleObj>
          </a:graphicData>
        </a:graphic>
      </p:graphicFrame>
      <p:sp>
        <p:nvSpPr>
          <p:cNvPr id="3" name="PlaceHolder 2"/>
          <p:cNvSpPr>
            <a:spLocks noGrp="1"/>
          </p:cNvSpPr>
          <p:nvPr>
            <p:ph type="sldNum" idx="3"/>
          </p:nvPr>
        </p:nvSpPr>
        <p:spPr/>
        <p:txBody>
          <a:bodyPr/>
          <a:p>
            <a:fld id="{BA09273C-932D-4C47-9ABB-4F3D6CE2D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wo Explanations for Repeat Victimization</a:t>
            </a:r>
            <a:endParaRPr b="0" lang="en-US" sz="4000" spc="-1" strike="noStrike">
              <a:solidFill>
                <a:srgbClr val="000000"/>
              </a:solidFill>
              <a:latin typeface="Arial"/>
            </a:endParaRPr>
          </a:p>
        </p:txBody>
      </p:sp>
      <p:sp>
        <p:nvSpPr>
          <p:cNvPr id="67"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st Explanations</a:t>
            </a:r>
            <a:r>
              <a:rPr b="0" lang="en-US" sz="3200" spc="-1" strike="noStrike">
                <a:solidFill>
                  <a:srgbClr val="000000"/>
                </a:solidFill>
                <a:latin typeface="Arial"/>
              </a:rPr>
              <a:t> – repeat victimization reflects the successful outcome of an initial offense.  Specific offenders gain important knowledge about a target from prior experience and use this information to re-offe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ag Explanations</a:t>
            </a:r>
            <a:r>
              <a:rPr b="0" lang="en-US" sz="3200" spc="-1" strike="noStrike">
                <a:solidFill>
                  <a:srgbClr val="000000"/>
                </a:solidFill>
                <a:latin typeface="Arial"/>
              </a:rPr>
              <a:t> – some targets are unusually attractive to criminals or particularly vulnerable to crim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358BF74-6257-4C36-BD52-C3D3A46377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Repeat Victimizatio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ue repeat victim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ar victim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tual repeat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onic victims</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C2A4EC05-BF76-47A3-9668-BDFA716A66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4T15:05:14Z</dcterms:created>
  <dc:creator>Joe Kuhns</dc:creator>
  <dc:description/>
  <dc:language>en-US</dc:language>
  <cp:lastModifiedBy>Joe Kuhns</cp:lastModifiedBy>
  <dcterms:modified xsi:type="dcterms:W3CDTF">2006-12-19T16:51:20Z</dcterms:modified>
  <cp:revision>39</cp:revision>
  <dc:subject/>
  <dc:title>Understanding Your Local Repeat Victimization Pattern</dc:title>
</cp:coreProperties>
</file>