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42D3-8BDF-4848-A8C0-95220EBC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0952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44672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7865-205A-42C6-AE95-358A9F7D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0952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0952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44672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44672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47B0-E178-4C05-9D17-B6C4E0B4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0952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0952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0952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44672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44672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44672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4C8C-F760-4EF1-B6B0-0BFD52B66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BE0D-2B65-4409-93C0-36D8C3719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FDAC-AF5F-4B22-AB4D-E90C4D4C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09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E9BC-6A5C-4A04-A26D-5F33D485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09520"/>
            <a:ext cx="31233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09520"/>
            <a:ext cx="31233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C2E0-AE19-4A17-912C-48846376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AFAE-7228-4708-97A6-B5AA5EDE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079360"/>
            <a:ext cx="7772400" cy="72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CBE8-A1D3-4C40-B631-486C2208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0952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09520"/>
            <a:ext cx="31233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44672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6BB7-D457-4268-AEE1-B7CC98F2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136E-D883-4E76-B643-4807925D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09520"/>
            <a:ext cx="31233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0952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44672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8961-A64C-4422-AA5E-CD3E4317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0952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0952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44672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D8EB-A2A1-47B6-9DC0-F727C9D1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0952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44672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5BEE-7C30-4303-94B8-16EE0FD4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0952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0952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44672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44672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D8F0-A2AE-43CF-BB05-4C7BD09CB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0952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0952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0952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44672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44672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446720"/>
            <a:ext cx="2060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1B27-C4BB-46C0-8204-0A8340A2C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09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97E1-4F97-478D-A0BA-D7BB13C1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09520"/>
            <a:ext cx="31233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09520"/>
            <a:ext cx="31233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C7C7-FABB-4AD3-9D3B-8FDC5D9D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2094-7E0E-4921-BD68-0E02AE42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079360"/>
            <a:ext cx="7772400" cy="72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16D7-2A52-4171-9889-297BC6C9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0952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09520"/>
            <a:ext cx="31233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44672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943C-33DF-4853-99AA-5CA946E8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09520"/>
            <a:ext cx="31233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0952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44672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156C-0F3F-4514-92DD-89D8322B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0952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09520"/>
            <a:ext cx="3123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44672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A4F0-B295-4FB4-A8FE-991F33FB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0932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62160" y="624852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4A11-C51C-4098-A0B2-DAB9EA0599D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599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2900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5943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1BD1-8863-4073-8FD5-2FD41941AE2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rboba@fau.edu" TargetMode="External"/><Relationship Id="rId3" Type="http://schemas.openxmlformats.org/officeDocument/2006/relationships/hyperlink" Target="http://www.sagepub.com/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644480"/>
            <a:ext cx="798660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Crime Analysts' Hot Ideas</a:t>
            </a: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2260800" y="2876400"/>
            <a:ext cx="4859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. Rachel Bo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orida Atlantic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rt St. Lucie, F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sented at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-Oriented Policing Conf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tember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dison, W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3080" y="105840"/>
            <a:ext cx="847224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Integrated Model Components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3520" y="1523880"/>
          <a:ext cx="8281800" cy="3787920"/>
        </p:xfrm>
        <a:graphic>
          <a:graphicData uri="http://schemas.openxmlformats.org/drawingml/2006/table">
            <a:tbl>
              <a:tblPr/>
              <a:tblGrid>
                <a:gridCol w="1966680"/>
                <a:gridCol w="2057400"/>
                <a:gridCol w="1486080"/>
                <a:gridCol w="2771640"/>
              </a:tblGrid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of Activ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lem Solv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aly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ountabi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9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ts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ious Inci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ficers and Detectiv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ficers and Detectiv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geants-Dai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9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ea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geants and/or Lieutena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mate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or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tains-Week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50000"/>
                      </a:srgbClr>
                    </a:solidFill>
                  </a:tcPr>
                </a:tc>
              </a:tr>
              <a:tr h="9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ter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5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geants and/or Lieutena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5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m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alys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5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tains-Weekly/Month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57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le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and Staff-Monthly and Bi-annual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4179960" y="2643120"/>
            <a:ext cx="2235240" cy="2200320"/>
          </a:xfrm>
          <a:prstGeom prst="rect">
            <a:avLst/>
          </a:prstGeom>
          <a:noFill/>
          <a:ln cap="sq"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25880" y="5483160"/>
            <a:ext cx="477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Development of these reports is the focus of this presen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nalysis within the Model 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sis varies by level of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sis process to develop repor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ization/response from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priate timing of repor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mal preparation of analysis for mee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Preparation for Meetings: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Ineffective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57360" y="1650960"/>
          <a:ext cx="8123040" cy="3668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7360" y="1650960"/>
                    <a:ext cx="812304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3019320" y="2884320"/>
            <a:ext cx="609840" cy="1657440"/>
          </a:xfrm>
          <a:prstGeom prst="downArrowCallout">
            <a:avLst>
              <a:gd name="adj1" fmla="val 25002"/>
              <a:gd name="adj2" fmla="val 25000"/>
              <a:gd name="adj3" fmla="val 45297"/>
              <a:gd name="adj4" fmla="val 66667"/>
            </a:avLst>
          </a:prstGeom>
          <a:gradFill rotWithShape="0">
            <a:gsLst>
              <a:gs pos="0">
                <a:srgbClr val="172f5e"/>
              </a:gs>
              <a:gs pos="100000">
                <a:srgbClr val="3366cc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79920" y="2865600"/>
            <a:ext cx="609840" cy="1657080"/>
          </a:xfrm>
          <a:prstGeom prst="downArrowCallout">
            <a:avLst>
              <a:gd name="adj1" fmla="val 25002"/>
              <a:gd name="adj2" fmla="val 25000"/>
              <a:gd name="adj3" fmla="val 45287"/>
              <a:gd name="adj4" fmla="val 66667"/>
            </a:avLst>
          </a:prstGeom>
          <a:gradFill rotWithShape="0">
            <a:gsLst>
              <a:gs pos="0">
                <a:srgbClr val="172f5e"/>
              </a:gs>
              <a:gs pos="100000">
                <a:srgbClr val="3366cc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924680" y="2865600"/>
            <a:ext cx="609840" cy="1657080"/>
          </a:xfrm>
          <a:prstGeom prst="downArrowCallout">
            <a:avLst>
              <a:gd name="adj1" fmla="val 25002"/>
              <a:gd name="adj2" fmla="val 25000"/>
              <a:gd name="adj3" fmla="val 45287"/>
              <a:gd name="adj4" fmla="val 66667"/>
            </a:avLst>
          </a:prstGeom>
          <a:gradFill rotWithShape="0">
            <a:gsLst>
              <a:gs pos="0">
                <a:srgbClr val="172f5e"/>
              </a:gs>
              <a:gs pos="100000">
                <a:srgbClr val="3366cc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25360" y="2865600"/>
            <a:ext cx="1589400" cy="1784160"/>
          </a:xfrm>
          <a:custGeom>
            <a:avLst/>
            <a:gdLst/>
            <a:ahLst/>
            <a:rect l="l" t="t" r="r" b="b"/>
            <a:pathLst>
              <a:path w="1001" h="1124">
                <a:moveTo>
                  <a:pt x="0" y="1100"/>
                </a:moveTo>
                <a:cubicBezTo>
                  <a:pt x="153" y="1112"/>
                  <a:pt x="306" y="1124"/>
                  <a:pt x="423" y="1064"/>
                </a:cubicBezTo>
                <a:cubicBezTo>
                  <a:pt x="540" y="1004"/>
                  <a:pt x="614" y="897"/>
                  <a:pt x="702" y="740"/>
                </a:cubicBezTo>
                <a:cubicBezTo>
                  <a:pt x="790" y="583"/>
                  <a:pt x="907" y="238"/>
                  <a:pt x="954" y="119"/>
                </a:cubicBezTo>
                <a:cubicBezTo>
                  <a:pt x="1001" y="0"/>
                  <a:pt x="991" y="14"/>
                  <a:pt x="981" y="29"/>
                </a:cubicBezTo>
              </a:path>
            </a:pathLst>
          </a:custGeom>
          <a:noFill/>
          <a:ln cap="sq"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22760" y="2865600"/>
            <a:ext cx="1589040" cy="1784160"/>
          </a:xfrm>
          <a:custGeom>
            <a:avLst/>
            <a:gdLst/>
            <a:ahLst/>
            <a:rect l="l" t="t" r="r" b="b"/>
            <a:pathLst>
              <a:path w="1001" h="1124">
                <a:moveTo>
                  <a:pt x="0" y="1100"/>
                </a:moveTo>
                <a:cubicBezTo>
                  <a:pt x="153" y="1112"/>
                  <a:pt x="306" y="1124"/>
                  <a:pt x="423" y="1064"/>
                </a:cubicBezTo>
                <a:cubicBezTo>
                  <a:pt x="540" y="1004"/>
                  <a:pt x="614" y="897"/>
                  <a:pt x="702" y="740"/>
                </a:cubicBezTo>
                <a:cubicBezTo>
                  <a:pt x="790" y="583"/>
                  <a:pt x="907" y="238"/>
                  <a:pt x="954" y="119"/>
                </a:cubicBezTo>
                <a:cubicBezTo>
                  <a:pt x="1001" y="0"/>
                  <a:pt x="991" y="14"/>
                  <a:pt x="981" y="29"/>
                </a:cubicBezTo>
              </a:path>
            </a:pathLst>
          </a:custGeom>
          <a:noFill/>
          <a:ln cap="sq"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72280" y="2865600"/>
            <a:ext cx="1589040" cy="1784160"/>
          </a:xfrm>
          <a:custGeom>
            <a:avLst/>
            <a:gdLst/>
            <a:ahLst/>
            <a:rect l="l" t="t" r="r" b="b"/>
            <a:pathLst>
              <a:path w="1001" h="1124">
                <a:moveTo>
                  <a:pt x="0" y="1100"/>
                </a:moveTo>
                <a:cubicBezTo>
                  <a:pt x="153" y="1112"/>
                  <a:pt x="306" y="1124"/>
                  <a:pt x="423" y="1064"/>
                </a:cubicBezTo>
                <a:cubicBezTo>
                  <a:pt x="540" y="1004"/>
                  <a:pt x="614" y="897"/>
                  <a:pt x="702" y="740"/>
                </a:cubicBezTo>
                <a:cubicBezTo>
                  <a:pt x="790" y="583"/>
                  <a:pt x="907" y="238"/>
                  <a:pt x="954" y="119"/>
                </a:cubicBezTo>
                <a:cubicBezTo>
                  <a:pt x="1001" y="0"/>
                  <a:pt x="991" y="14"/>
                  <a:pt x="981" y="29"/>
                </a:cubicBezTo>
              </a:path>
            </a:pathLst>
          </a:custGeom>
          <a:noFill/>
          <a:ln cap="sq"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13520" y="2131920"/>
            <a:ext cx="28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Accountability Meeting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76800" y="213192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vel of Prepa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25280" y="563076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e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249120" y="1933560"/>
          <a:ext cx="8604360" cy="3451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9120" y="1933560"/>
                    <a:ext cx="8604360" cy="34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2714760" y="2938320"/>
            <a:ext cx="609480" cy="871560"/>
          </a:xfrm>
          <a:prstGeom prst="downArrowCallout">
            <a:avLst>
              <a:gd name="adj1" fmla="val 25002"/>
              <a:gd name="adj2" fmla="val 25000"/>
              <a:gd name="adj3" fmla="val 23833"/>
              <a:gd name="adj4" fmla="val 66667"/>
            </a:avLst>
          </a:prstGeom>
          <a:gradFill rotWithShape="0">
            <a:gsLst>
              <a:gs pos="0">
                <a:srgbClr val="172f5e"/>
              </a:gs>
              <a:gs pos="100000">
                <a:srgbClr val="3366cc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5120" y="2938320"/>
            <a:ext cx="609480" cy="914400"/>
          </a:xfrm>
          <a:prstGeom prst="downArrowCallout">
            <a:avLst>
              <a:gd name="adj1" fmla="val 25002"/>
              <a:gd name="adj2" fmla="val 25000"/>
              <a:gd name="adj3" fmla="val 25005"/>
              <a:gd name="adj4" fmla="val 66667"/>
            </a:avLst>
          </a:prstGeom>
          <a:gradFill rotWithShape="0">
            <a:gsLst>
              <a:gs pos="0">
                <a:srgbClr val="172f5e"/>
              </a:gs>
              <a:gs pos="100000">
                <a:srgbClr val="3366cc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924680" y="2938320"/>
            <a:ext cx="609840" cy="928800"/>
          </a:xfrm>
          <a:prstGeom prst="downArrowCallout">
            <a:avLst>
              <a:gd name="adj1" fmla="val 25002"/>
              <a:gd name="adj2" fmla="val 25000"/>
              <a:gd name="adj3" fmla="val 25384"/>
              <a:gd name="adj4" fmla="val 66667"/>
            </a:avLst>
          </a:prstGeom>
          <a:gradFill rotWithShape="0">
            <a:gsLst>
              <a:gs pos="0">
                <a:srgbClr val="172f5e"/>
              </a:gs>
              <a:gs pos="100000">
                <a:srgbClr val="3366cc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12280" y="2147760"/>
            <a:ext cx="28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Accountability Meeting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40080" y="421308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vel of Prepa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1200" y="4010040"/>
            <a:ext cx="7753320" cy="0"/>
          </a:xfrm>
          <a:prstGeom prst="line">
            <a:avLst/>
          </a:prstGeom>
          <a:ln cap="sq"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25280" y="563076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e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2938320"/>
            <a:ext cx="609480" cy="871560"/>
          </a:xfrm>
          <a:prstGeom prst="downArrowCallout">
            <a:avLst>
              <a:gd name="adj1" fmla="val 25002"/>
              <a:gd name="adj2" fmla="val 25000"/>
              <a:gd name="adj3" fmla="val 23833"/>
              <a:gd name="adj4" fmla="val 66667"/>
            </a:avLst>
          </a:prstGeom>
          <a:gradFill rotWithShape="0">
            <a:gsLst>
              <a:gs pos="0">
                <a:srgbClr val="172f5e"/>
              </a:gs>
              <a:gs pos="100000">
                <a:srgbClr val="3366cc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Preparation for Meetings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Ideal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Repeat Incident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or more incid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ilar in nature and have happened at the same place (typically) or by the same pers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in hours, days and in some cases weeks of one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s for service and accident report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Repeat Incident (RI)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Report Development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407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s with experience with R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s who will address 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me analy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curren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quency of calls (accidents) by month for one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kdown of type of call by address (or bloc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Repeat Incident (RI)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Report Development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e types substantiv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ortant within the city or distri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types may stand alone (e.g., alarm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may be combined (e.g., domestics, juvenile trouble, disturbanc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 threshold for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period (no more than four week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calls per address (manageable level of R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ekly re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lling time period (e.g., one new week of dat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iminate common addresses (e.g., police department, hospital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justments after implem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45160" y="6399360"/>
            <a:ext cx="244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urtesy of Port St. Lucie, FL P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7680" y="987480"/>
            <a:ext cx="316368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Example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eat calls includ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rcot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ighbor trou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venile trou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11 hang u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mestic trou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gh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urb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ntally i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962520" y="270000"/>
            <a:ext cx="4975200" cy="6475320"/>
            <a:chOff x="3962520" y="270000"/>
            <a:chExt cx="4975200" cy="6475320"/>
          </a:xfrm>
        </p:grpSpPr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3962520" y="270000"/>
              <a:ext cx="4975200" cy="32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3962520" y="3527280"/>
              <a:ext cx="4975200" cy="3218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45160" y="6399360"/>
            <a:ext cx="244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urtesy of Port St. Lucie, FL P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7680" y="309600"/>
            <a:ext cx="338148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Example Re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629160" y="755640"/>
            <a:ext cx="5514840" cy="5643360"/>
            <a:chOff x="3629160" y="755640"/>
            <a:chExt cx="5514840" cy="5643360"/>
          </a:xfrm>
        </p:grpSpPr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3629160" y="755640"/>
              <a:ext cx="5514840" cy="380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3629160" y="4559400"/>
              <a:ext cx="5514840" cy="1839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Pattern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or more crimes or serious incidents that seem to be related by victim, offender, location, or prope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most concern are predatory cr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cur over days, weeks, or months, in rare cases, over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me report and MO data imper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522360"/>
            <a:ext cx="8001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Crime Analysis and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Problem-Oriented Policing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099880"/>
            <a:ext cx="839304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collection impor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personnel require different types of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model to think about problem solving, analysis, and accoun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Pattern Analysis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Development</a:t>
            </a: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stig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me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crim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quency of crimes by specific type per month for one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solicited analysis (Crime Analysts conduct without requests/on a regular bas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tern bulletin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Unsolicited Crime Patterns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ort St. Lucie, FL</a:t>
            </a:r>
            <a:endParaRPr b="0" lang="en-US" sz="2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glary, resi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glary, convey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glary, construction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nd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ft of specific types of proper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of field interview cards and suspicious inci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106200"/>
            <a:ext cx="80010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Pattern Bulletin Components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072800"/>
            <a:ext cx="8308800" cy="55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Activity and Geograph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nop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rrative summary of the patter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spect/Investigative Lead/Victim Summ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ble of relevant information about each c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oral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en relevant a visual summary of the days and/or times of the patter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tial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p of the incidents and any relevant information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more information see Boba (2005)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rime Analysis and Crime Mapp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Sage Publ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4920" y="129528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Example Bulleti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581280" y="0"/>
          <a:ext cx="53024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0"/>
                    <a:ext cx="53024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Problem Scanning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of counts every six mon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t two years of data (at lea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in the context of RI and pattern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long term problems if RI and pattern responses are not working over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1062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Robbery Example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07880" y="2198520"/>
          <a:ext cx="8431200" cy="4572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7880" y="2198520"/>
                    <a:ext cx="84312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 flipV="1">
            <a:off x="1320840" y="5210280"/>
            <a:ext cx="6894360" cy="87120"/>
          </a:xfrm>
          <a:prstGeom prst="line">
            <a:avLst/>
          </a:prstGeom>
          <a:ln cap="sq"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7880" y="941400"/>
            <a:ext cx="8431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ime is not dramatically increas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7880" y="1292400"/>
            <a:ext cx="843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wo patterns in August ‘05 and May ‘06 explain the peak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7880" y="1657440"/>
            <a:ext cx="84312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erall counts very l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67080" y="3527280"/>
            <a:ext cx="812880" cy="75420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04160" y="2925720"/>
            <a:ext cx="812520" cy="75420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55720" y="4013280"/>
            <a:ext cx="88920" cy="2111400"/>
          </a:xfrm>
          <a:custGeom>
            <a:avLst/>
            <a:gdLst>
              <a:gd name="textAreaLeft" fmla="*/ 56880 w 88920"/>
              <a:gd name="textAreaRight" fmla="*/ 89280 w 88920"/>
              <a:gd name="textAreaTop" fmla="*/ 54720 h 2111400"/>
              <a:gd name="textAreaBottom" fmla="*/ 2056680 h 211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533520" y="2322360"/>
          <a:ext cx="8319960" cy="4356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322360"/>
                    <a:ext cx="8319960" cy="43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160" y="1062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Residential Burglary Example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22360" y="3163680"/>
            <a:ext cx="6865920" cy="1160280"/>
          </a:xfrm>
          <a:prstGeom prst="line">
            <a:avLst/>
          </a:prstGeom>
          <a:ln cap="sq"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01880" y="941400"/>
            <a:ext cx="78372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though crime is going up and down month to month, the trend line indicates overall incre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01880" y="1552680"/>
            <a:ext cx="78372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nts high enough to be confident in overall incre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y select as problem to address beyond pattern analy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44640" y="2743200"/>
            <a:ext cx="88920" cy="1843200"/>
          </a:xfrm>
          <a:custGeom>
            <a:avLst/>
            <a:gdLst>
              <a:gd name="textAreaLeft" fmla="*/ 56880 w 88920"/>
              <a:gd name="textAreaRight" fmla="*/ 89280 w 88920"/>
              <a:gd name="textAreaTop" fmla="*/ 47880 h 1843200"/>
              <a:gd name="textAreaBottom" fmla="*/ 1795320 h 18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onclusion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421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analysis can be automated (e.g., repeat incident analys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er levels inform problem analys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 analysis difficult to routin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ress lower level activity immedia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 activity from increa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: unpredictable/random cr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18960" y="1074600"/>
            <a:ext cx="31212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act Information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. Rachel Bo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rboba@fau.ed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ok availabl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www.sagepub.com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4281480" y="380880"/>
            <a:ext cx="4267080" cy="6096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16160" y="341280"/>
            <a:ext cx="689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Problem-Oriented Levels of Acti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3600" y="987480"/>
            <a:ext cx="671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Tahoma"/>
              </a:rPr>
              <a:t>Immediate Analysis and Respo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8360" y="593712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Tahoma"/>
              </a:rPr>
              <a:t>Long Term Analysis and Respo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95520" y="2368440"/>
            <a:ext cx="6981840" cy="31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idents and Serious Inci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 Inci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t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1880" y="1704960"/>
            <a:ext cx="257040" cy="4044960"/>
          </a:xfrm>
          <a:prstGeom prst="downArrow">
            <a:avLst>
              <a:gd name="adj1" fmla="val 50000"/>
              <a:gd name="adj2" fmla="val 393417"/>
            </a:avLst>
          </a:prstGeom>
          <a:solidFill>
            <a:srgbClr val="99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Integrated Model Components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s” distinguish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gages all ran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untability reflects traditional model of polic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priate timing of accoun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Integrated Model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1176480" y="1417680"/>
            <a:ext cx="6878520" cy="4707000"/>
          </a:xfrm>
          <a:prstGeom prst="rect">
            <a:avLst/>
          </a:prstGeom>
          <a:gradFill rotWithShape="0">
            <a:gsLst>
              <a:gs pos="0">
                <a:srgbClr val="9ab2c1"/>
              </a:gs>
              <a:gs pos="50000">
                <a:srgbClr val="ccecff"/>
              </a:gs>
              <a:gs pos="100000">
                <a:srgbClr val="9ab2c1"/>
              </a:gs>
            </a:gsLst>
            <a:lin ang="5400000"/>
          </a:gra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874960" y="1886040"/>
            <a:ext cx="4141440" cy="3222360"/>
            <a:chOff x="2874960" y="1886040"/>
            <a:chExt cx="4141440" cy="3222360"/>
          </a:xfrm>
        </p:grpSpPr>
        <p:sp>
          <p:nvSpPr>
            <p:cNvPr id="96" name=""/>
            <p:cNvSpPr/>
            <p:nvPr/>
          </p:nvSpPr>
          <p:spPr>
            <a:xfrm>
              <a:off x="2874960" y="1886040"/>
              <a:ext cx="0" cy="322236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2874960" y="5108400"/>
              <a:ext cx="414144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506240" y="311616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an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89000" y="5548320"/>
            <a:ext cx="21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evel of Activ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99160" y="188604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hie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69560" y="474192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ffic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28240" y="52070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cid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76160" y="5207040"/>
            <a:ext cx="8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454560" y="2757600"/>
            <a:ext cx="3178080" cy="1984320"/>
          </a:xfrm>
          <a:prstGeom prst="line">
            <a:avLst/>
          </a:prstGeom>
          <a:ln cap="sq" w="507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31560" y="3589200"/>
            <a:ext cx="17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Problem Solv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36400" y="2421000"/>
            <a:ext cx="157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Accountab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454560" y="1941480"/>
            <a:ext cx="3178080" cy="1984320"/>
          </a:xfrm>
          <a:prstGeom prst="line">
            <a:avLst/>
          </a:prstGeom>
          <a:ln cap="sq" w="507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54560" y="3925800"/>
            <a:ext cx="0" cy="777960"/>
          </a:xfrm>
          <a:prstGeom prst="line">
            <a:avLst/>
          </a:prstGeom>
          <a:ln cap="sq" w="507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811400" y="3108240"/>
            <a:ext cx="4680" cy="809640"/>
          </a:xfrm>
          <a:prstGeom prst="line">
            <a:avLst/>
          </a:prstGeom>
          <a:ln cap="sq" w="507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5440" y="2220840"/>
            <a:ext cx="0" cy="817560"/>
          </a:xfrm>
          <a:prstGeom prst="line">
            <a:avLst/>
          </a:prstGeom>
          <a:ln cap="sq" w="507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3080" y="105840"/>
            <a:ext cx="847224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Integrated Model Components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3520" y="1523880"/>
          <a:ext cx="8281800" cy="3681360"/>
        </p:xfrm>
        <a:graphic>
          <a:graphicData uri="http://schemas.openxmlformats.org/drawingml/2006/table">
            <a:tbl>
              <a:tblPr/>
              <a:tblGrid>
                <a:gridCol w="1966680"/>
                <a:gridCol w="2057400"/>
                <a:gridCol w="1486080"/>
                <a:gridCol w="277164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of Activ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lem Solv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aly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ountabi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ts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ious Inci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ea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50000"/>
                      </a:srgbClr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ter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5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5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5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57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le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3080" y="105840"/>
            <a:ext cx="847224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Integrated Model Components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33520" y="1523880"/>
          <a:ext cx="8281800" cy="3681360"/>
        </p:xfrm>
        <a:graphic>
          <a:graphicData uri="http://schemas.openxmlformats.org/drawingml/2006/table">
            <a:tbl>
              <a:tblPr/>
              <a:tblGrid>
                <a:gridCol w="1966680"/>
                <a:gridCol w="2057400"/>
                <a:gridCol w="1486080"/>
                <a:gridCol w="277164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of Activ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lem Solv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aly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ountabi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ts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ious Inci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ficers and Detectiv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ficers and Detectiv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geants-Dai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ea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50000"/>
                      </a:srgbClr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ter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5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5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5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57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le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3080" y="105840"/>
            <a:ext cx="847224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Integrated Model Components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33520" y="1523880"/>
          <a:ext cx="8281800" cy="3681360"/>
        </p:xfrm>
        <a:graphic>
          <a:graphicData uri="http://schemas.openxmlformats.org/drawingml/2006/table">
            <a:tbl>
              <a:tblPr/>
              <a:tblGrid>
                <a:gridCol w="1966680"/>
                <a:gridCol w="2057400"/>
                <a:gridCol w="1486080"/>
                <a:gridCol w="277164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of Activ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lem Solv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aly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ountabi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ts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ious Inci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ficers and Detectiv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ficers and Detectiv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geants-Dai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ea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geants and/or Lieutena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mate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or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tains-Week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50000"/>
                      </a:srgbClr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ter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5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5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5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57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le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3080" y="105840"/>
            <a:ext cx="847224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Integrated Model Components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33520" y="1523880"/>
          <a:ext cx="8281800" cy="3681360"/>
        </p:xfrm>
        <a:graphic>
          <a:graphicData uri="http://schemas.openxmlformats.org/drawingml/2006/table">
            <a:tbl>
              <a:tblPr/>
              <a:tblGrid>
                <a:gridCol w="1966680"/>
                <a:gridCol w="2057400"/>
                <a:gridCol w="1486080"/>
                <a:gridCol w="277164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of Activ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lem Solv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aly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ountabi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ts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ious Inci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ficers and Detectiv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ficers and Detectiv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geants-Dai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ea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geants and/or Lieutena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mate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or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tains-Week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50000"/>
                      </a:srgbClr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ter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5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geants and/or Lieutena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5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m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alys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5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tains-Weekly/Month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57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le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41:42Z</dcterms:created>
  <dc:creator>Rachel Boba</dc:creator>
  <dc:description/>
  <dc:language>en-US</dc:language>
  <cp:lastModifiedBy>Rachel Boba</cp:lastModifiedBy>
  <dcterms:modified xsi:type="dcterms:W3CDTF">2006-09-23T13:54:37Z</dcterms:modified>
  <cp:revision>476</cp:revision>
  <dc:subject/>
  <dc:title>PowerPoint Presentation</dc:title>
</cp:coreProperties>
</file>